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Freeform 40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Freeform 41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11520" cy="33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634D9-9E0C-40F3-817F-135779C9B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84440-22E5-47B0-AF1F-5AC6589C91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002000-49EA-4763-85A6-D4625C8C45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AutoShape 2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FD640-0DDA-43B4-A125-11CCE53FF3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FEE1B-4478-4151-8777-5CB4DF77E0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BFB64-129F-4D13-B601-F310A10DC3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63B60-66DE-4A8B-B0E9-161363AA9F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19661-C0D4-4E21-9F50-E3F6472E12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E9BAD8-C46E-42FF-8E3A-2259B3F460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AEB4C-9083-4A9B-ADD7-E6E40DB092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158A3-FDBF-4A70-9196-2BDA4525C0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52" name="AutoShape 4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ACFAE-215D-448E-94E0-E03B487667A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B4C93-F126-4C55-B489-817D46A210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9D70-614A-474F-9118-FB2785164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8640" cy="33814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4E589-A90B-4A6D-B934-3CF93BFEC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90558-85B2-49A3-83ED-D4ABD42A15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76337-0674-4682-BC24-43F1C79D7C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11A21-7D20-4EB8-87B9-F8A380F2E2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DE253-E67F-465F-8943-2E37AC0850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2C0BD-8A1F-4162-B0EF-6F6859485A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5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71A9D-7328-4247-90DF-5724DF604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66BD3-9175-400D-B160-0DA5AC30BF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50920" y="685800"/>
            <a:ext cx="4505400" cy="3378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27720" cy="40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2360" y="685800"/>
            <a:ext cx="4492800" cy="3368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25920" cy="40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94D25-7E4A-4D79-BFAC-4D790D7DDF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9FFD8-B92E-466D-B10C-3FF127556B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BD0C-F5B4-4910-94C1-008788961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516A8-8970-427F-8201-4127C0353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59CC4-BBA1-4F83-B818-4E67FB4ED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CA37-FC32-4F42-9884-C78FFCD14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724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13960" y="114300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724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13960" y="3738240"/>
            <a:ext cx="277740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0152-47E8-4B64-9F5B-B3C718B3A3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D002-874F-4ACC-B862-74FC928591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E6ADC-77C3-4D1A-A8A3-C7F4037D6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-360"/>
            <a:ext cx="8626680" cy="50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312C-B76F-45AF-A9E5-F6AFCD830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EA91-E901-43B3-B564-C12211A18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0960" y="373824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1101-A204-4F2B-A9CA-B3D850209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0960" y="1143000"/>
            <a:ext cx="42094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38240"/>
            <a:ext cx="862668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0FA5-0841-45F8-8AE3-CCFE290286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58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7C02-DED1-41C2-BCEB-D984CC75D2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3000"/>
            <a:ext cx="8626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/>
          <p:cNvSpPr/>
          <p:nvPr/>
        </p:nvSpPr>
        <p:spPr>
          <a:xfrm>
            <a:off x="3780000" y="5157720"/>
            <a:ext cx="4464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Parameter Value Locking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1416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@ 5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Unlocking parameter (locked earlier)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5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is not locked!! Assign a new value '3' to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Unlock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Lock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ed with password (password not known to OWN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Set parameter value to '4'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cfgr.run_mutable_cfgr @ 7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Now, unlock with the correc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7 ns, [CFG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Directly lock the unlocked parameter with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Overwrite value of the (locked!) parameter to 4 without unlock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0 n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s of this example are to demonstrate  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king and unlocking parameter values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2" marL="636480" indent="-4348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orting the rejection of an attempt to modify a locked parameter’s valu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3" marL="863640" indent="-4320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ote: locking and unlocking is shown a context different than for structural parameters, already shown in Example 3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304920" y="-324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987560" y="1049400"/>
          <a:ext cx="4948200" cy="2566800"/>
        </p:xfrm>
        <a:graphic>
          <a:graphicData uri="http://schemas.openxmlformats.org/drawingml/2006/table">
            <a:tbl>
              <a:tblPr/>
              <a:tblGrid>
                <a:gridCol w="3124080"/>
                <a:gridCol w="1824120"/>
              </a:tblGrid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dicato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Tr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Returned Status Fal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3333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formation: Inf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Warn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Exception Thrown : Error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14436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132" name="AutoShape 47"/>
          <p:cNvSpPr/>
          <p:nvPr/>
        </p:nvSpPr>
        <p:spPr>
          <a:xfrm>
            <a:off x="770040" y="4114800"/>
            <a:ext cx="7543800" cy="18288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Kindly note that the above legend has not been used to demonstrate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API's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(used for querying a CCI parameter's locking status) status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Usage :  int_param_handle.locked()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locked()” API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a parameter is in locked state and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when in unlocked stat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Rectangle 28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304920" y="0"/>
            <a:ext cx="8832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"/>
          <p:cNvSpPr/>
          <p:nvPr/>
        </p:nvSpPr>
        <p:spPr>
          <a:xfrm>
            <a:off x="96840" y="4822920"/>
            <a:ext cx="2563920" cy="7398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</a:t>
            </a: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2311560" y="4572000"/>
            <a:ext cx="180324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286000" y="3459240"/>
            <a:ext cx="18288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2133720" y="1905120"/>
            <a:ext cx="1981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169920" y="5486400"/>
            <a:ext cx="5195880" cy="56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NOTE :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 mechanism to catch the err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264960" y="2263680"/>
            <a:ext cx="214344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Default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3048120" y="16002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9"/>
          <p:cNvSpPr/>
          <p:nvPr/>
        </p:nvSpPr>
        <p:spPr>
          <a:xfrm>
            <a:off x="5181480" y="2021040"/>
            <a:ext cx="3843360" cy="88884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Within Constructo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ssign the int_param_handle from brok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713268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1"/>
          <p:cNvSpPr/>
          <p:nvPr/>
        </p:nvSpPr>
        <p:spPr>
          <a:xfrm>
            <a:off x="92232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5638680" y="966960"/>
            <a:ext cx="34689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192240" y="3795840"/>
            <a:ext cx="2322360" cy="69984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AutoShape 14"/>
          <p:cNvSpPr/>
          <p:nvPr/>
        </p:nvSpPr>
        <p:spPr>
          <a:xfrm>
            <a:off x="3513240" y="2895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AutoShape 15"/>
          <p:cNvSpPr/>
          <p:nvPr/>
        </p:nvSpPr>
        <p:spPr>
          <a:xfrm>
            <a:off x="3494160" y="1398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AutoShape 16"/>
          <p:cNvSpPr/>
          <p:nvPr/>
        </p:nvSpPr>
        <p:spPr>
          <a:xfrm>
            <a:off x="264960" y="3112920"/>
            <a:ext cx="116712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AutoShape 17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1" name="AutoShape 18"/>
          <p:cNvCxnSpPr>
            <a:stCxn id="140" idx="3"/>
            <a:endCxn id="148" idx="1"/>
          </p:cNvCxnSpPr>
          <p:nvPr/>
        </p:nvCxnSpPr>
        <p:spPr>
          <a:xfrm flipV="1">
            <a:off x="2408400" y="1680480"/>
            <a:ext cx="1086480" cy="865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19"/>
          <p:cNvCxnSpPr>
            <a:stCxn id="146" idx="3"/>
            <a:endCxn id="147" idx="1"/>
          </p:cNvCxnSpPr>
          <p:nvPr/>
        </p:nvCxnSpPr>
        <p:spPr>
          <a:xfrm flipV="1">
            <a:off x="2514600" y="3177720"/>
            <a:ext cx="999000" cy="969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0"/>
          <p:cNvCxnSpPr>
            <a:stCxn id="135" idx="3"/>
            <a:endCxn id="150" idx="1"/>
          </p:cNvCxnSpPr>
          <p:nvPr/>
        </p:nvCxnSpPr>
        <p:spPr>
          <a:xfrm flipV="1">
            <a:off x="2660760" y="4320360"/>
            <a:ext cx="854640" cy="872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AutoShape 21"/>
          <p:cNvSpPr/>
          <p:nvPr/>
        </p:nvSpPr>
        <p:spPr>
          <a:xfrm>
            <a:off x="3514680" y="40384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3665520" y="3843360"/>
            <a:ext cx="227808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382920" y="1989000"/>
            <a:ext cx="228600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228600" y="3962520"/>
            <a:ext cx="3429000" cy="6109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5572080" y="914400"/>
            <a:ext cx="353556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23623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5607000" y="2033640"/>
            <a:ext cx="3429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2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AutoShape 10"/>
          <p:cNvSpPr/>
          <p:nvPr/>
        </p:nvSpPr>
        <p:spPr>
          <a:xfrm>
            <a:off x="7772400" y="159696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2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AutoShape 11"/>
          <p:cNvSpPr/>
          <p:nvPr/>
        </p:nvSpPr>
        <p:spPr>
          <a:xfrm>
            <a:off x="279252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AutoShape 12"/>
          <p:cNvSpPr/>
          <p:nvPr/>
        </p:nvSpPr>
        <p:spPr>
          <a:xfrm>
            <a:off x="2971800" y="30718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0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8" name="AutoShape 13"/>
          <p:cNvCxnSpPr>
            <a:stCxn id="163" idx="1"/>
            <a:endCxn id="166" idx="2"/>
          </p:cNvCxnSpPr>
          <p:nvPr/>
        </p:nvCxnSpPr>
        <p:spPr>
          <a:xfrm flipH="1" flipV="1">
            <a:off x="4168080" y="1934280"/>
            <a:ext cx="1438920" cy="670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AutoShape 14"/>
          <p:cNvSpPr/>
          <p:nvPr/>
        </p:nvSpPr>
        <p:spPr>
          <a:xfrm>
            <a:off x="819000" y="2286000"/>
            <a:ext cx="3294360" cy="5716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 has to be unlocked by the OWNER (the module that locked it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" name="AutoShape 15"/>
          <p:cNvCxnSpPr>
            <a:stCxn id="159" idx="3"/>
            <a:endCxn id="167" idx="2"/>
          </p:cNvCxnSpPr>
          <p:nvPr/>
        </p:nvCxnSpPr>
        <p:spPr>
          <a:xfrm flipV="1">
            <a:off x="3657240" y="3634920"/>
            <a:ext cx="693000" cy="634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AutoShape 16"/>
          <p:cNvSpPr/>
          <p:nvPr/>
        </p:nvSpPr>
        <p:spPr>
          <a:xfrm>
            <a:off x="320760" y="3254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5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3801960" y="5321160"/>
            <a:ext cx="228600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18"/>
          <p:cNvSpPr/>
          <p:nvPr/>
        </p:nvSpPr>
        <p:spPr>
          <a:xfrm>
            <a:off x="6172200" y="5205240"/>
            <a:ext cx="2708280" cy="8319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Set parameter value to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et_cci_value(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cci::cci_value(3)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19"/>
          <p:cNvSpPr/>
          <p:nvPr/>
        </p:nvSpPr>
        <p:spPr>
          <a:xfrm>
            <a:off x="2860560" y="4711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5" name="AutoShape 20"/>
          <p:cNvCxnSpPr>
            <a:stCxn id="173" idx="1"/>
            <a:endCxn id="174" idx="2"/>
          </p:cNvCxnSpPr>
          <p:nvPr/>
        </p:nvCxnSpPr>
        <p:spPr>
          <a:xfrm flipH="1" flipV="1">
            <a:off x="4236480" y="5273280"/>
            <a:ext cx="1934280" cy="348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6" name="AutoShape 21"/>
          <p:cNvSpPr/>
          <p:nvPr/>
        </p:nvSpPr>
        <p:spPr>
          <a:xfrm>
            <a:off x="7520040" y="4586400"/>
            <a:ext cx="1185840" cy="46836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7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"/>
          <p:cNvSpPr/>
          <p:nvPr/>
        </p:nvSpPr>
        <p:spPr>
          <a:xfrm>
            <a:off x="3200400" y="202104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Line 5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5715000" y="1992240"/>
            <a:ext cx="3321000" cy="7765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out password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Line 7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2514600" y="13716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6" name="AutoShape 9"/>
          <p:cNvCxnSpPr>
            <a:stCxn id="183" idx="1"/>
            <a:endCxn id="185" idx="2"/>
          </p:cNvCxnSpPr>
          <p:nvPr/>
        </p:nvCxnSpPr>
        <p:spPr>
          <a:xfrm flipH="1" flipV="1">
            <a:off x="3890160" y="1934280"/>
            <a:ext cx="1823400" cy="44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7" name="Rectangle 10"/>
          <p:cNvSpPr/>
          <p:nvPr/>
        </p:nvSpPr>
        <p:spPr>
          <a:xfrm>
            <a:off x="2948040" y="3354480"/>
            <a:ext cx="24462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5486400" y="3402000"/>
            <a:ext cx="3549600" cy="6858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ou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2"/>
          <p:cNvSpPr/>
          <p:nvPr/>
        </p:nvSpPr>
        <p:spPr>
          <a:xfrm>
            <a:off x="2503440" y="263700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" name="AutoShape 13"/>
          <p:cNvCxnSpPr>
            <a:stCxn id="188" idx="1"/>
            <a:endCxn id="189" idx="2"/>
          </p:cNvCxnSpPr>
          <p:nvPr/>
        </p:nvCxnSpPr>
        <p:spPr>
          <a:xfrm flipH="1" flipV="1">
            <a:off x="3879000" y="3199680"/>
            <a:ext cx="16074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Rectangle 14"/>
          <p:cNvSpPr/>
          <p:nvPr/>
        </p:nvSpPr>
        <p:spPr>
          <a:xfrm>
            <a:off x="2792520" y="475776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5646600" y="4878360"/>
            <a:ext cx="338940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psswd = NULL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6"/>
          <p:cNvSpPr/>
          <p:nvPr/>
        </p:nvSpPr>
        <p:spPr>
          <a:xfrm>
            <a:off x="2327400" y="395604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AutoShape 17"/>
          <p:cNvSpPr/>
          <p:nvPr/>
        </p:nvSpPr>
        <p:spPr>
          <a:xfrm>
            <a:off x="1922400" y="5197320"/>
            <a:ext cx="3114720" cy="50508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now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5" name="AutoShape 18"/>
          <p:cNvCxnSpPr>
            <a:stCxn id="192" idx="1"/>
            <a:endCxn id="193" idx="2"/>
          </p:cNvCxnSpPr>
          <p:nvPr/>
        </p:nvCxnSpPr>
        <p:spPr>
          <a:xfrm flipH="1" flipV="1">
            <a:off x="3704400" y="4518720"/>
            <a:ext cx="1942200" cy="81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5678640" y="914400"/>
            <a:ext cx="3429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Line 4"/>
          <p:cNvSpPr/>
          <p:nvPr/>
        </p:nvSpPr>
        <p:spPr>
          <a:xfrm>
            <a:off x="19051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Line 5"/>
          <p:cNvSpPr/>
          <p:nvPr/>
        </p:nvSpPr>
        <p:spPr>
          <a:xfrm>
            <a:off x="6340320" y="1515960"/>
            <a:ext cx="18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811600" y="216072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3419640" y="3200400"/>
            <a:ext cx="5630760" cy="295200"/>
          </a:xfrm>
          <a:prstGeom prst="roundRect">
            <a:avLst>
              <a:gd name="adj" fmla="val 16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Error: /Accellera/CCI/SET_PARAM_FAILED: Parameter locked.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327400" y="140976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5715000" y="1854360"/>
            <a:ext cx="3321000" cy="1143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Check if locked and if unlocked, only then assign value to '4'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Result = Locked! Hence,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Value can't be assigne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" name="AutoShape 10"/>
          <p:cNvCxnSpPr>
            <a:stCxn id="205" idx="1"/>
            <a:endCxn id="204" idx="2"/>
          </p:cNvCxnSpPr>
          <p:nvPr/>
        </p:nvCxnSpPr>
        <p:spPr>
          <a:xfrm flipH="1" flipV="1">
            <a:off x="3702960" y="1974600"/>
            <a:ext cx="2012040" cy="45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7" name="AutoShape 11"/>
          <p:cNvSpPr/>
          <p:nvPr/>
        </p:nvSpPr>
        <p:spPr>
          <a:xfrm>
            <a:off x="808200" y="2460600"/>
            <a:ext cx="3114360" cy="50472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 can’t be updated without the password 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”&amp;psswd”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2865600" y="4721400"/>
            <a:ext cx="2286000" cy="35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_handle.is_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AutoShape 14"/>
          <p:cNvSpPr/>
          <p:nvPr/>
        </p:nvSpPr>
        <p:spPr>
          <a:xfrm>
            <a:off x="5257800" y="4805280"/>
            <a:ext cx="3708360" cy="909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Unlock parameter with correct password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_handle.unlock(&amp;psswd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AutoShape 15"/>
          <p:cNvSpPr/>
          <p:nvPr/>
        </p:nvSpPr>
        <p:spPr>
          <a:xfrm>
            <a:off x="2255760" y="3919680"/>
            <a:ext cx="2754360" cy="56340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0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11" name="AutoShape 16"/>
          <p:cNvCxnSpPr>
            <a:stCxn id="209" idx="1"/>
            <a:endCxn id="210" idx="2"/>
          </p:cNvCxnSpPr>
          <p:nvPr/>
        </p:nvCxnSpPr>
        <p:spPr>
          <a:xfrm flipH="1" flipV="1">
            <a:off x="3633120" y="4482720"/>
            <a:ext cx="1624680" cy="77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Rectangle 1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2"/>
          <p:cNvSpPr/>
          <p:nvPr/>
        </p:nvSpPr>
        <p:spPr>
          <a:xfrm>
            <a:off x="345960" y="966960"/>
            <a:ext cx="262584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Onw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AutoShape 3"/>
          <p:cNvSpPr/>
          <p:nvPr/>
        </p:nvSpPr>
        <p:spPr>
          <a:xfrm>
            <a:off x="5562720" y="914400"/>
            <a:ext cx="34686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itstream Charter"/>
              </a:rPr>
              <a:t>Parameter_Configurato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Line 4"/>
          <p:cNvSpPr/>
          <p:nvPr/>
        </p:nvSpPr>
        <p:spPr>
          <a:xfrm>
            <a:off x="6780240" y="151596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Line 5"/>
          <p:cNvSpPr/>
          <p:nvPr/>
        </p:nvSpPr>
        <p:spPr>
          <a:xfrm>
            <a:off x="2590920" y="1479600"/>
            <a:ext cx="144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925800" y="4246560"/>
            <a:ext cx="195588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3990960" y="2462040"/>
            <a:ext cx="2000160" cy="35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int_param.locked(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AutoShape 8"/>
          <p:cNvSpPr/>
          <p:nvPr/>
        </p:nvSpPr>
        <p:spPr>
          <a:xfrm>
            <a:off x="363600" y="1687680"/>
            <a:ext cx="1187280" cy="468000"/>
          </a:xfrm>
          <a:prstGeom prst="roundRect">
            <a:avLst>
              <a:gd name="adj" fmla="val 1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Bitstream Charter"/>
              </a:rPr>
              <a:t>@ 10 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AutoShape 9"/>
          <p:cNvSpPr/>
          <p:nvPr/>
        </p:nvSpPr>
        <p:spPr>
          <a:xfrm>
            <a:off x="263520" y="2479680"/>
            <a:ext cx="3200400" cy="93672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Lock parameter with password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void* key = NULL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lock(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2" name="AutoShape 10"/>
          <p:cNvSpPr/>
          <p:nvPr/>
        </p:nvSpPr>
        <p:spPr>
          <a:xfrm>
            <a:off x="3767040" y="165096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AutoShape 11"/>
          <p:cNvSpPr/>
          <p:nvPr/>
        </p:nvSpPr>
        <p:spPr>
          <a:xfrm>
            <a:off x="299880" y="4187880"/>
            <a:ext cx="3056040" cy="914400"/>
          </a:xfrm>
          <a:prstGeom prst="roundRect">
            <a:avLst>
              <a:gd name="adj" fmla="val 1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Override parameter value to 4 without unlock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int_param.set(4, &amp;key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838680" y="3487680"/>
            <a:ext cx="2754360" cy="563760"/>
          </a:xfrm>
          <a:prstGeom prst="roundRect">
            <a:avLst>
              <a:gd name="adj" fmla="val 28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Locking Status: 1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Parameter Value : 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25" name="AutoShape 13"/>
          <p:cNvCxnSpPr>
            <a:stCxn id="221" idx="3"/>
            <a:endCxn id="222" idx="2"/>
          </p:cNvCxnSpPr>
          <p:nvPr/>
        </p:nvCxnSpPr>
        <p:spPr>
          <a:xfrm flipV="1">
            <a:off x="3463920" y="2214000"/>
            <a:ext cx="1680480" cy="734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AutoShape 14"/>
          <p:cNvCxnSpPr>
            <a:stCxn id="223" idx="3"/>
            <a:endCxn id="224" idx="2"/>
          </p:cNvCxnSpPr>
          <p:nvPr/>
        </p:nvCxnSpPr>
        <p:spPr>
          <a:xfrm flipV="1">
            <a:off x="3355920" y="4050720"/>
            <a:ext cx="1859760" cy="594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Rectangle 1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Title 1"/>
          <p:cNvSpPr/>
          <p:nvPr/>
        </p:nvSpPr>
        <p:spPr>
          <a:xfrm>
            <a:off x="254160" y="0"/>
            <a:ext cx="8883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Parameter Value Locking Sequence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2668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(ex13_Parameter_Locking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514520"/>
            <a:ext cx="86868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C_TOR] : Parameter locking status : 0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Locking the parameter without passwor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Try to set parameter value to 1 from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_owner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iled to set parameter value to 1 from 0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Caught Exception : Error: /Accellera/CCI/SET_PARAM_FAILED: Parameter locked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urier New"/>
              </a:rPr>
              <a:t>In process: param_owner.run_owner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eter locking status : 1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 Cannot assign new value to the parameter as it is already locked!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43:06Z</dcterms:modified>
  <cp:revision>26</cp:revision>
  <dc:subject/>
  <dc:title>ex13_Parameter_Value_Lock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43:05Z</vt:lpwstr>
  </property>
  <property fmtid="{D5CDD505-2E9C-101B-9397-08002B2CF9AE}" pid="5" name="TitusGUID">
    <vt:lpwstr>f341ef4f-c913-43a5-ba57-f9d7ac14d2c0</vt:lpwstr>
  </property>
</Properties>
</file>