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527D-83E3-4B1E-8482-F1C1CA647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28C7-5A47-4561-837D-D5592DBA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17D2-EDAB-4043-8B67-A2B36A63D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4B58-2310-429D-95D2-62D0F21BA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DF1F-940C-4C65-8348-B5FC0265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B23D-46E5-41CA-B44D-D78879915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950D8-B61F-479C-8EB7-B8195BE60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73D81-78FA-426E-B93C-41221436D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E0E63-52EC-4E40-83AF-A68CB8192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71610-B763-4EFD-B118-B9CD5F48BB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DC1D1-91F8-40FD-9EC9-4BF96B4FC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87415-66A2-45A8-8768-CB949FC79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237BE-246F-4FC4-A20B-51EB832891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3E9F-833F-4F50-96F1-5911D2BAF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38E45-2A79-4204-B096-9EAE62E63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FC30-A559-4BAF-9DB4-862C1247E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36679-41C2-4913-93CD-9F1431C31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D38-4DF8-4163-B2E2-4D8A7A8F5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imple Mutable Integer Parameter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. Swaminat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asic usage of a Mutable Integer Parameter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he parameter’s default value following co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o preset value is supplied in this exampl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(directly) from within the owning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parameter’s value from a different module, referred to as “EXTERNA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>
              <a:spcBef>
                <a:spcPts val="499"/>
              </a:spcBef>
              <a:buClr>
                <a:srgbClr val="000099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requires obtaining a parameter handle from the brok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Sequence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2141640" y="1238400"/>
            <a:ext cx="1989000" cy="420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sim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simple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456160" y="1238400"/>
            <a:ext cx="1989360" cy="4284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fg_ip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config_i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94" name="Straight Arrow Connector 16"/>
          <p:cNvCxnSpPr>
            <a:stCxn id="92" idx="2"/>
          </p:cNvCxnSpPr>
          <p:nvPr/>
        </p:nvCxnSpPr>
        <p:spPr>
          <a:xfrm flipH="1">
            <a:off x="3129840" y="1658520"/>
            <a:ext cx="5400" cy="417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5" name="Straight Arrow Connector 17"/>
          <p:cNvCxnSpPr>
            <a:stCxn id="93" idx="2"/>
          </p:cNvCxnSpPr>
          <p:nvPr/>
        </p:nvCxnSpPr>
        <p:spPr>
          <a:xfrm flipH="1">
            <a:off x="6431760" y="1666800"/>
            <a:ext cx="19800" cy="426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6" name="Folded Corner 26"/>
          <p:cNvSpPr/>
          <p:nvPr/>
        </p:nvSpPr>
        <p:spPr>
          <a:xfrm>
            <a:off x="1409760" y="213048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TextBox 27"/>
          <p:cNvSpPr/>
          <p:nvPr/>
        </p:nvSpPr>
        <p:spPr>
          <a:xfrm>
            <a:off x="673200" y="1724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TextBox 28"/>
          <p:cNvSpPr/>
          <p:nvPr/>
        </p:nvSpPr>
        <p:spPr>
          <a:xfrm>
            <a:off x="608760" y="288432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1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" name="Group 35"/>
          <p:cNvGrpSpPr/>
          <p:nvPr/>
        </p:nvGrpSpPr>
        <p:grpSpPr>
          <a:xfrm>
            <a:off x="3107880" y="3011400"/>
            <a:ext cx="1518120" cy="483840"/>
            <a:chOff x="3107880" y="3011400"/>
            <a:chExt cx="1518120" cy="483840"/>
          </a:xfrm>
        </p:grpSpPr>
        <p:sp>
          <p:nvSpPr>
            <p:cNvPr id="100" name="Rectangle 32"/>
            <p:cNvSpPr/>
            <p:nvPr/>
          </p:nvSpPr>
          <p:spPr>
            <a:xfrm>
              <a:off x="3129480" y="3011400"/>
              <a:ext cx="1496520" cy="473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1" name="Straight Arrow Connector 34"/>
            <p:cNvCxnSpPr/>
            <p:nvPr/>
          </p:nvCxnSpPr>
          <p:spPr>
            <a:xfrm flipH="1" flipV="1">
              <a:off x="3107880" y="3484440"/>
              <a:ext cx="1518480" cy="1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102" name="Folded Corner 36"/>
          <p:cNvSpPr/>
          <p:nvPr/>
        </p:nvSpPr>
        <p:spPr>
          <a:xfrm>
            <a:off x="1465200" y="3336840"/>
            <a:ext cx="1495440" cy="344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TextBox 37"/>
          <p:cNvSpPr/>
          <p:nvPr/>
        </p:nvSpPr>
        <p:spPr>
          <a:xfrm>
            <a:off x="674640" y="437976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@t = 20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04" name="Straight Arrow Connector 39"/>
          <p:cNvCxnSpPr/>
          <p:nvPr/>
        </p:nvCxnSpPr>
        <p:spPr>
          <a:xfrm flipH="1" flipV="1">
            <a:off x="3129840" y="4656960"/>
            <a:ext cx="331380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Dot"/>
            <a:miter/>
            <a:tailEnd len="med" type="arrow" w="med"/>
          </a:ln>
        </p:spPr>
      </p:cxnSp>
      <p:sp>
        <p:nvSpPr>
          <p:cNvPr id="105" name="Folded Corner 40"/>
          <p:cNvSpPr/>
          <p:nvPr/>
        </p:nvSpPr>
        <p:spPr>
          <a:xfrm>
            <a:off x="1477800" y="4802040"/>
            <a:ext cx="1495440" cy="343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int_param=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Folded Corner 41"/>
          <p:cNvSpPr/>
          <p:nvPr/>
        </p:nvSpPr>
        <p:spPr>
          <a:xfrm>
            <a:off x="3208320" y="1776240"/>
            <a:ext cx="2019240" cy="28908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ci_param&lt;int&gt; int_param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Folded Corner 42"/>
          <p:cNvSpPr/>
          <p:nvPr/>
        </p:nvSpPr>
        <p:spPr>
          <a:xfrm>
            <a:off x="3219480" y="2689200"/>
            <a:ext cx="1181160" cy="29052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_param = 1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Folded Corner 43"/>
          <p:cNvSpPr/>
          <p:nvPr/>
        </p:nvSpPr>
        <p:spPr>
          <a:xfrm>
            <a:off x="4068720" y="4307040"/>
            <a:ext cx="3745080" cy="322200"/>
          </a:xfrm>
          <a:prstGeom prst="foldedCorner">
            <a:avLst>
              <a:gd name="adj" fmla="val 16666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_param_hand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set_cci_value (cci::cci_value(2))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Rounded Rectangular Callout 44"/>
          <p:cNvSpPr/>
          <p:nvPr/>
        </p:nvSpPr>
        <p:spPr>
          <a:xfrm>
            <a:off x="785880" y="5540400"/>
            <a:ext cx="2173320" cy="558720"/>
          </a:xfrm>
          <a:prstGeom prst="wedgeRoundRectCallout">
            <a:avLst>
              <a:gd name="adj1" fmla="val 56509"/>
              <a:gd name="adj2" fmla="val -10833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int_param ‘Owner’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ounded Rectangular Callout 45"/>
          <p:cNvSpPr/>
          <p:nvPr/>
        </p:nvSpPr>
        <p:spPr>
          <a:xfrm>
            <a:off x="4068720" y="5475240"/>
            <a:ext cx="2216160" cy="593640"/>
          </a:xfrm>
          <a:prstGeom prst="wedgeRoundRectCallout">
            <a:avLst>
              <a:gd name="adj1" fmla="val 56990"/>
              <a:gd name="adj2" fmla="val -82953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EXTERNAL module updating int_para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ex01_Simple_Int_Param.log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514520"/>
            <a:ext cx="8686800" cy="27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SystemC Simul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0 s, Ctor: Default value of sim_ip.int_param is 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Begin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Set value of int_param to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@10 ns, execute: Current value of int_param is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Set value of sim_ip.int_param to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cfg_ip: @20 ns, execute: [EXTERNAL]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c_main: End Simul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nsolas"/>
                <a:ea typeface="Courier New"/>
              </a:rPr>
              <a:t>Info: sim_ip: Dtor: Current value of sim_ip.int_param is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477800" y="1371600"/>
            <a:ext cx="1843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0-04T18:08:29Z</dcterms:modified>
  <cp:revision>141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6-12-20 16:32:25Z</vt:lpwstr>
  </property>
  <property fmtid="{D5CDD505-2E9C-101B-9397-08002B2CF9AE}" pid="5" name="TitusGUID">
    <vt:lpwstr>e3de821b-1c25-48f5-972a-c3014a611f88</vt:lpwstr>
  </property>
</Properties>
</file>