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498920" cy="33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3"/>
          </p:nvPr>
        </p:nvSpPr>
        <p:spPr>
          <a:xfrm>
            <a:off x="3884760" y="8685000"/>
            <a:ext cx="2898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A87A8E-AEDA-484D-8DF1-8315DBA7A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AC608-512D-4650-97E5-90B003258F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42776-13D8-4CE0-9EA1-9AD6E31AF5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F4EE7-29A5-4300-AC2E-02D3BC20C6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8E634-FA9E-44D5-BEA5-E155EEA54F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B4804-8C5D-4690-9755-8844E202118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EB5B9-4228-4B65-8558-D0C553ADED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63DC7-ED1E-4684-828C-CA80DECDD7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DA4C1-4260-436D-AF81-B71A13FA42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FC703-C95E-41BC-B448-9907EF591B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4DEF1-1FB0-4440-8F7D-FCB306E08C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A0AD4-B026-41EF-A176-8A4F61CC84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F0542-8F8C-4AE1-AA2B-9424EE0066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B56B4-388F-4934-A358-E78B01A3FA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EE215-8DF4-4295-9859-D8B5A344CE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E6393-1470-47F3-95C9-F392039A94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65619-F185-4FA2-815D-1FA769B50B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19A0C-0651-4A20-81F5-DA5A16FA9A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1512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5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F5F9B0-6A57-4773-BEE1-E1E68D6557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Text Box 2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14063-D6F5-4F26-858B-8292B6208E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A34A0-9C4C-4351-9706-C245FC42FD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73720" cy="33559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13320" cy="404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8987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03340-420F-4DC5-BE4A-D2D24BE542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1551-2F7F-4D3F-BBCB-C6C6CE0030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59E3-7256-43E7-AE9D-11B670C75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2F56-3769-427E-A577-2DF12F8DB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F12FF-EB73-426E-9314-65F347992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6F416-B42B-4F8B-BC23-59EC7CE14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ECF67-6352-4944-B6FC-A3B03FEBAA6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1D689-B49A-4DB4-9B61-D2A8ADD7C4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41AEE-E521-4C5B-90EE-73C67B2FDA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339A-A3ED-4C5E-870D-4B9273B1A3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ED1EF-6D53-4B77-8EB5-7E794E08E6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5D334-2BF4-46A7-AF21-5386CA2538D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8B5F7-4ABC-4C36-90BE-5AD449255F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2999-1482-4DEA-BF8C-7125B0FFFA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D750E-ED34-44B9-B1B7-D8381A73615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5A7C-C735-4D69-9B22-68E8685027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4FB3-9CA9-4BC4-9C18-9368831F07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ED884-98B7-447B-A67F-2657D867D9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292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5680" y="114264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292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5680" y="3731400"/>
            <a:ext cx="277344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5BAE-0005-490D-9636-8E7B1A731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D0D45-CD46-42E8-9589-AAF884CB6F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91E00-F989-4235-AEDA-D74E98508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13720" cy="49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AA35-0078-471E-8B69-FED766A54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0689-067E-4D32-91CA-2ED927BB9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4480" y="373140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53C6A-360A-418E-A10D-A485A2C2B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4480" y="1142640"/>
            <a:ext cx="420336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1400"/>
            <a:ext cx="861372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1B34B-572C-4B1A-9633-D3785FF9C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8120"/>
            <a:ext cx="11462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28DEA-1EB2-4089-9B13-30B741BA28B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3720" cy="49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228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122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240" y="6287760"/>
            <a:ext cx="11444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41477D21-9E6A-4F5B-A8D4-C017C903374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ying Parameter Value via a Configuration File</a:t>
            </a: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1"/>
          <p:cNvSpPr/>
          <p:nvPr/>
        </p:nvSpPr>
        <p:spPr>
          <a:xfrm>
            <a:off x="554040" y="144360"/>
            <a:ext cx="807228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pecifying Parameter Values via a Configuration 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Understand the precedence between the default, preset and 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0840" indent="-21132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12800"/>
                <a:tab algn="l" pos="1436760"/>
                <a:tab algn="l" pos="2160720"/>
                <a:tab algn="l" pos="2884320"/>
                <a:tab algn="l" pos="3608280"/>
                <a:tab algn="l" pos="4343400"/>
                <a:tab algn="l" pos="5056200"/>
                <a:tab algn="l" pos="5780160"/>
                <a:tab algn="l" pos="6504120"/>
                <a:tab algn="l" pos="7227720"/>
                <a:tab algn="l" pos="795168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itstream Charter"/>
              </a:rPr>
              <a:t>Processing configuration file to establish preset valu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372960" y="2743200"/>
            <a:ext cx="4503960" cy="11430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“cci_configFile_Tool.h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clude the configuration file as shown below :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Unicode MS"/>
              </a:rPr>
              <a:t>cci_configFile_Tool configTool("configFileTool"); configTool.config("Configuration_File.txt");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5105520" y="1676520"/>
            <a:ext cx="3657600" cy="1828800"/>
            <a:chOff x="5105520" y="1676520"/>
            <a:chExt cx="3657600" cy="1828800"/>
          </a:xfrm>
        </p:grpSpPr>
        <p:sp>
          <p:nvSpPr>
            <p:cNvPr id="182" name="AutoShape 2"/>
            <p:cNvSpPr/>
            <p:nvPr/>
          </p:nvSpPr>
          <p:spPr>
            <a:xfrm>
              <a:off x="5715000" y="304812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AutoShape 5"/>
            <p:cNvSpPr/>
            <p:nvPr/>
          </p:nvSpPr>
          <p:spPr>
            <a:xfrm>
              <a:off x="5105520" y="167652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4" name="AutoShape 9"/>
          <p:cNvSpPr/>
          <p:nvPr/>
        </p:nvSpPr>
        <p:spPr>
          <a:xfrm>
            <a:off x="533520" y="2133720"/>
            <a:ext cx="2361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Within sc_mai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685800" y="914400"/>
            <a:ext cx="792468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an instance of the class that reads the configuration file within the sc_main function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reads name-value pairs from the configuration file and assigns to the respective parameters accordingly.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3"/>
          <p:cNvSpPr/>
          <p:nvPr/>
        </p:nvSpPr>
        <p:spPr>
          <a:xfrm>
            <a:off x="228600" y="914400"/>
            <a:ext cx="3809880" cy="685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22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2200" spc="-1" strike="noStrike">
                <a:solidFill>
                  <a:srgbClr val="000000"/>
                </a:solidFill>
                <a:latin typeface="Bitstream Charter"/>
              </a:rPr>
              <a:t> Implementatio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9" name="Group 5"/>
          <p:cNvGrpSpPr/>
          <p:nvPr/>
        </p:nvGrpSpPr>
        <p:grpSpPr>
          <a:xfrm>
            <a:off x="5486400" y="685800"/>
            <a:ext cx="3657600" cy="1828800"/>
            <a:chOff x="5486400" y="685800"/>
            <a:chExt cx="3657600" cy="1828800"/>
          </a:xfrm>
        </p:grpSpPr>
        <p:sp>
          <p:nvSpPr>
            <p:cNvPr id="190" name="AutoShape 6"/>
            <p:cNvSpPr/>
            <p:nvPr/>
          </p:nvSpPr>
          <p:spPr>
            <a:xfrm>
              <a:off x="6095880" y="2057400"/>
              <a:ext cx="264492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Configuration File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5486400" y="685800"/>
              <a:ext cx="3657600" cy="1371600"/>
            </a:xfrm>
            <a:prstGeom prst="flowChartDocumen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Reads the file that stores the preset values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Ex:  param_owner.mutable_int_param 10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nwer.mutable_string_param preset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Bitstream Charter"/>
                </a:rPr>
                <a:t>param_owner.mutable_int_param 15</a:t>
              </a:r>
              <a:endParaRPr b="0" lang="en-US" sz="13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2" name="AutoShape 8"/>
          <p:cNvSpPr/>
          <p:nvPr/>
        </p:nvSpPr>
        <p:spPr>
          <a:xfrm>
            <a:off x="304920" y="1752480"/>
            <a:ext cx="434340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las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ci_configFile_Tool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is a simple C++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0"/>
          <p:cNvSpPr/>
          <p:nvPr/>
        </p:nvSpPr>
        <p:spPr>
          <a:xfrm>
            <a:off x="304920" y="2666880"/>
            <a:ext cx="78483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6000"/>
          </a:bodyPr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Get handle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global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(cci::get_global_broker(mToolOriginator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1"/>
          <p:cNvSpPr/>
          <p:nvPr/>
        </p:nvSpPr>
        <p:spPr>
          <a:xfrm>
            <a:off x="76320" y="3276720"/>
            <a:ext cx="8305560" cy="1600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API,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line void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 (const char* filename)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function reads the fi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onfiguration_File.tx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line by line using an iterator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t assigns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rest value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to the cci-parameters read from the file using the broke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_broker.set_prest_value(it-&gt;first.c_str(), cci::cci_value::from_json(it-&gt;second.c_str()));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Line 12"/>
          <p:cNvSpPr/>
          <p:nvPr/>
        </p:nvSpPr>
        <p:spPr>
          <a:xfrm flipH="1">
            <a:off x="2895480" y="464832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114800" y="4648320"/>
            <a:ext cx="8380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914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nam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4343400" y="5105520"/>
            <a:ext cx="30481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 marL="308520" indent="-308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ssed from the configuration file containing parameter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304920" y="2209680"/>
            <a:ext cx="5105160" cy="3049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 a cci::cci_originator instanc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mToolOrigina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4"/>
          <p:cNvGrpSpPr/>
          <p:nvPr/>
        </p:nvGrpSpPr>
        <p:grpSpPr>
          <a:xfrm>
            <a:off x="4724280" y="685800"/>
            <a:ext cx="3535560" cy="5475240"/>
            <a:chOff x="4724280" y="685800"/>
            <a:chExt cx="3535560" cy="5475240"/>
          </a:xfrm>
        </p:grpSpPr>
        <p:sp>
          <p:nvSpPr>
            <p:cNvPr id="203" name="AutoShape 3"/>
            <p:cNvSpPr/>
            <p:nvPr/>
          </p:nvSpPr>
          <p:spPr>
            <a:xfrm>
              <a:off x="4724280" y="685800"/>
              <a:ext cx="3535560" cy="45720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6469200" y="1131840"/>
              <a:ext cx="9360" cy="502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5" name="AutoShape 5"/>
          <p:cNvSpPr/>
          <p:nvPr/>
        </p:nvSpPr>
        <p:spPr>
          <a:xfrm>
            <a:off x="312840" y="1370160"/>
            <a:ext cx="445140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() :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() : pre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6"/>
          <p:cNvSpPr/>
          <p:nvPr/>
        </p:nvSpPr>
        <p:spPr>
          <a:xfrm>
            <a:off x="3276720" y="2173320"/>
            <a:ext cx="5486400" cy="19000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Get references of the integer, float and string cci-parameters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in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in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float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float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str_param_ptr = 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m_broker.get_param(“param_owner.mutable_string_param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AutoShape 7"/>
          <p:cNvSpPr/>
          <p:nvPr/>
        </p:nvSpPr>
        <p:spPr>
          <a:xfrm>
            <a:off x="3048120" y="4484520"/>
            <a:ext cx="5943600" cy="696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new values to ‘integer’ and ‘string’ typ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set_cci_value(cci_value(“20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set_cci_value(cci_value::from_json(“configure”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7454880" y="4073400"/>
            <a:ext cx="1155600" cy="4222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9"/>
          <p:cNvSpPr/>
          <p:nvPr/>
        </p:nvSpPr>
        <p:spPr>
          <a:xfrm>
            <a:off x="314280" y="5256360"/>
            <a:ext cx="5248440" cy="7635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teger Parameter Value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int_param.get_value() : 2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Float Parameter Value   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float_param.get_value() : 123.45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ring Parameter Value  : 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str_param.get_value() : configur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0"/>
          <p:cNvSpPr/>
          <p:nvPr/>
        </p:nvSpPr>
        <p:spPr>
          <a:xfrm>
            <a:off x="488880" y="4835520"/>
            <a:ext cx="1155600" cy="34596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1108080" y="679320"/>
            <a:ext cx="2625840" cy="5492520"/>
            <a:chOff x="1108080" y="679320"/>
            <a:chExt cx="2625840" cy="5492520"/>
          </a:xfrm>
        </p:grpSpPr>
        <p:sp>
          <p:nvSpPr>
            <p:cNvPr id="212" name="AutoShape 2"/>
            <p:cNvSpPr/>
            <p:nvPr/>
          </p:nvSpPr>
          <p:spPr>
            <a:xfrm>
              <a:off x="1108080" y="679320"/>
              <a:ext cx="2625840" cy="479160"/>
            </a:xfrm>
            <a:prstGeom prst="roundRect">
              <a:avLst>
                <a:gd name="adj" fmla="val 34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4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2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Line 11"/>
            <p:cNvSpPr/>
            <p:nvPr/>
          </p:nvSpPr>
          <p:spPr>
            <a:xfrm>
              <a:off x="2543040" y="1379880"/>
              <a:ext cx="9720" cy="47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4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1"/>
          <p:cNvSpPr/>
          <p:nvPr/>
        </p:nvSpPr>
        <p:spPr>
          <a:xfrm>
            <a:off x="554040" y="144360"/>
            <a:ext cx="807228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2"/>
          <p:cNvSpPr/>
          <p:nvPr/>
        </p:nvSpPr>
        <p:spPr>
          <a:xfrm>
            <a:off x="304920" y="144360"/>
            <a:ext cx="850716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recedence of Prest, Default &amp; Set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1600200" y="198108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1600200" y="4006800"/>
            <a:ext cx="708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152280" y="186048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1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52280" y="3886200"/>
            <a:ext cx="1295640" cy="19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7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ameter#2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1600200" y="762120"/>
            <a:ext cx="1066680" cy="4251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Line 10"/>
          <p:cNvSpPr/>
          <p:nvPr/>
        </p:nvSpPr>
        <p:spPr>
          <a:xfrm flipV="1">
            <a:off x="213372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144792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7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Line 12"/>
          <p:cNvSpPr/>
          <p:nvPr/>
        </p:nvSpPr>
        <p:spPr>
          <a:xfrm>
            <a:off x="38098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Line 13"/>
          <p:cNvSpPr/>
          <p:nvPr/>
        </p:nvSpPr>
        <p:spPr>
          <a:xfrm flipV="1">
            <a:off x="38098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3200400" y="4876920"/>
            <a:ext cx="1295280" cy="501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3200400" y="717480"/>
            <a:ext cx="1295280" cy="5018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274320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Line 17"/>
          <p:cNvSpPr/>
          <p:nvPr/>
        </p:nvSpPr>
        <p:spPr>
          <a:xfrm>
            <a:off x="4952880" y="762120"/>
            <a:ext cx="0" cy="495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AutoShape 18"/>
          <p:cNvSpPr/>
          <p:nvPr/>
        </p:nvSpPr>
        <p:spPr>
          <a:xfrm>
            <a:off x="152280" y="5638680"/>
            <a:ext cx="22860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fore instantiation of th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AutoShape 19"/>
          <p:cNvSpPr/>
          <p:nvPr/>
        </p:nvSpPr>
        <p:spPr>
          <a:xfrm>
            <a:off x="4229280" y="1676520"/>
            <a:ext cx="144756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 over-ridden by the preset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AutoShape 20"/>
          <p:cNvSpPr/>
          <p:nvPr/>
        </p:nvSpPr>
        <p:spPr>
          <a:xfrm>
            <a:off x="2095560" y="1652760"/>
            <a:ext cx="1219320" cy="685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set value has the highest precedenc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1"/>
          <p:cNvSpPr/>
          <p:nvPr/>
        </p:nvSpPr>
        <p:spPr>
          <a:xfrm>
            <a:off x="4419720" y="3809880"/>
            <a:ext cx="121896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81952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uring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AutoShape 24"/>
          <p:cNvSpPr/>
          <p:nvPr/>
        </p:nvSpPr>
        <p:spPr>
          <a:xfrm>
            <a:off x="5867280" y="48006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AutoShape 25"/>
          <p:cNvSpPr/>
          <p:nvPr/>
        </p:nvSpPr>
        <p:spPr>
          <a:xfrm>
            <a:off x="5867280" y="685800"/>
            <a:ext cx="1752840" cy="609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new value using direct assignment or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S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Line 26"/>
          <p:cNvSpPr/>
          <p:nvPr/>
        </p:nvSpPr>
        <p:spPr>
          <a:xfrm>
            <a:off x="678168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Line 27"/>
          <p:cNvSpPr/>
          <p:nvPr/>
        </p:nvSpPr>
        <p:spPr>
          <a:xfrm flipV="1">
            <a:off x="6781680" y="4082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28"/>
          <p:cNvSpPr/>
          <p:nvPr/>
        </p:nvSpPr>
        <p:spPr>
          <a:xfrm>
            <a:off x="7391520" y="182880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9"/>
          <p:cNvSpPr/>
          <p:nvPr/>
        </p:nvSpPr>
        <p:spPr>
          <a:xfrm>
            <a:off x="7391520" y="3809880"/>
            <a:ext cx="1218960" cy="3049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ew value s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AutoShape 30"/>
          <p:cNvSpPr/>
          <p:nvPr/>
        </p:nvSpPr>
        <p:spPr>
          <a:xfrm>
            <a:off x="5257800" y="5638680"/>
            <a:ext cx="20574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fter construction of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Line 31"/>
          <p:cNvSpPr/>
          <p:nvPr/>
        </p:nvSpPr>
        <p:spPr>
          <a:xfrm>
            <a:off x="304920" y="5562720"/>
            <a:ext cx="8381880" cy="0"/>
          </a:xfrm>
          <a:prstGeom prst="line">
            <a:avLst/>
          </a:prstGeom>
          <a:ln w="19080">
            <a:solidFill>
              <a:srgbClr val="0000ff"/>
            </a:solidFill>
            <a:prstDash val="lg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2133720" y="1295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137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7_Specifying_Parameter_Value_via_a_Configuration_File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1092240"/>
            <a:ext cx="86868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int_param' to '15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ConfigFile_Api: Applying preset value of param 'param_owner.mutable_string_param' to '“preset"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Int Parameter Value :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String Parameter Value : prese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Integer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Float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 C_TOR] : String parameter exi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integer parameter value to '2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setter: @0 s, [CFGR] : Set string  parameter value to 'configure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Int Parameter Value :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Float Parameter Value : 123.4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String Parameter Value : config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15:23:22Z</dcterms:modified>
  <cp:revision>18</cp:revision>
  <dc:subject/>
  <dc:title>ex17_Specifying_Parameter_Values_via_a_Configuration_F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15:23:22Z</vt:lpwstr>
  </property>
  <property fmtid="{D5CDD505-2E9C-101B-9397-08002B2CF9AE}" pid="5" name="TitusGUID">
    <vt:lpwstr>c44708f1-27b7-4d9f-94bd-f7e37ebb71cf</vt:lpwstr>
  </property>
</Properties>
</file>