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1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1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17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8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19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20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2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60040" y="744480"/>
            <a:ext cx="4915080" cy="368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2440" cy="44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Num" idx="2"/>
          </p:nvPr>
        </p:nvSpPr>
        <p:spPr>
          <a:xfrm>
            <a:off x="3778200" y="9429480"/>
            <a:ext cx="2857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B03EA-02E6-48C4-8151-F781D2475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9CC5D4-1BF0-4D60-B1CA-5D7D99437E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BD018-88CB-4816-962B-5743271211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A8FDA-EDBD-403F-B557-3EF9F2B51A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51540-B965-46FE-8560-D3489EBECB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D336CA-DD7B-4A49-99CC-F782D063DA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09758-0F7A-4D65-BBAE-FE0DAE9674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046C7-B346-4310-9E39-A5307A9C44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474EC-89C8-4614-8769-3A0185C8CB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3C9C4-0839-473E-AE3E-28003E4BC1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2DDF0-1699-4598-9784-B9D539EAD53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54834-2763-471C-93F3-74A2EA6CE9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95008-068B-454C-B8F0-AD89F861DB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08696B-BAF6-47CE-B8D4-DA18ABB366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1D7AE-E2D4-4AE2-A67E-2AE9598882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A592CD-160C-425C-8775-8619C611C1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542E3-8849-4F5D-9168-179DC9FDDA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AFFC7-5B4F-404A-8F50-CF8B186197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78743-7ADD-4F4A-AD8D-EB55C17D48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466A2-01AF-4126-902D-4FF40BA1B0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1FDF0-B390-4954-97CF-BE3323E098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8A85CF-D909-4180-BC12-F4BE8BEE4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5157D-EBDC-4225-9B7B-CA758D795C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7"/>
          <p:cNvSpPr/>
          <p:nvPr/>
        </p:nvSpPr>
        <p:spPr>
          <a:xfrm>
            <a:off x="3778200" y="9429840"/>
            <a:ext cx="2857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8783A-764A-4BA1-B958-6139C5C25D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66360" y="4716360"/>
            <a:ext cx="530388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CE700-1EAA-41DC-A580-D9FB9FBA1C5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0CC41-DD2A-4A56-B343-D4FDAC7AA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50CB6-D8A5-4559-BC50-17361D749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15AA-4A56-4E03-AE0A-9BAF7E35F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97F1C-BA9F-4B44-9000-53EF5470E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FA890-4EB5-4F16-9781-F0C86E6A3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0696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3040" y="114264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0696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3040" y="3752280"/>
            <a:ext cx="27864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88DAD-70DD-421A-9D2F-C2E62AF5B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B50D-7C57-4243-9238-152F302BE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F41B-47CA-487C-B716-95767725F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53680" cy="51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EA6B9-01BC-4AF8-8FCB-A791B52543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46A2-DAF8-41F0-BD84-4DA9F7D555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5360" y="375228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DE618-4682-46F5-8C9A-546F6322FA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5360" y="1142640"/>
            <a:ext cx="4222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52280"/>
            <a:ext cx="865368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85624-8B7C-4704-A3CF-52A50D4AC0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94748-D0A0-4605-8F7A-8758934EDBDE}" type="slidenum"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5368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8653680" cy="49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429000" y="5105520"/>
            <a:ext cx="4070520" cy="1428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P V S Phaneendr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CircuitSutra Technologies Pvt. Lt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itstream Charter"/>
              </a:rPr>
              <a:t>Dec 201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Parameter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f2f2f2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/>
          <p:cNvSpPr/>
          <p:nvPr/>
        </p:nvSpPr>
        <p:spPr>
          <a:xfrm>
            <a:off x="3505320" y="1114560"/>
            <a:ext cx="1060200" cy="257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6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4092480" y="1631160"/>
            <a:ext cx="4953240" cy="27288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7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497400" y="2443320"/>
            <a:ext cx="1143000" cy="212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44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5057640" y="4714560"/>
            <a:ext cx="39880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Hello_New_String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8"/>
          <p:cNvSpPr/>
          <p:nvPr/>
        </p:nvSpPr>
        <p:spPr>
          <a:xfrm>
            <a:off x="3795840" y="3603240"/>
            <a:ext cx="5249880" cy="63864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Query Parameter Basic Typ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str_param_handle.get_basic_typ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Return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  <a:ea typeface="Times New Roman"/>
              </a:rPr>
              <a:t>“4” (std::string typ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4218120" y="2733840"/>
            <a:ext cx="4827600" cy="63792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string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Line 1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8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3809880" y="1425600"/>
            <a:ext cx="5181840" cy="1263600"/>
          </a:xfrm>
          <a:prstGeom prst="roundRect">
            <a:avLst>
              <a:gd name="adj" fmla="val 25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Query the latest write originator </a:t>
            </a:r>
            <a:r>
              <a:rPr b="1" lang="en-US" sz="11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const cci::cci_originator*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                  str_originator = str_param_handle.get_latest_write_originator();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Name of the latest write originator : 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str_originator.get_name();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Bitstream Charter"/>
              </a:rPr>
              <a:t>Returns Originator :  </a:t>
            </a:r>
            <a:r>
              <a:rPr b="1" i="1" lang="en-US" sz="1100" spc="-1" strike="noStrike">
                <a:solidFill>
                  <a:srgbClr val="000000"/>
                </a:solidFill>
                <a:latin typeface="Bitstream Charter"/>
              </a:rPr>
              <a:t>param_cfgr</a:t>
            </a: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3429000" y="1104840"/>
            <a:ext cx="1143000" cy="2286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5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4546440" y="3752640"/>
            <a:ext cx="4445280" cy="63864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instance of cci_value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rx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4014720" y="4696200"/>
            <a:ext cx="4978440" cy="82116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CCI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 = str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String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x_value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ed String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14"/>
          <p:cNvSpPr/>
          <p:nvPr/>
        </p:nvSpPr>
        <p:spPr>
          <a:xfrm>
            <a:off x="4352760" y="2999520"/>
            <a:ext cx="4638960" cy="45540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 s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_param_handle.get_cci_value().to_json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Hello_New_String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Line 2"/>
          <p:cNvSpPr/>
          <p:nvPr/>
        </p:nvSpPr>
        <p:spPr>
          <a:xfrm>
            <a:off x="330516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3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4368960" y="108252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0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AutoShape 13"/>
          <p:cNvSpPr/>
          <p:nvPr/>
        </p:nvSpPr>
        <p:spPr>
          <a:xfrm>
            <a:off x="304920" y="1532160"/>
            <a:ext cx="452124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ew value to string parameter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str_value(“String_Value_Set_by_OWNER”)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.set_cci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value</a:t>
            </a:r>
            <a:r>
              <a:rPr b="1" i="1" lang="en-US" sz="1000" spc="-1" strike="noStrike">
                <a:solidFill>
                  <a:srgbClr val="000000"/>
                </a:solidFill>
                <a:latin typeface="Bitstream Charter"/>
              </a:rPr>
              <a:t>);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AutoShape 14"/>
          <p:cNvSpPr/>
          <p:nvPr/>
        </p:nvSpPr>
        <p:spPr>
          <a:xfrm>
            <a:off x="4368960" y="2438280"/>
            <a:ext cx="1193760" cy="36540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8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15"/>
          <p:cNvSpPr/>
          <p:nvPr/>
        </p:nvSpPr>
        <p:spPr>
          <a:xfrm>
            <a:off x="380880" y="2865600"/>
            <a:ext cx="4445280" cy="821880"/>
          </a:xfrm>
          <a:prstGeom prst="roundRect">
            <a:avLst>
              <a:gd name="adj" fmla="val 37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an object of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to receive value into cci_value objec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value   rec_str_value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6"/>
          <p:cNvSpPr/>
          <p:nvPr/>
        </p:nvSpPr>
        <p:spPr>
          <a:xfrm>
            <a:off x="380880" y="3986280"/>
            <a:ext cx="3810240" cy="63792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CCI Value (S) 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rec_str_value  =  string_param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7"/>
          <p:cNvSpPr/>
          <p:nvPr/>
        </p:nvSpPr>
        <p:spPr>
          <a:xfrm>
            <a:off x="380880" y="4759200"/>
            <a:ext cx="3997440" cy="1003680"/>
          </a:xfrm>
          <a:prstGeom prst="roundRect">
            <a:avLst>
              <a:gd name="adj" fmla="val 17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new string value using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CCI_VALUE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:  </a:t>
            </a:r>
            <a:br>
              <a:rPr sz="1200"/>
            </a:b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d::string recv_str  = rec_str_value.get_string();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string :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String_Value_Set_by_OWNER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ex07_Parameter_Information.log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Content Placeholder 4"/>
          <p:cNvSpPr/>
          <p:nvPr/>
        </p:nvSpPr>
        <p:spPr>
          <a:xfrm>
            <a:off x="380880" y="1139760"/>
            <a:ext cx="8686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Setting 'param_owner.mutable_string_param' value to 'Initialized within sc_main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Demonstrating 'comparison' between the values of a data type for different mutability type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'mutable' &amp; 'immutable' type String parameters - VALUES MATCH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[MAIN] : parameter_owner module declares two cci type parameters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One is of 'Integer type' and the other is of 'String type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'Integer type' has 'pre_read', 'pre/post_write' callback registered within the OBSERV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] : Parameter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Value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get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Parameter name 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Retrieve] : Using 'get_default_value()' : 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0 s, [OWNER -&gt; Set] : Param description - 'This is a mutable type integer parameter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Broker Type : DEFAULT_BROKER 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Prior to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preset_value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param_owner.mutable_string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Preset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 C_TOR] : Is preset value ?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0 s, [OBSERVER C_TOR] : Broker Type : DEFAULT_BROKER- is not a private broker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@ 0 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param_owner.mutable_int_param default value hasn't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0 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@ 1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1 ns, [OWNER -&gt; Set] : Overriding default value of param_owner.mutable_int_param to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@ 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is_defaul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int_param value has been modified.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Is Default Value ? 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Returned status : 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 ns, [CFGR] : param_owner.mutable_string_param New Value : Initialized within sc_mai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4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value : 1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4 ns, [CFGR -&gt; Retrieve] Parameter's metadata : {"min_value":["0","Minimum value"],"max_value":["100","Maximum value"],"unit":["F","Unit of the parameter (Farad)"]}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@ 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6 ns, [CFGR -&gt; Set] :  param_owner.mutable_int_param value to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re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6 ns, [OBSERVER post_write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@ 10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name : param_owner.mutable_int_para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observer: @10 ns, [OBSERVER pre_read_cb] :  Parameter Name : param_owner.mutable_int_param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Originator info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value: 10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0 ns, [CFGR -&gt; Retrieve] : Parameter desc : This is a mutable type integer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@ 12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2 ns, [CFGR] : Parameter 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@ 14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_owner.mutable_int_param is in 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4 ns, [CFGR] : Parameter unlocked using password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@ 16 ns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Checking locked status of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16 ns, [CFGR] : param_owner.mutable_int_param is in unlocked state!!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@ 22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'set_value()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Content Placeholder 4"/>
          <p:cNvSpPr/>
          <p:nvPr/>
        </p:nvSpPr>
        <p:spPr>
          <a:xfrm>
            <a:off x="380880" y="914400"/>
            <a:ext cx="868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] : Parameter Description : This is a mutable type string paramet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2 ns, [CFGR -&gt; Set] : Get Basic Type using 'get_basic_type()' : 4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latest_write_originator'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Originator for the latest write on string type cci-parameter : param_cfg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@ 24 ns demonstrating 'get_value' for string-type param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] : 'Retrieve1' using 'json_serialize' and 'Retrieve2' using 'get_value()'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1] : param_owner.mutable_string_param value is "Hello_New_String"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cfgr: @24 ns, [CFGR -&gt; Retrieve2] : Hello_New_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@ 26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sett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6 ns, [OWNER -&gt; Set] : New String Value : '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@ 28 ns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demonstrating retrieving values by OWNER using cci_val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param_owner: @28 ns, [OWNER -&gt; Retrieve] : Receive str_value using 'cci_value' : String_Value_Set_by_OWN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Various Attributes of 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CI Paramet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2859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8520" indent="-2937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ollowing functionality have been demonstrated in this example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1440" indent="-20808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•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nd querying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n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description/documentation/meta-dat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valid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locked sta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6920" indent="-1411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398520"/>
                <a:tab algn="l" pos="855720"/>
                <a:tab algn="l" pos="1312920"/>
                <a:tab algn="l" pos="1770120"/>
                <a:tab algn="l" pos="2227320"/>
                <a:tab algn="l" pos="2684520"/>
                <a:tab algn="l" pos="3141720"/>
                <a:tab algn="l" pos="3598920"/>
                <a:tab algn="l" pos="4056120"/>
                <a:tab algn="l" pos="4513320"/>
                <a:tab algn="l" pos="4970520"/>
                <a:tab algn="l" pos="5427720"/>
                <a:tab algn="l" pos="5884920"/>
                <a:tab algn="l" pos="6342120"/>
                <a:tab algn="l" pos="6799320"/>
                <a:tab algn="l" pos="7256520"/>
                <a:tab algn="l" pos="7713720"/>
                <a:tab algn="l" pos="8170920"/>
                <a:tab algn="l" pos="8628120"/>
                <a:tab algn="l" pos="9085320"/>
                <a:tab algn="l" pos="954252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meter's value orig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07880" y="152280"/>
            <a:ext cx="818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t and Query Parameter Inform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3598920" y="70956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6248520" y="2232000"/>
            <a:ext cx="2133360" cy="30492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-32365"/>
              <a:gd name="adj5" fmla="val -358814"/>
              <a:gd name="adj6" fmla="val -63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server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7"/>
          <p:cNvSpPr/>
          <p:nvPr/>
        </p:nvSpPr>
        <p:spPr>
          <a:xfrm>
            <a:off x="838080" y="1600200"/>
            <a:ext cx="175284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141125"/>
              <a:gd name="adj5" fmla="val -161458"/>
              <a:gd name="adj6" fmla="val 178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Own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8"/>
          <p:cNvSpPr/>
          <p:nvPr/>
        </p:nvSpPr>
        <p:spPr>
          <a:xfrm>
            <a:off x="6477120" y="1552680"/>
            <a:ext cx="2438280" cy="30456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25912"/>
              <a:gd name="adj5" fmla="val -143231"/>
              <a:gd name="adj6" fmla="val -5475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meter_Configurat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9"/>
          <p:cNvSpPr/>
          <p:nvPr/>
        </p:nvSpPr>
        <p:spPr>
          <a:xfrm>
            <a:off x="2666880" y="2295360"/>
            <a:ext cx="2057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9722"/>
              <a:gd name="adj5" fmla="val -57935"/>
              <a:gd name="adj6" fmla="val -13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tring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0"/>
          <p:cNvSpPr/>
          <p:nvPr/>
        </p:nvSpPr>
        <p:spPr>
          <a:xfrm>
            <a:off x="152280" y="2219400"/>
            <a:ext cx="2057400" cy="685800"/>
          </a:xfrm>
          <a:prstGeom prst="borderCallout2">
            <a:avLst>
              <a:gd name="adj1" fmla="val 18750"/>
              <a:gd name="adj2" fmla="val -8333"/>
              <a:gd name="adj3" fmla="val 16666"/>
              <a:gd name="adj4" fmla="val 104782"/>
              <a:gd name="adj5" fmla="val -40500"/>
              <a:gd name="adj6" fmla="val 1051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teger typ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ci-paramet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630360" y="4143240"/>
            <a:ext cx="7543800" cy="53352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1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For a detailed understanding of registration and implementation of  callbacks,  please go see examples 8, 11 and 12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6"/>
          <p:cNvSpPr/>
          <p:nvPr/>
        </p:nvSpPr>
        <p:spPr>
          <a:xfrm>
            <a:off x="5638680" y="3048120"/>
            <a:ext cx="2895840" cy="952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2592"/>
                </a:moveTo>
                <a:lnTo>
                  <a:pt x="23459" y="2592"/>
                </a:lnTo>
                <a:lnTo>
                  <a:pt x="23459" y="-4320"/>
                </a:lnTo>
                <a:lnTo>
                  <a:pt x="20449" y="-15007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different types of callbacks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(pre_read, pre_write &amp; post_write)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 on the parameters of interest to monitor their activities</a:t>
            </a:r>
            <a:endParaRPr b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7"/>
          <p:cNvSpPr/>
          <p:nvPr/>
        </p:nvSpPr>
        <p:spPr>
          <a:xfrm>
            <a:off x="873000" y="5448240"/>
            <a:ext cx="377532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itstream Charter"/>
              </a:rPr>
              <a:t>Note#2 :</a:t>
            </a:r>
            <a:r>
              <a:rPr b="0" lang="en-US" sz="1600" spc="-1" strike="noStrike">
                <a:solidFill>
                  <a:srgbClr val="000000"/>
                </a:solidFill>
                <a:latin typeface="Bitstream Charter"/>
              </a:rPr>
              <a:t>  </a:t>
            </a: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The originator information will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 be displayed by the following 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Bitstream Charter"/>
              </a:rPr>
              <a:t>    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Bitstream Charter"/>
              </a:rPr>
              <a:t>Shap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5715000" y="5410080"/>
            <a:ext cx="228600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20" y="1200"/>
                </a:moveTo>
                <a:lnTo>
                  <a:pt x="-4230" y="1200"/>
                </a:lnTo>
                <a:lnTo>
                  <a:pt x="-4230" y="5800"/>
                </a:lnTo>
                <a:lnTo>
                  <a:pt x="-4110" y="157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b_typ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riginator_nam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685800" y="4724280"/>
            <a:ext cx="4495680" cy="60984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itstream Charter"/>
              </a:rPr>
              <a:t>Within the Callbacks implementation :</a:t>
            </a:r>
            <a:r>
              <a:rPr b="0" lang="en-US" sz="1400" spc="-1" strike="noStrike">
                <a:solidFill>
                  <a:srgbClr val="000000"/>
                </a:solidFill>
                <a:latin typeface="Bitstream Charter"/>
              </a:rPr>
              <a:t> </a:t>
            </a:r>
            <a:br>
              <a:rPr sz="14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parameter :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get_name();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Name of the originator :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callback_event.originator.name();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6"/>
          <p:cNvSpPr/>
          <p:nvPr/>
        </p:nvSpPr>
        <p:spPr>
          <a:xfrm>
            <a:off x="1981080" y="3438360"/>
            <a:ext cx="2133720" cy="304920"/>
          </a:xfrm>
          <a:prstGeom prst="borderCallout2">
            <a:avLst>
              <a:gd name="adj1" fmla="val 18750"/>
              <a:gd name="adj2" fmla="val -8333"/>
              <a:gd name="adj3" fmla="val 58472"/>
              <a:gd name="adj4" fmla="val 133791"/>
              <a:gd name="adj5" fmla="val -752259"/>
              <a:gd name="adj6" fmla="val 13206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ameter Container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>
            <a:off x="4600440" y="987480"/>
            <a:ext cx="9720" cy="52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2260440" y="2829240"/>
            <a:ext cx="469908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Get handle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using the abov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Originato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broker_handle globalBroker =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cci::cci_broker_manager::get_broker(me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0"/>
          <p:cNvSpPr/>
          <p:nvPr/>
        </p:nvSpPr>
        <p:spPr>
          <a:xfrm>
            <a:off x="3598920" y="53352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1"/>
          <p:cNvSpPr/>
          <p:nvPr/>
        </p:nvSpPr>
        <p:spPr>
          <a:xfrm>
            <a:off x="1897200" y="1959480"/>
            <a:ext cx="542592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nstantiate a cci_originator instance to get access to the 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DEFAULT BROKER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originator me(“sc_main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>
            <a:off x="646200" y="3910680"/>
            <a:ext cx="7927920" cy="100368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preset value using broker handle that overrides the default value passed as argument to the constructor of the sc_module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globerBroker.set_preset_cci_value(“param_owner.mutable_string_param”,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cci_value(“Initialized within sc_main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1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28600" y="4959360"/>
            <a:ext cx="87631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Bitstream Charter"/>
              </a:rPr>
              <a:t>Demonstrating value comparison for different mutability types with the same data typ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76320" y="5488920"/>
            <a:ext cx="906768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All the three mutability type cci-parameters of std::string type inside parameter container: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MUTABLE_PARAM &gt;  mutab_str_param (“string_mutab_param”,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1"/>
          <p:cNvSpPr/>
          <p:nvPr/>
        </p:nvSpPr>
        <p:spPr>
          <a:xfrm>
            <a:off x="1887480" y="1083960"/>
            <a:ext cx="542628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gister a global brok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register_broker(new cci_utils::broker(“DEFAULT_BROKER”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Line 3"/>
          <p:cNvSpPr/>
          <p:nvPr/>
        </p:nvSpPr>
        <p:spPr>
          <a:xfrm>
            <a:off x="1863720" y="4803840"/>
            <a:ext cx="9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5989680" y="4267080"/>
            <a:ext cx="279072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72960" y="4375080"/>
            <a:ext cx="25020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7540560" y="4987800"/>
            <a:ext cx="1479600" cy="58608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600440" y="987480"/>
            <a:ext cx="9720" cy="388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3598920" y="557280"/>
            <a:ext cx="194148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sc_main(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7335720" y="4805280"/>
            <a:ext cx="97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506680" y="4795920"/>
            <a:ext cx="4205160" cy="11862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reate instances of the modules now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owner         param_owner(“param_own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eter_configurer  param_cfgr(“param_cfgr)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observer                        observer_class(“observer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2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838080" y="1372320"/>
            <a:ext cx="7942320" cy="45540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ci::cci_param&lt; std::string, cci::CCI_IMMUTABLE_PARAM&gt; immutab_str_param (“string_immutab_param”, “String_Value_A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12"/>
          <p:cNvSpPr/>
          <p:nvPr/>
        </p:nvSpPr>
        <p:spPr>
          <a:xfrm>
            <a:off x="1389240" y="2550960"/>
            <a:ext cx="6441840" cy="63864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Query (S)  :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I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mutab_str_param.get_value() == immutable_str_param. get_value()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 ?</a:t>
            </a:r>
            <a:br>
              <a:rPr sz="1200"/>
            </a:b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Returns :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2362320" y="3775320"/>
            <a:ext cx="4572000" cy="63972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the instantiation of the modu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Line 1"/>
          <p:cNvSpPr/>
          <p:nvPr/>
        </p:nvSpPr>
        <p:spPr>
          <a:xfrm>
            <a:off x="3232080" y="1066680"/>
            <a:ext cx="17640" cy="502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2"/>
          <p:cNvSpPr/>
          <p:nvPr/>
        </p:nvSpPr>
        <p:spPr>
          <a:xfrm>
            <a:off x="498168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>
            <a:off x="1380960" y="485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>
            <a:off x="1147680" y="1485000"/>
            <a:ext cx="2851200" cy="82116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(“mutable_int_param, 0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628640" y="2363400"/>
            <a:ext cx="3205440" cy="821160"/>
          </a:xfrm>
          <a:prstGeom prst="roundRect">
            <a:avLst>
              <a:gd name="adj" fmla="val 19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name and assign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ing_param(“mutable_string_param”, “Default_value”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4006800" y="1335240"/>
            <a:ext cx="1816200" cy="569880"/>
          </a:xfrm>
          <a:prstGeom prst="roundRect">
            <a:avLst>
              <a:gd name="adj" fmla="val 27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Prior to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1995480" y="3834360"/>
            <a:ext cx="2473200" cy="821160"/>
          </a:xfrm>
          <a:prstGeom prst="roundRect">
            <a:avLst>
              <a:gd name="adj" fmla="val 185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faul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get_default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0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1006560" y="4839120"/>
            <a:ext cx="4500360" cy="1003680"/>
          </a:xfrm>
          <a:prstGeom prst="roundRect">
            <a:avLst>
              <a:gd name="adj" fmla="val 19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documenta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const std::string init_doc = “This is a mutable type integer parameter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set_documentation(init_doc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7013520" y="1058760"/>
            <a:ext cx="30240" cy="427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10"/>
          <p:cNvSpPr/>
          <p:nvPr/>
        </p:nvSpPr>
        <p:spPr>
          <a:xfrm>
            <a:off x="5261040" y="1983240"/>
            <a:ext cx="3564000" cy="1003680"/>
          </a:xfrm>
          <a:prstGeom prst="roundRect">
            <a:avLst>
              <a:gd name="adj" fmla="val 153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Declare base pointers and check the existence of the integer and string type parameters: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int_param_handle; 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_handle str_param_handle;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>
            <a:off x="7419960" y="5210280"/>
            <a:ext cx="1479600" cy="585720"/>
          </a:xfrm>
          <a:prstGeom prst="roundRect">
            <a:avLst>
              <a:gd name="adj" fmla="val 2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-&gt; Integer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-&gt; String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AutoShape 12"/>
          <p:cNvSpPr/>
          <p:nvPr/>
        </p:nvSpPr>
        <p:spPr>
          <a:xfrm>
            <a:off x="1693800" y="865080"/>
            <a:ext cx="3075120" cy="638640"/>
          </a:xfrm>
          <a:prstGeom prst="roundRect">
            <a:avLst>
              <a:gd name="adj" fmla="val 204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int&gt; int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cci::cci_param&lt;std::string&gt; string_param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34920"/>
            <a:ext cx="9144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3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17"/>
          <p:cNvSpPr/>
          <p:nvPr/>
        </p:nvSpPr>
        <p:spPr>
          <a:xfrm>
            <a:off x="703440" y="3380040"/>
            <a:ext cx="4038480" cy="27360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.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18"/>
          <p:cNvSpPr/>
          <p:nvPr/>
        </p:nvSpPr>
        <p:spPr>
          <a:xfrm>
            <a:off x="5291280" y="3215160"/>
            <a:ext cx="35049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-&gt;is_prese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Line 1"/>
          <p:cNvSpPr/>
          <p:nvPr/>
        </p:nvSpPr>
        <p:spPr>
          <a:xfrm>
            <a:off x="308916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5"/>
          <p:cNvSpPr/>
          <p:nvPr/>
        </p:nvSpPr>
        <p:spPr>
          <a:xfrm>
            <a:off x="3886200" y="1006560"/>
            <a:ext cx="1046160" cy="288720"/>
          </a:xfrm>
          <a:prstGeom prst="roundRect">
            <a:avLst>
              <a:gd name="adj" fmla="val 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6"/>
          <p:cNvSpPr/>
          <p:nvPr/>
        </p:nvSpPr>
        <p:spPr>
          <a:xfrm>
            <a:off x="4572000" y="1320480"/>
            <a:ext cx="4406760" cy="456120"/>
          </a:xfrm>
          <a:prstGeom prst="roundRect">
            <a:avLst>
              <a:gd name="adj" fmla="val 44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>
            <a:off x="95400" y="1711440"/>
            <a:ext cx="91440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8"/>
          <p:cNvSpPr/>
          <p:nvPr/>
        </p:nvSpPr>
        <p:spPr>
          <a:xfrm>
            <a:off x="4254480" y="4679640"/>
            <a:ext cx="4724280" cy="1003680"/>
          </a:xfrm>
          <a:prstGeom prst="roundRect">
            <a:avLst>
              <a:gd name="adj" fmla="val 13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“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param_owner.mutable_string_param”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ptr.get_cci_value().get_string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Initialized within sc_main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685800" y="2133720"/>
            <a:ext cx="2357280" cy="504720"/>
          </a:xfrm>
          <a:prstGeom prst="roundRect">
            <a:avLst>
              <a:gd name="adj" fmla="val 310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 = 1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10"/>
          <p:cNvSpPr/>
          <p:nvPr/>
        </p:nvSpPr>
        <p:spPr>
          <a:xfrm>
            <a:off x="4138560" y="3769920"/>
            <a:ext cx="4829400" cy="638640"/>
          </a:xfrm>
          <a:prstGeom prst="roundRect">
            <a:avLst>
              <a:gd name="adj" fmla="val 222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S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str_param_handle.is_default_value()</a:t>
            </a:r>
            <a:r>
              <a:rPr b="0" i="1" lang="en-US" sz="1200" spc="-1" strike="noStrike">
                <a:solidFill>
                  <a:srgbClr val="000000"/>
                </a:solidFill>
                <a:latin typeface="Bitstream Charter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543800" y="3235320"/>
            <a:ext cx="914400" cy="34596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4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17"/>
          <p:cNvSpPr/>
          <p:nvPr/>
        </p:nvSpPr>
        <p:spPr>
          <a:xfrm>
            <a:off x="1981080" y="281952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84" y="3600"/>
                </a:moveTo>
                <a:lnTo>
                  <a:pt x="25662" y="3600"/>
                </a:lnTo>
                <a:lnTo>
                  <a:pt x="25662" y="-7700"/>
                </a:lnTo>
                <a:lnTo>
                  <a:pt x="6920" y="-1270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own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AutoShape 5"/>
          <p:cNvSpPr/>
          <p:nvPr/>
        </p:nvSpPr>
        <p:spPr>
          <a:xfrm>
            <a:off x="3048120" y="3724200"/>
            <a:ext cx="914400" cy="314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6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6"/>
          <p:cNvSpPr/>
          <p:nvPr/>
        </p:nvSpPr>
        <p:spPr>
          <a:xfrm>
            <a:off x="4908600" y="4085280"/>
            <a:ext cx="4110120" cy="456120"/>
          </a:xfrm>
          <a:prstGeom prst="roundRect">
            <a:avLst>
              <a:gd name="adj" fmla="val 301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Set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set_cci_value(cci::cci_value(10)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4191120" y="1392840"/>
            <a:ext cx="4827600" cy="2281320"/>
          </a:xfrm>
          <a:prstGeom prst="roundRect">
            <a:avLst>
              <a:gd name="adj" fmla="val 79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Metadata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metadata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8"/>
          <p:cNvSpPr/>
          <p:nvPr/>
        </p:nvSpPr>
        <p:spPr>
          <a:xfrm>
            <a:off x="3124080" y="1011240"/>
            <a:ext cx="91440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5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996920" y="229536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4165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352680" y="5029200"/>
            <a:ext cx="281952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584" y="3600"/>
                </a:moveTo>
                <a:lnTo>
                  <a:pt x="-3588" y="3600"/>
                </a:lnTo>
                <a:lnTo>
                  <a:pt x="-3588" y="-20000"/>
                </a:lnTo>
                <a:lnTo>
                  <a:pt x="12072" y="-22189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write, post_write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1"/>
          <p:cNvSpPr/>
          <p:nvPr/>
        </p:nvSpPr>
        <p:spPr>
          <a:xfrm>
            <a:off x="228600" y="6305400"/>
            <a:ext cx="1185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A94876-158C-4074-AAB6-4C4D01B0A732}" type="slidenum">
              <a:rPr b="0" lang="en-US" sz="28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"/>
          <p:cNvSpPr/>
          <p:nvPr/>
        </p:nvSpPr>
        <p:spPr>
          <a:xfrm>
            <a:off x="2657520" y="1093680"/>
            <a:ext cx="144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981680" y="55728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Configur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3"/>
          <p:cNvSpPr/>
          <p:nvPr/>
        </p:nvSpPr>
        <p:spPr>
          <a:xfrm>
            <a:off x="1380960" y="593640"/>
            <a:ext cx="2971800" cy="457200"/>
          </a:xfrm>
          <a:prstGeom prst="roundRect">
            <a:avLst>
              <a:gd name="adj" fmla="val 34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Bitstream Charter"/>
              </a:rPr>
              <a:t>Parameter Own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4"/>
          <p:cNvSpPr/>
          <p:nvPr/>
        </p:nvSpPr>
        <p:spPr>
          <a:xfrm>
            <a:off x="7013520" y="1058760"/>
            <a:ext cx="180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2779560" y="321156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2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6"/>
          <p:cNvSpPr/>
          <p:nvPr/>
        </p:nvSpPr>
        <p:spPr>
          <a:xfrm>
            <a:off x="3984480" y="363492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FALS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4114800" y="1324800"/>
            <a:ext cx="4827600" cy="1733760"/>
          </a:xfrm>
          <a:prstGeom prst="roundRect">
            <a:avLst>
              <a:gd name="adj" fmla="val 9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Nam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nam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Nam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param_owner.mutable_int_param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Value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get_cci_value()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Value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10”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Description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ptr.get_description(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Returns doc =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“This is a mutable type integer parameter”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;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2895480" y="1011240"/>
            <a:ext cx="1011240" cy="28404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71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0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0" y="71280"/>
            <a:ext cx="914400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Bitstream Charter"/>
              </a:rPr>
              <a:t>Set and Query Parameter Information (contd.. 6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10"/>
          <p:cNvSpPr/>
          <p:nvPr/>
        </p:nvSpPr>
        <p:spPr>
          <a:xfrm>
            <a:off x="2779560" y="4363920"/>
            <a:ext cx="1106640" cy="422280"/>
          </a:xfrm>
          <a:prstGeom prst="roundRect">
            <a:avLst>
              <a:gd name="adj" fmla="val 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0080"/>
                </a:solidFill>
                <a:latin typeface="Bitstream Charter"/>
              </a:rPr>
              <a:t>@ 14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1"/>
          <p:cNvSpPr/>
          <p:nvPr/>
        </p:nvSpPr>
        <p:spPr>
          <a:xfrm>
            <a:off x="3984480" y="4911480"/>
            <a:ext cx="4957920" cy="63864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Query locking status </a:t>
            </a:r>
            <a:r>
              <a:rPr b="1" lang="en-US" sz="1200" spc="-1" strike="noStrike">
                <a:solidFill>
                  <a:srgbClr val="000000"/>
                </a:solidFill>
                <a:latin typeface="Bitstream Charter"/>
              </a:rPr>
              <a:t>(I) :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int_param_handle.locked()</a:t>
            </a: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 returns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TRU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itstream Charter"/>
              </a:rPr>
              <a:t>Unlock value using </a:t>
            </a:r>
            <a:r>
              <a:rPr b="1" i="1" lang="en-US" sz="1200" spc="-1" strike="noStrike">
                <a:solidFill>
                  <a:srgbClr val="000000"/>
                </a:solidFill>
                <a:latin typeface="Bitstream Charter"/>
              </a:rPr>
              <a:t>unlock() API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13"/>
          <p:cNvSpPr/>
          <p:nvPr/>
        </p:nvSpPr>
        <p:spPr>
          <a:xfrm>
            <a:off x="1981080" y="2286000"/>
            <a:ext cx="198144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31" y="3600"/>
                </a:moveTo>
                <a:lnTo>
                  <a:pt x="-8100" y="3600"/>
                </a:lnTo>
                <a:lnTo>
                  <a:pt x="-8100" y="-3650"/>
                </a:lnTo>
                <a:lnTo>
                  <a:pt x="23482" y="-5250"/>
                </a:lnTo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Reporte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Callback Type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re_read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Originator :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300" spc="-1" strike="noStrike">
                <a:solidFill>
                  <a:srgbClr val="000000"/>
                </a:solidFill>
                <a:latin typeface="Times New Roman"/>
              </a:rPr>
              <a:t>param_cfgr</a:t>
            </a:r>
            <a:endParaRPr b="1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4"/>
          <p:cNvSpPr/>
          <p:nvPr/>
        </p:nvSpPr>
        <p:spPr>
          <a:xfrm>
            <a:off x="304920" y="6400800"/>
            <a:ext cx="380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man Old Style"/>
              </a:rPr>
              <a:t>9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P V S Phaneendra</dc:creator>
  <dc:description/>
  <cp:keywords>CTPClassification=CTP_IC:VisualMarkings=</cp:keywords>
  <dc:language>en-US</dc:language>
  <cp:lastModifiedBy>Wieman, Trevor</cp:lastModifiedBy>
  <cp:lastPrinted>2017-01-29T19:35:36Z</cp:lastPrinted>
  <dcterms:modified xsi:type="dcterms:W3CDTF">2017-12-15T20:28:53Z</dcterms:modified>
  <cp:revision>126</cp:revision>
  <dc:subject/>
  <dc:title>ex7_Parameter_Inform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20:28:52Z</vt:lpwstr>
  </property>
  <property fmtid="{D5CDD505-2E9C-101B-9397-08002B2CF9AE}" pid="5" name="TitusGUID">
    <vt:lpwstr>9c3cd9ca-52ed-4274-8e98-0bc921084663</vt:lpwstr>
  </property>
</Properties>
</file>