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051502-45FE-4808-8137-204E27A58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0A622-4D9F-43FE-BA25-91A9F404EA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78B50-3FA1-4AC3-8E28-59602AF1D3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16AB2-21ED-470C-B255-B7C1D5FB45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D69A82-4CAB-47AB-9C20-05CBDE8048E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A294C-4901-4A1D-9EEF-2A93025D7C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39E22-C85F-4C19-B187-918D7E9D80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AB23D8-5F19-4F83-9702-0C0C8B408A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324BB-7DA3-450F-8BBE-8ECE170F28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F99EB-9A2C-41FF-9BC5-689F19CAFF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60AEF-B9CB-42C4-8AD9-E06FA50AF2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4038FF-B668-4088-8ADF-A63565E8A7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0D8A2-5CB4-4573-B6DD-DB24310B2C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C4294-2319-46B0-9212-C72C1D9586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45979-20D4-4B64-903A-D52ECE66D4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4833E-B3DB-4CDD-9DA5-218483197E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B6D290-C5D9-43E3-B332-30F40B0FAC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CFC57-39D5-4CB5-A3FB-E4559EA121F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D00E79-82FC-4D8F-AFF6-E0B88CB145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60F55-D4BA-4A3C-AEB6-C5EFC70C3F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49DCE5-3A13-43D0-85D4-9AFDBE690A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056C3-7ACE-46CA-9FF7-2BDB9060E8C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65C8D4-90EA-42E3-B0A3-52EA754110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A51A42-947E-4014-9DC6-B1BA989E63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69649E-607C-4828-947F-D29C62B942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07CAE-04C3-4749-9B1C-39345D639E7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F7DE52-7B1B-4201-895E-E83C4F0031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A2B39-1761-43B5-A31A-616BF11B994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9FB3B-64B4-4B78-9E4B-889FD5585B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073AA-84FA-47F4-B19E-F5FA506779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8BD46-9514-4BE0-B428-7CFE4AD53D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AB786-82FA-4E32-9BD4-DBC1C241F9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87759-2256-41C9-A22C-3DF81652FE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B4720-DC0D-43BC-8EF3-92D14F2A1C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F6643-EBA7-467B-B183-7A97D27CFD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66B51-2C97-45A1-A668-0FBC21E8FC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29539-9B1E-4169-A0B2-21EAC9E304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FAEB2-EAB3-411E-A999-C3060C7D31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421FE-CE9F-47FC-8391-A2B6A01DCA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E5507-D006-4E24-A97C-695F5B5279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F720F4-6DE7-4130-BF67-85AFC2079C7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DejaVu Sans"/>
              </a:rPr>
              <a:t>Hiding Parameters</a:t>
            </a:r>
            <a:br>
              <a:rPr sz="2600"/>
            </a:br>
            <a:br>
              <a:rPr sz="26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20 ns, [PARENT - post_write_cb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[CFG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25 ns, @ 2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25 ns, [CHILD] : Parameter Name : Top.private.parent_inst.child_inst.priv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1"/>
          <p:cNvSpPr/>
          <p:nvPr/>
        </p:nvSpPr>
        <p:spPr>
          <a:xfrm>
            <a:off x="554040" y="228600"/>
            <a:ext cx="7940520" cy="617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d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nstructing and activating a private broker to restrict access to the parameter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example also exhibits the ability to manage complex interdependencies as described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Hid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C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5520" indent="-216000">
              <a:lnSpc>
                <a:spcPct val="100000"/>
              </a:lnSpc>
              <a:tabLst>
                <a:tab algn="l" pos="0"/>
                <a:tab algn="l" pos="706320"/>
                <a:tab algn="l" pos="1430280"/>
                <a:tab algn="l" pos="2154240"/>
                <a:tab algn="l" pos="2878200"/>
                <a:tab algn="l" pos="3602160"/>
                <a:tab algn="l" pos="4343400"/>
                <a:tab algn="l" pos="5049720"/>
                <a:tab algn="l" pos="5773680"/>
                <a:tab algn="l" pos="6497640"/>
                <a:tab algn="l" pos="7221600"/>
                <a:tab algn="l" pos="794556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Explan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mall subsystem (parent and child module) are wrapped within a module (ex14_private) to control visibility of the contained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rapper makes it easy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lish scope of the private broker as the entire sub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 exceptions (parameters to be exposed) prior to construction of any subsystem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the subsystem doesn’t need to be modified itself to make this happ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10"/>
          <p:cNvGrpSpPr/>
          <p:nvPr/>
        </p:nvGrpSpPr>
        <p:grpSpPr>
          <a:xfrm>
            <a:off x="1117440" y="2116080"/>
            <a:ext cx="6933960" cy="3827160"/>
            <a:chOff x="1117440" y="2116080"/>
            <a:chExt cx="6933960" cy="3827160"/>
          </a:xfrm>
        </p:grpSpPr>
        <p:sp>
          <p:nvSpPr>
            <p:cNvPr id="145" name="Rectangle 11"/>
            <p:cNvSpPr/>
            <p:nvPr/>
          </p:nvSpPr>
          <p:spPr>
            <a:xfrm>
              <a:off x="1117440" y="2247480"/>
              <a:ext cx="6933960" cy="369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46" name="AutoShape 12"/>
            <p:cNvSpPr/>
            <p:nvPr/>
          </p:nvSpPr>
          <p:spPr>
            <a:xfrm>
              <a:off x="3897360" y="2116080"/>
              <a:ext cx="1375560" cy="2617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rappe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47" name="Rectangle 2"/>
          <p:cNvSpPr/>
          <p:nvPr/>
        </p:nvSpPr>
        <p:spPr>
          <a:xfrm>
            <a:off x="533520" y="758880"/>
            <a:ext cx="8153280" cy="541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752480" y="3798720"/>
            <a:ext cx="5257800" cy="19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49" name="Group 10"/>
          <p:cNvGrpSpPr/>
          <p:nvPr/>
        </p:nvGrpSpPr>
        <p:grpSpPr>
          <a:xfrm>
            <a:off x="1143000" y="1149480"/>
            <a:ext cx="6933960" cy="774360"/>
            <a:chOff x="1143000" y="1149480"/>
            <a:chExt cx="6933960" cy="774360"/>
          </a:xfrm>
        </p:grpSpPr>
        <p:sp>
          <p:nvSpPr>
            <p:cNvPr id="150" name="Rectangle 11"/>
            <p:cNvSpPr/>
            <p:nvPr/>
          </p:nvSpPr>
          <p:spPr>
            <a:xfrm>
              <a:off x="1143000" y="1280880"/>
              <a:ext cx="6933960" cy="642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51" name="AutoShape 12"/>
            <p:cNvSpPr/>
            <p:nvPr/>
          </p:nvSpPr>
          <p:spPr>
            <a:xfrm>
              <a:off x="3922920" y="1149480"/>
              <a:ext cx="1375560" cy="26208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onfigurato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52" name="AutoShape 3"/>
          <p:cNvSpPr/>
          <p:nvPr/>
        </p:nvSpPr>
        <p:spPr>
          <a:xfrm>
            <a:off x="3767040" y="623880"/>
            <a:ext cx="1600200" cy="2714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p 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1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2039760" y="1496880"/>
            <a:ext cx="5029200" cy="33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nitialize handle to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parent_i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parameter of the PARENT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2133720" y="3819600"/>
            <a:ext cx="45720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nstantiate the </a:t>
            </a: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hild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module : 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hild_inst(“child_inst”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nstructs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parameters as shown below:</a:t>
            </a:r>
            <a:br>
              <a:rPr sz="1300"/>
            </a:b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parent_int_param(“parent_int_param”, 300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parent_buffer(“parent_int_buffer”, 350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2044800" y="5324400"/>
            <a:ext cx="4876560" cy="30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ci::cci_param&lt;int&gt; priv_int_param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with a DEFAULT VALUE of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00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cci::cci_param&lt;int&gt; pub_int_param</a:t>
            </a: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 with a DEFAULT VALUE of </a:t>
            </a:r>
            <a:r>
              <a:rPr b="1" i="1" lang="en-US" sz="1300" spc="-1" strike="noStrike">
                <a:solidFill>
                  <a:srgbClr val="000000"/>
                </a:solidFill>
                <a:latin typeface="Arial Narrow"/>
              </a:rPr>
              <a:t>150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Rectangle 2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4011480" y="4881600"/>
            <a:ext cx="1060560" cy="262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hild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Rectangle 15"/>
          <p:cNvSpPr/>
          <p:nvPr/>
        </p:nvSpPr>
        <p:spPr>
          <a:xfrm>
            <a:off x="1636560" y="2625840"/>
            <a:ext cx="4572000" cy="88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Initialize and register a private broker of type cci_utils::broker (pbroker)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Identify in advance the parameters to be exposed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broker.expose.insert("Top.private.parent_inst.parent_int_buffer");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broker.expose.insert("Top.private.parent_inst.child_inst.pub_int_param"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Then instantiate the parent modul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_parent_inst = new ex14_parent(“parent_inst”);</a:t>
            </a:r>
            <a:endParaRPr b="0" lang="en-US" sz="1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2197080" y="5013360"/>
            <a:ext cx="4572000" cy="61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4079880" y="3666960"/>
            <a:ext cx="1060560" cy="262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533520" y="762120"/>
            <a:ext cx="8153280" cy="5409360"/>
            <a:chOff x="533520" y="762120"/>
            <a:chExt cx="8153280" cy="5409360"/>
          </a:xfrm>
        </p:grpSpPr>
        <p:sp>
          <p:nvSpPr>
            <p:cNvPr id="163" name="Rectangle 3"/>
            <p:cNvSpPr/>
            <p:nvPr/>
          </p:nvSpPr>
          <p:spPr>
            <a:xfrm>
              <a:off x="533520" y="762120"/>
              <a:ext cx="8153280" cy="530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4" name="AutoShape 4"/>
            <p:cNvSpPr/>
            <p:nvPr/>
          </p:nvSpPr>
          <p:spPr>
            <a:xfrm>
              <a:off x="3886200" y="5871240"/>
              <a:ext cx="1600200" cy="3002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5" name="Group 5"/>
          <p:cNvGrpSpPr/>
          <p:nvPr/>
        </p:nvGrpSpPr>
        <p:grpSpPr>
          <a:xfrm>
            <a:off x="1219320" y="2819520"/>
            <a:ext cx="6857280" cy="2971440"/>
            <a:chOff x="1219320" y="2819520"/>
            <a:chExt cx="6857280" cy="2971440"/>
          </a:xfrm>
        </p:grpSpPr>
        <p:sp>
          <p:nvSpPr>
            <p:cNvPr id="166" name="Rectangle 6"/>
            <p:cNvSpPr/>
            <p:nvPr/>
          </p:nvSpPr>
          <p:spPr>
            <a:xfrm>
              <a:off x="1219320" y="2957400"/>
              <a:ext cx="6857280" cy="28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2891160" y="2819520"/>
              <a:ext cx="3512520" cy="207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aren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68" name="Group 8"/>
          <p:cNvGrpSpPr/>
          <p:nvPr/>
        </p:nvGrpSpPr>
        <p:grpSpPr>
          <a:xfrm>
            <a:off x="1600200" y="4572000"/>
            <a:ext cx="6323400" cy="990360"/>
            <a:chOff x="1600200" y="4572000"/>
            <a:chExt cx="6323400" cy="990360"/>
          </a:xfrm>
        </p:grpSpPr>
        <p:sp>
          <p:nvSpPr>
            <p:cNvPr id="169" name="Rectangle 9"/>
            <p:cNvSpPr/>
            <p:nvPr/>
          </p:nvSpPr>
          <p:spPr>
            <a:xfrm>
              <a:off x="1600200" y="4660200"/>
              <a:ext cx="6323400" cy="90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0" name="AutoShape 10"/>
            <p:cNvSpPr/>
            <p:nvPr/>
          </p:nvSpPr>
          <p:spPr>
            <a:xfrm>
              <a:off x="2316240" y="4572000"/>
              <a:ext cx="4906440" cy="198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1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2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1752480" y="3200400"/>
            <a:ext cx="601992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OST_WRITE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callback implemented on parameter p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re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so that when a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hange occurs on the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arent_buffer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of the parent module, the same will be reflected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on to the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iv_int_param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of the child 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NOTE: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 In this case, only </a:t>
            </a: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parent_buffer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</a:t>
            </a:r>
            <a:r>
              <a:rPr b="0" i="1" lang="en-US" sz="1400" spc="-1" strike="noStrike">
                <a:solidFill>
                  <a:srgbClr val="ff0000"/>
                </a:solidFill>
                <a:latin typeface="Arial Narrow"/>
              </a:rPr>
              <a:t>PARENT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module and </a:t>
            </a:r>
            <a:r>
              <a:rPr b="1" lang="en-US" sz="1400" spc="-1" strike="noStrike">
                <a:solidFill>
                  <a:srgbClr val="ff0000"/>
                </a:solidFill>
                <a:latin typeface="Arial Narrow"/>
              </a:rPr>
              <a:t>pub_int_param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</a:t>
            </a:r>
            <a:r>
              <a:rPr b="0" i="1" lang="en-US" sz="1400" spc="-1" strike="noStrike">
                <a:solidFill>
                  <a:srgbClr val="ff0000"/>
                </a:solidFill>
                <a:latin typeface="Arial Narrow"/>
              </a:rPr>
              <a:t>CHILD</a:t>
            </a:r>
            <a:br>
              <a:rPr sz="1400"/>
            </a:b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module can write to the </a:t>
            </a:r>
            <a:r>
              <a:rPr b="1" i="1" lang="en-US" sz="1400" spc="-1" strike="noStrike">
                <a:solidFill>
                  <a:srgbClr val="ff0000"/>
                </a:solidFill>
                <a:latin typeface="Arial Narrow"/>
              </a:rPr>
              <a:t>priv_int_param</a:t>
            </a:r>
            <a:r>
              <a:rPr b="0" lang="en-US" sz="1400" spc="-1" strike="noStrike">
                <a:solidFill>
                  <a:srgbClr val="ff0000"/>
                </a:solidFill>
                <a:latin typeface="Arial Narrow"/>
              </a:rPr>
              <a:t> of the child module directly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73" name="Group 25"/>
          <p:cNvGrpSpPr/>
          <p:nvPr/>
        </p:nvGrpSpPr>
        <p:grpSpPr>
          <a:xfrm>
            <a:off x="2057400" y="1752480"/>
            <a:ext cx="5409720" cy="838080"/>
            <a:chOff x="2057400" y="1752480"/>
            <a:chExt cx="5409720" cy="838080"/>
          </a:xfrm>
        </p:grpSpPr>
        <p:grpSp>
          <p:nvGrpSpPr>
            <p:cNvPr id="174" name="Group 11"/>
            <p:cNvGrpSpPr/>
            <p:nvPr/>
          </p:nvGrpSpPr>
          <p:grpSpPr>
            <a:xfrm>
              <a:off x="2057400" y="1752480"/>
              <a:ext cx="5409720" cy="838080"/>
              <a:chOff x="2057400" y="1752480"/>
              <a:chExt cx="5409720" cy="838080"/>
            </a:xfrm>
          </p:grpSpPr>
          <p:sp>
            <p:nvSpPr>
              <p:cNvPr id="175" name="Rectangle 12"/>
              <p:cNvSpPr/>
              <p:nvPr/>
            </p:nvSpPr>
            <p:spPr>
              <a:xfrm>
                <a:off x="2057400" y="1752480"/>
                <a:ext cx="5409720" cy="768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6" name="AutoShape 13"/>
              <p:cNvSpPr/>
              <p:nvPr/>
            </p:nvSpPr>
            <p:spPr>
              <a:xfrm>
                <a:off x="3742560" y="2381040"/>
                <a:ext cx="1862280" cy="20952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configurator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77" name="Rectangle 16"/>
            <p:cNvSpPr/>
            <p:nvPr/>
          </p:nvSpPr>
          <p:spPr>
            <a:xfrm>
              <a:off x="2535120" y="1860120"/>
              <a:ext cx="4322880" cy="311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Stores param handl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 Narrow"/>
                </a:rPr>
                <a:t>parent_int_buffer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 (publicly visible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78" name="Rectangle 18"/>
          <p:cNvSpPr/>
          <p:nvPr/>
        </p:nvSpPr>
        <p:spPr>
          <a:xfrm>
            <a:off x="2895480" y="4952880"/>
            <a:ext cx="152424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iv_int_para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1523880" y="914400"/>
            <a:ext cx="632484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frastructure implemented within the model for mak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cessary value changes to the private parameter of ‘child’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Oval 21"/>
          <p:cNvSpPr/>
          <p:nvPr/>
        </p:nvSpPr>
        <p:spPr>
          <a:xfrm>
            <a:off x="4114800" y="1828800"/>
            <a:ext cx="2590920" cy="457200"/>
          </a:xfrm>
          <a:prstGeom prst="ellipse">
            <a:avLst/>
          </a:prstGeom>
          <a:solidFill>
            <a:srgbClr val="ffffff">
              <a:alpha val="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Oval 23"/>
          <p:cNvSpPr/>
          <p:nvPr/>
        </p:nvSpPr>
        <p:spPr>
          <a:xfrm>
            <a:off x="5029200" y="3200400"/>
            <a:ext cx="1295280" cy="304920"/>
          </a:xfrm>
          <a:prstGeom prst="ellipse">
            <a:avLst/>
          </a:prstGeom>
          <a:solidFill>
            <a:srgbClr val="008000">
              <a:alpha val="1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Oval 24"/>
          <p:cNvSpPr/>
          <p:nvPr/>
        </p:nvSpPr>
        <p:spPr>
          <a:xfrm>
            <a:off x="2971800" y="4952880"/>
            <a:ext cx="1371600" cy="304920"/>
          </a:xfrm>
          <a:prstGeom prst="ellipse">
            <a:avLst/>
          </a:prstGeom>
          <a:solidFill>
            <a:srgbClr val="008000">
              <a:alpha val="1000"/>
            </a:srgbClr>
          </a:solidFill>
          <a:ln w="2844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3" name="AutoShape 27"/>
          <p:cNvCxnSpPr>
            <a:stCxn id="180" idx="6"/>
            <a:endCxn id="181" idx="6"/>
          </p:cNvCxnSpPr>
          <p:nvPr/>
        </p:nvCxnSpPr>
        <p:spPr>
          <a:xfrm flipH="1">
            <a:off x="6338520" y="2057400"/>
            <a:ext cx="381600" cy="1296000"/>
          </a:xfrm>
          <a:prstGeom prst="curvedConnector5">
            <a:avLst>
              <a:gd name="adj1" fmla="val -56185"/>
              <a:gd name="adj2" fmla="val 49986"/>
              <a:gd name="adj3" fmla="val -56185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cxnSp>
        <p:nvCxnSpPr>
          <p:cNvPr id="184" name="AutoShape 29"/>
          <p:cNvCxnSpPr>
            <a:stCxn id="181" idx="2"/>
            <a:endCxn id="182" idx="2"/>
          </p:cNvCxnSpPr>
          <p:nvPr/>
        </p:nvCxnSpPr>
        <p:spPr>
          <a:xfrm flipV="1" rot="10800000">
            <a:off x="2956680" y="3351600"/>
            <a:ext cx="2057760" cy="1753560"/>
          </a:xfrm>
          <a:prstGeom prst="curvedConnector5">
            <a:avLst>
              <a:gd name="adj1" fmla="val 110428"/>
              <a:gd name="adj2" fmla="val 50000"/>
              <a:gd name="adj3" fmla="val 110428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sp>
        <p:nvSpPr>
          <p:cNvPr id="185" name="Rectangle 30"/>
          <p:cNvSpPr/>
          <p:nvPr/>
        </p:nvSpPr>
        <p:spPr>
          <a:xfrm>
            <a:off x="4876920" y="4952880"/>
            <a:ext cx="1523880" cy="228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ub_int_param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Rectangle 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9"/>
          <p:cNvGrpSpPr/>
          <p:nvPr/>
        </p:nvGrpSpPr>
        <p:grpSpPr>
          <a:xfrm>
            <a:off x="457200" y="1066680"/>
            <a:ext cx="8229240" cy="5104800"/>
            <a:chOff x="457200" y="1066680"/>
            <a:chExt cx="8229240" cy="5104800"/>
          </a:xfrm>
        </p:grpSpPr>
        <p:sp>
          <p:nvSpPr>
            <p:cNvPr id="188" name="Rectangle 10"/>
            <p:cNvSpPr/>
            <p:nvPr/>
          </p:nvSpPr>
          <p:spPr>
            <a:xfrm>
              <a:off x="457200" y="1066680"/>
              <a:ext cx="8229240" cy="5010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11"/>
            <p:cNvSpPr/>
            <p:nvPr/>
          </p:nvSpPr>
          <p:spPr>
            <a:xfrm>
              <a:off x="3841200" y="5888160"/>
              <a:ext cx="1614960" cy="28332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0" name="AutoShape 1"/>
          <p:cNvSpPr/>
          <p:nvPr/>
        </p:nvSpPr>
        <p:spPr>
          <a:xfrm>
            <a:off x="457200" y="144360"/>
            <a:ext cx="716292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3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1" name="Group 4"/>
          <p:cNvGrpSpPr/>
          <p:nvPr/>
        </p:nvGrpSpPr>
        <p:grpSpPr>
          <a:xfrm>
            <a:off x="762120" y="1219320"/>
            <a:ext cx="7924320" cy="914400"/>
            <a:chOff x="762120" y="1219320"/>
            <a:chExt cx="7924320" cy="914400"/>
          </a:xfrm>
        </p:grpSpPr>
        <p:sp>
          <p:nvSpPr>
            <p:cNvPr id="192" name="Rectangle 5"/>
            <p:cNvSpPr/>
            <p:nvPr/>
          </p:nvSpPr>
          <p:spPr>
            <a:xfrm>
              <a:off x="762120" y="1219320"/>
              <a:ext cx="792432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AutoShape 6"/>
            <p:cNvSpPr/>
            <p:nvPr/>
          </p:nvSpPr>
          <p:spPr>
            <a:xfrm>
              <a:off x="3230280" y="1905120"/>
              <a:ext cx="2727720" cy="2286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onfigurator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4" name="Rectangle 7"/>
          <p:cNvSpPr/>
          <p:nvPr/>
        </p:nvSpPr>
        <p:spPr>
          <a:xfrm>
            <a:off x="838080" y="1336680"/>
            <a:ext cx="7696440" cy="33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;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5" name="Group 14"/>
          <p:cNvGrpSpPr/>
          <p:nvPr/>
        </p:nvGrpSpPr>
        <p:grpSpPr>
          <a:xfrm>
            <a:off x="990720" y="2895480"/>
            <a:ext cx="6857280" cy="2971440"/>
            <a:chOff x="990720" y="2895480"/>
            <a:chExt cx="6857280" cy="2971440"/>
          </a:xfrm>
        </p:grpSpPr>
        <p:sp>
          <p:nvSpPr>
            <p:cNvPr id="196" name="Rectangle 15"/>
            <p:cNvSpPr/>
            <p:nvPr/>
          </p:nvSpPr>
          <p:spPr>
            <a:xfrm>
              <a:off x="990720" y="3033360"/>
              <a:ext cx="6857280" cy="283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7" name="AutoShape 16"/>
            <p:cNvSpPr/>
            <p:nvPr/>
          </p:nvSpPr>
          <p:spPr>
            <a:xfrm>
              <a:off x="2662560" y="2895480"/>
              <a:ext cx="3512520" cy="2070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arent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98" name="Rectangle 17"/>
          <p:cNvSpPr/>
          <p:nvPr/>
        </p:nvSpPr>
        <p:spPr>
          <a:xfrm>
            <a:off x="1143000" y="3352680"/>
            <a:ext cx="4724280" cy="609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99" name="Group 30"/>
          <p:cNvGrpSpPr/>
          <p:nvPr/>
        </p:nvGrpSpPr>
        <p:grpSpPr>
          <a:xfrm>
            <a:off x="1143000" y="4343400"/>
            <a:ext cx="6477120" cy="1295280"/>
            <a:chOff x="1143000" y="4343400"/>
            <a:chExt cx="6477120" cy="1295280"/>
          </a:xfrm>
        </p:grpSpPr>
        <p:sp>
          <p:nvSpPr>
            <p:cNvPr id="200" name="Rectangle 20"/>
            <p:cNvSpPr/>
            <p:nvPr/>
          </p:nvSpPr>
          <p:spPr>
            <a:xfrm>
              <a:off x="1143000" y="4459320"/>
              <a:ext cx="6477120" cy="117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1" name="AutoShape 21"/>
            <p:cNvSpPr/>
            <p:nvPr/>
          </p:nvSpPr>
          <p:spPr>
            <a:xfrm>
              <a:off x="2486160" y="4343400"/>
              <a:ext cx="3686040" cy="2588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2" name="Rectangle 22"/>
          <p:cNvSpPr/>
          <p:nvPr/>
        </p:nvSpPr>
        <p:spPr>
          <a:xfrm>
            <a:off x="1295280" y="4724280"/>
            <a:ext cx="609624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Get visible parameters list using </a:t>
            </a: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_broker.get_param_handles();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here, m_broker(cci::cci_broker_manager::get_broker()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Rectangle 23"/>
          <p:cNvSpPr/>
          <p:nvPr/>
        </p:nvSpPr>
        <p:spPr>
          <a:xfrm>
            <a:off x="2590920" y="609480"/>
            <a:ext cx="4190760" cy="381240"/>
          </a:xfrm>
          <a:prstGeom prst="rect">
            <a:avLst/>
          </a:prstGeom>
          <a:solidFill>
            <a:srgbClr val="00b8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monstrating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Parameter Hiding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25"/>
          <p:cNvSpPr/>
          <p:nvPr/>
        </p:nvSpPr>
        <p:spPr>
          <a:xfrm>
            <a:off x="5791320" y="3257640"/>
            <a:ext cx="2895480" cy="838080"/>
          </a:xfrm>
          <a:prstGeom prst="borderCallout1">
            <a:avLst>
              <a:gd name="adj1" fmla="val 18750"/>
              <a:gd name="adj2" fmla="val -8333"/>
              <a:gd name="adj3" fmla="val 23208"/>
              <a:gd name="adj4" fmla="val -20328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riv_int_param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9"/>
          <p:cNvSpPr/>
          <p:nvPr/>
        </p:nvSpPr>
        <p:spPr>
          <a:xfrm>
            <a:off x="5791320" y="4680000"/>
            <a:ext cx="2903400" cy="838080"/>
          </a:xfrm>
          <a:prstGeom prst="borderCallout1">
            <a:avLst>
              <a:gd name="adj1" fmla="val 18750"/>
              <a:gd name="adj2" fmla="val -8333"/>
              <a:gd name="adj3" fmla="val 25222"/>
              <a:gd name="adj4" fmla="val -19736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riv_int_paramTop.private.parent_inst.parent_int_param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rivate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AutoShape 31"/>
          <p:cNvSpPr/>
          <p:nvPr/>
        </p:nvSpPr>
        <p:spPr>
          <a:xfrm>
            <a:off x="4191120" y="2286000"/>
            <a:ext cx="2590560" cy="457200"/>
          </a:xfrm>
          <a:prstGeom prst="borderCallout1">
            <a:avLst>
              <a:gd name="adj1" fmla="val 18750"/>
              <a:gd name="adj2" fmla="val -8333"/>
              <a:gd name="adj3" fmla="val -172916"/>
              <a:gd name="adj4" fmla="val 106800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arent_inst.child_inst.pub_int_para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Top.parent_inst.parent_int_buffer</a:t>
            </a:r>
            <a:r>
              <a:rPr b="0" lang="en-US" sz="1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Rectangle 3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9"/>
          <p:cNvGrpSpPr/>
          <p:nvPr/>
        </p:nvGrpSpPr>
        <p:grpSpPr>
          <a:xfrm>
            <a:off x="533520" y="762120"/>
            <a:ext cx="8153280" cy="5409360"/>
            <a:chOff x="533520" y="762120"/>
            <a:chExt cx="8153280" cy="5409360"/>
          </a:xfrm>
        </p:grpSpPr>
        <p:sp>
          <p:nvSpPr>
            <p:cNvPr id="209" name="Rectangle 10"/>
            <p:cNvSpPr/>
            <p:nvPr/>
          </p:nvSpPr>
          <p:spPr>
            <a:xfrm>
              <a:off x="533520" y="762120"/>
              <a:ext cx="8153280" cy="530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0" name="AutoShape 11"/>
            <p:cNvSpPr/>
            <p:nvPr/>
          </p:nvSpPr>
          <p:spPr>
            <a:xfrm>
              <a:off x="3886200" y="5871240"/>
              <a:ext cx="1600200" cy="30024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Top module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1" name="Group 41"/>
          <p:cNvGrpSpPr/>
          <p:nvPr/>
        </p:nvGrpSpPr>
        <p:grpSpPr>
          <a:xfrm>
            <a:off x="1219320" y="2819520"/>
            <a:ext cx="6857280" cy="2971440"/>
            <a:chOff x="1219320" y="2819520"/>
            <a:chExt cx="6857280" cy="2971440"/>
          </a:xfrm>
        </p:grpSpPr>
        <p:grpSp>
          <p:nvGrpSpPr>
            <p:cNvPr id="212" name="Group 13"/>
            <p:cNvGrpSpPr/>
            <p:nvPr/>
          </p:nvGrpSpPr>
          <p:grpSpPr>
            <a:xfrm>
              <a:off x="1219320" y="2819520"/>
              <a:ext cx="6857280" cy="2971440"/>
              <a:chOff x="1219320" y="2819520"/>
              <a:chExt cx="6857280" cy="2971440"/>
            </a:xfrm>
          </p:grpSpPr>
          <p:sp>
            <p:nvSpPr>
              <p:cNvPr id="213" name="Rectangle 14"/>
              <p:cNvSpPr/>
              <p:nvPr/>
            </p:nvSpPr>
            <p:spPr>
              <a:xfrm>
                <a:off x="1219320" y="2957400"/>
                <a:ext cx="6857280" cy="2833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4" name="AutoShape 15"/>
              <p:cNvSpPr/>
              <p:nvPr/>
            </p:nvSpPr>
            <p:spPr>
              <a:xfrm>
                <a:off x="2891160" y="2819520"/>
                <a:ext cx="3512520" cy="2070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parent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5" name="Group 40"/>
            <p:cNvGrpSpPr/>
            <p:nvPr/>
          </p:nvGrpSpPr>
          <p:grpSpPr>
            <a:xfrm>
              <a:off x="1828800" y="3200400"/>
              <a:ext cx="5638680" cy="457200"/>
              <a:chOff x="1828800" y="3200400"/>
              <a:chExt cx="5638680" cy="457200"/>
            </a:xfrm>
          </p:grpSpPr>
          <p:sp>
            <p:nvSpPr>
              <p:cNvPr id="216" name="Rectangle 17"/>
              <p:cNvSpPr/>
              <p:nvPr/>
            </p:nvSpPr>
            <p:spPr>
              <a:xfrm>
                <a:off x="5029200" y="3200400"/>
                <a:ext cx="24382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Default Value :  30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17" name="Rectangle 34"/>
              <p:cNvSpPr/>
              <p:nvPr/>
            </p:nvSpPr>
            <p:spPr>
              <a:xfrm>
                <a:off x="1828800" y="3200400"/>
                <a:ext cx="28954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Parameter Name :  parent_int_param 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18" name="Group 39"/>
            <p:cNvGrpSpPr/>
            <p:nvPr/>
          </p:nvGrpSpPr>
          <p:grpSpPr>
            <a:xfrm>
              <a:off x="1828800" y="3809880"/>
              <a:ext cx="5638680" cy="457200"/>
              <a:chOff x="1828800" y="3809880"/>
              <a:chExt cx="5638680" cy="457200"/>
            </a:xfrm>
          </p:grpSpPr>
          <p:sp>
            <p:nvSpPr>
              <p:cNvPr id="219" name="Rectangle 16"/>
              <p:cNvSpPr/>
              <p:nvPr/>
            </p:nvSpPr>
            <p:spPr>
              <a:xfrm>
                <a:off x="1828800" y="3809880"/>
                <a:ext cx="28954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Parameter Name :  parent_int_buffer 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0" name="Rectangle 38"/>
              <p:cNvSpPr/>
              <p:nvPr/>
            </p:nvSpPr>
            <p:spPr>
              <a:xfrm>
                <a:off x="5029200" y="3809880"/>
                <a:ext cx="2438280" cy="457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</a:rPr>
                  <a:t>Default Value :  350</a:t>
                </a:r>
                <a:endParaRPr b="0" lang="en-US" sz="1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</p:grpSp>
      <p:sp>
        <p:nvSpPr>
          <p:cNvPr id="221" name="AutoShape 1"/>
          <p:cNvSpPr/>
          <p:nvPr/>
        </p:nvSpPr>
        <p:spPr>
          <a:xfrm>
            <a:off x="533520" y="144360"/>
            <a:ext cx="7086600" cy="541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Illustration (Contd.. 4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981080" y="838080"/>
            <a:ext cx="5562720" cy="68580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llustrating the flow when a valid value change is to b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ne to a private parameter (Implemented via callbacks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23" name="Group 4"/>
          <p:cNvGrpSpPr/>
          <p:nvPr/>
        </p:nvGrpSpPr>
        <p:grpSpPr>
          <a:xfrm>
            <a:off x="2057400" y="1676520"/>
            <a:ext cx="5409720" cy="914400"/>
            <a:chOff x="2057400" y="1676520"/>
            <a:chExt cx="5409720" cy="914400"/>
          </a:xfrm>
        </p:grpSpPr>
        <p:grpSp>
          <p:nvGrpSpPr>
            <p:cNvPr id="224" name="Group 5"/>
            <p:cNvGrpSpPr/>
            <p:nvPr/>
          </p:nvGrpSpPr>
          <p:grpSpPr>
            <a:xfrm>
              <a:off x="2057400" y="1676520"/>
              <a:ext cx="5409720" cy="914400"/>
              <a:chOff x="2057400" y="1676520"/>
              <a:chExt cx="5409720" cy="914400"/>
            </a:xfrm>
          </p:grpSpPr>
          <p:sp>
            <p:nvSpPr>
              <p:cNvPr id="225" name="Rectangle 6"/>
              <p:cNvSpPr/>
              <p:nvPr/>
            </p:nvSpPr>
            <p:spPr>
              <a:xfrm>
                <a:off x="2057400" y="1676520"/>
                <a:ext cx="5409720" cy="838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6" name="AutoShape 7"/>
              <p:cNvSpPr/>
              <p:nvPr/>
            </p:nvSpPr>
            <p:spPr>
              <a:xfrm>
                <a:off x="3742560" y="2362320"/>
                <a:ext cx="186228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configurator</a:t>
                </a: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227" name="Rectangle 8"/>
            <p:cNvSpPr/>
            <p:nvPr/>
          </p:nvSpPr>
          <p:spPr>
            <a:xfrm>
              <a:off x="2286000" y="1870200"/>
              <a:ext cx="4952880" cy="339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Write new valu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1000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to th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ent_int_buffe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using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set_cci_value(…)</a:t>
              </a:r>
              <a:br>
                <a:rPr sz="1400"/>
              </a:br>
              <a:r>
                <a:rPr b="0" i="1" lang="en-US" sz="1400" spc="-1" strike="noStrike">
                  <a:solidFill>
                    <a:srgbClr val="000000"/>
                  </a:solidFill>
                  <a:latin typeface="Arial Narrow"/>
                </a:rPr>
                <a:t>parent_param_handle.set_cci_value(cci::cci_value(1000));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8" name="Group 19"/>
          <p:cNvGrpSpPr/>
          <p:nvPr/>
        </p:nvGrpSpPr>
        <p:grpSpPr>
          <a:xfrm>
            <a:off x="1600200" y="4419720"/>
            <a:ext cx="6323400" cy="1143000"/>
            <a:chOff x="1600200" y="4419720"/>
            <a:chExt cx="6323400" cy="1143000"/>
          </a:xfrm>
        </p:grpSpPr>
        <p:sp>
          <p:nvSpPr>
            <p:cNvPr id="229" name="Rectangle 20"/>
            <p:cNvSpPr/>
            <p:nvPr/>
          </p:nvSpPr>
          <p:spPr>
            <a:xfrm>
              <a:off x="1600200" y="4521600"/>
              <a:ext cx="6323400" cy="104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0" name="AutoShape 21"/>
            <p:cNvSpPr/>
            <p:nvPr/>
          </p:nvSpPr>
          <p:spPr>
            <a:xfrm>
              <a:off x="2316240" y="4419720"/>
              <a:ext cx="4906440" cy="22860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hild</a:t>
              </a: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1" name="Oval 25"/>
          <p:cNvSpPr/>
          <p:nvPr/>
        </p:nvSpPr>
        <p:spPr>
          <a:xfrm>
            <a:off x="2666880" y="1981080"/>
            <a:ext cx="4419720" cy="381240"/>
          </a:xfrm>
          <a:prstGeom prst="ellipse">
            <a:avLst/>
          </a:prstGeom>
          <a:solidFill>
            <a:srgbClr val="ffffff">
              <a:alpha val="1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32" name="Group 26"/>
          <p:cNvGrpSpPr/>
          <p:nvPr/>
        </p:nvGrpSpPr>
        <p:grpSpPr>
          <a:xfrm>
            <a:off x="5181480" y="3733920"/>
            <a:ext cx="2438280" cy="457200"/>
            <a:chOff x="5181480" y="3733920"/>
            <a:chExt cx="2438280" cy="457200"/>
          </a:xfrm>
        </p:grpSpPr>
        <p:sp>
          <p:nvSpPr>
            <p:cNvPr id="233" name="Rectangle 27"/>
            <p:cNvSpPr/>
            <p:nvPr/>
          </p:nvSpPr>
          <p:spPr>
            <a:xfrm>
              <a:off x="5181480" y="3733920"/>
              <a:ext cx="2438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ew Value :  10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4" name="Oval 28"/>
            <p:cNvSpPr/>
            <p:nvPr/>
          </p:nvSpPr>
          <p:spPr>
            <a:xfrm>
              <a:off x="5257800" y="3810240"/>
              <a:ext cx="2361960" cy="380880"/>
            </a:xfrm>
            <a:prstGeom prst="ellipse">
              <a:avLst/>
            </a:prstGeom>
            <a:solidFill>
              <a:srgbClr val="008000">
                <a:alpha val="3000"/>
              </a:srgbClr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235" name="AutoShape 32"/>
          <p:cNvCxnSpPr>
            <a:stCxn id="231" idx="6"/>
            <a:endCxn id="234" idx="6"/>
          </p:cNvCxnSpPr>
          <p:nvPr/>
        </p:nvCxnSpPr>
        <p:spPr>
          <a:xfrm>
            <a:off x="7086600" y="2171880"/>
            <a:ext cx="534240" cy="1829520"/>
          </a:xfrm>
          <a:prstGeom prst="curvedConnector5">
            <a:avLst>
              <a:gd name="adj1" fmla="val 142818"/>
              <a:gd name="adj2" fmla="val 49990"/>
              <a:gd name="adj3" fmla="val 142818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cxnSp>
        <p:nvCxnSpPr>
          <p:cNvPr id="236" name="AutoShape 33"/>
          <p:cNvCxnSpPr>
            <a:stCxn id="234" idx="5"/>
            <a:endCxn id="237" idx="6"/>
          </p:cNvCxnSpPr>
          <p:nvPr/>
        </p:nvCxnSpPr>
        <p:spPr>
          <a:xfrm flipH="1" rot="16200000">
            <a:off x="6995160" y="4427640"/>
            <a:ext cx="842040" cy="285120"/>
          </a:xfrm>
          <a:prstGeom prst="curvedConnector5">
            <a:avLst>
              <a:gd name="adj1" fmla="val 41103"/>
              <a:gd name="adj2" fmla="val 87610"/>
              <a:gd name="adj3" fmla="val 41103"/>
            </a:avLst>
          </a:prstGeom>
          <a:ln w="19080">
            <a:solidFill>
              <a:srgbClr val="cc00cc"/>
            </a:solidFill>
            <a:miter/>
            <a:tailEnd len="lg" type="triangle" w="lg"/>
          </a:ln>
        </p:spPr>
      </p:cxnSp>
      <p:grpSp>
        <p:nvGrpSpPr>
          <p:cNvPr id="238" name="Group 44"/>
          <p:cNvGrpSpPr/>
          <p:nvPr/>
        </p:nvGrpSpPr>
        <p:grpSpPr>
          <a:xfrm>
            <a:off x="1905120" y="4876920"/>
            <a:ext cx="5562360" cy="533160"/>
            <a:chOff x="1905120" y="4876920"/>
            <a:chExt cx="5562360" cy="533160"/>
          </a:xfrm>
        </p:grpSpPr>
        <p:sp>
          <p:nvSpPr>
            <p:cNvPr id="239" name="Rectangle 23"/>
            <p:cNvSpPr/>
            <p:nvPr/>
          </p:nvSpPr>
          <p:spPr>
            <a:xfrm>
              <a:off x="1905120" y="4876920"/>
              <a:ext cx="28954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ameter Name :  priv_int_param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0" name="Rectangle 24"/>
            <p:cNvSpPr/>
            <p:nvPr/>
          </p:nvSpPr>
          <p:spPr>
            <a:xfrm>
              <a:off x="5029200" y="4876920"/>
              <a:ext cx="24382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efault Value :  1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1" name="Rectangle 42"/>
            <p:cNvSpPr/>
            <p:nvPr/>
          </p:nvSpPr>
          <p:spPr>
            <a:xfrm>
              <a:off x="1905120" y="5181480"/>
              <a:ext cx="28954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arameter Name :  pub_int_param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Rectangle 43"/>
            <p:cNvSpPr/>
            <p:nvPr/>
          </p:nvSpPr>
          <p:spPr>
            <a:xfrm>
              <a:off x="5029200" y="5181480"/>
              <a:ext cx="24382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Default Value :  15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3" name="Group 29"/>
          <p:cNvGrpSpPr/>
          <p:nvPr/>
        </p:nvGrpSpPr>
        <p:grpSpPr>
          <a:xfrm>
            <a:off x="5105520" y="4724280"/>
            <a:ext cx="2438280" cy="457200"/>
            <a:chOff x="5105520" y="4724280"/>
            <a:chExt cx="2438280" cy="457200"/>
          </a:xfrm>
        </p:grpSpPr>
        <p:sp>
          <p:nvSpPr>
            <p:cNvPr id="244" name="Rectangle 30"/>
            <p:cNvSpPr/>
            <p:nvPr/>
          </p:nvSpPr>
          <p:spPr>
            <a:xfrm>
              <a:off x="5105520" y="4724280"/>
              <a:ext cx="24382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New Value :  1000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7" name="Oval 31"/>
            <p:cNvSpPr/>
            <p:nvPr/>
          </p:nvSpPr>
          <p:spPr>
            <a:xfrm>
              <a:off x="5181840" y="4800600"/>
              <a:ext cx="2361960" cy="380880"/>
            </a:xfrm>
            <a:prstGeom prst="ellipse">
              <a:avLst/>
            </a:prstGeom>
            <a:solidFill>
              <a:srgbClr val="008000">
                <a:alpha val="1000"/>
              </a:srgbClr>
            </a:solidFill>
            <a:ln w="284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45" name="Rectangle 4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14_Hiding_Parameters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Is Private Broker? : tru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Parameter Name   : Top.private.parent_inst.child_inst.priv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 C_TOR] : Parameter Name   : Top.private.parent_inst.child_inst.pub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0 s, [PARENT C_TOR] : Parameter Name : Top.private.parent_inst.parent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0 s, [PARENT C_TO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0 s, [CFGR] : Parameter Name : Top.private.parent_inst.parent_int_buff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35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@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'child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child_inst.priv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parent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.child_inst: @0 s, [CHILD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@ 5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the 'parent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child_inst.priv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parent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rivate.parent_inst: @5 ns, [PARENT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@ 15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isible parameters to the 'configurator' modu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[CFGR] : Parameter Name : Top.private.parent_inst.child_inst.pub_int_para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15 ns, [CFGR] : Parameter Name : Top.private.parent_inst.parent_int_buff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.param_cfgr: @20 ns, [CFGR] : Change the value of the 'parent_int_buffer' to '1000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, Girish Verm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7T00:00:29Z</dcterms:modified>
  <cp:revision>36</cp:revision>
  <dc:subject/>
  <dc:title>ex14_Hid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7 00:00:28Z</vt:lpwstr>
  </property>
  <property fmtid="{D5CDD505-2E9C-101B-9397-08002B2CF9AE}" pid="5" name="TitusGUID">
    <vt:lpwstr>189efc54-5a38-4284-9103-2a19f32e059d</vt:lpwstr>
  </property>
</Properties>
</file>