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35A9-274E-40A1-83C0-C4125487A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1504-A157-413B-BBA5-0C5BE682C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733-AA2A-4CF3-BE15-2B7613A1B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90BF-F00B-4433-9BC3-AAC4E3327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0700-9D5E-4AB5-8F7F-F1163AD6C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F3DA-43B6-45A4-9A1A-B10A3044D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8860-E49E-4A1C-A21B-61ACDCA07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A9CA-AE07-4CB6-8914-3BBB3F7881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1142-A266-4C17-9BCB-193E75C1C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67BB-7067-4EEC-B5F4-3B3A6D5C3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A1F4-B29E-49CC-A17D-F03787A518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4DE4-231D-4593-8D34-07EAE66C1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412B-8027-4BEE-9F6D-6FABC63B7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A6886-BC34-40CC-A38E-D80C625D1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CA84D-F082-41FF-B206-E6EB88D4C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A8271-8331-4F71-973E-CFC167D37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977A-2F0D-4C24-8146-485267A20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FC3A-F43C-4889-9646-42034150ED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AC28-3E53-427E-9DEE-56CCAE519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arameter Value Change callback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eshadri Chakravart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arameter Value Change callba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requesting and responding to value change notificat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module creates couple of parameters and sets callbacks on both of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1, the user module would allow value change without any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ase of param_2, the user module would reject value change unconditionall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2" name="Picture 4" descr="cci_ex8.jpeg"/>
          <p:cNvPicPr/>
          <p:nvPr/>
        </p:nvPicPr>
        <p:blipFill>
          <a:blip r:embed="rId1"/>
          <a:stretch/>
        </p:blipFill>
        <p:spPr>
          <a:xfrm>
            <a:off x="138240" y="700200"/>
            <a:ext cx="8867520" cy="545760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7"/>
          <p:cNvSpPr/>
          <p:nvPr/>
        </p:nvSpPr>
        <p:spPr>
          <a:xfrm>
            <a:off x="2093760" y="5370480"/>
            <a:ext cx="6921720" cy="689040"/>
          </a:xfrm>
          <a:prstGeom prst="leftArrowCallout">
            <a:avLst>
              <a:gd name="adj1" fmla="val 14751"/>
              <a:gd name="adj2" fmla="val 25000"/>
              <a:gd name="adj3" fmla="val 123243"/>
              <a:gd name="adj4" fmla="val 3651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Observe that since write is rejec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for param_2 reject_write callback,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no other callbacks are trigger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br>
              <a:rPr sz="32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ex08_Parameter_Value_Change_Callbacks.log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1 is 1 (Default value Specified: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@Ctor: Value of sim_ip.param_2 is 2 (Default value Specified: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1 to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ost_write_callback:sim_ip.param_1 (1 -&gt; 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typed_pre_read_callback:sim_ip.param_1 (1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Current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cfg_ip: @0 s, config_ip::end_of_elaboration: [EXTERNAL] Set value of sim_ip.param_2 to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im_ip: @0 s, reject_pre_write_callback: Rejecting Value change on sim_ip.param_2 (2 -&gt; 20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0 s, Caught exception: Error: /Accellera/CCI/SET_PARAM_FAILED: Value rejected by callback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cfg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cfg_ip: @0 s, config_ip::end_of_elaboration: [EXTERNAL] Current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1 (10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1 is 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0 s, typed_pre_read_callback:sim_ip.param_2 (2) by sim_i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nsolas"/>
              </a:rPr>
              <a:t>Info: sim_ip: @Dtor: Value of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2-15T20:36:41Z</dcterms:modified>
  <cp:revision>149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36:41Z</vt:lpwstr>
  </property>
  <property fmtid="{D5CDD505-2E9C-101B-9397-08002B2CF9AE}" pid="5" name="TitusGUID">
    <vt:lpwstr>e91f1e81-ec8b-4b29-aa9d-61454af1454c</vt:lpwstr>
  </property>
</Properties>
</file>