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FA76-56F5-4079-8DD1-24C8B0CEC9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D1DE-3BA9-4FFC-A3F5-6F445C439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10BFD-18F1-4283-B823-411EA1074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6F0-B9DA-4FA6-B354-29BB73133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C730-B144-47C7-8ECE-CC47AC5B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517-D729-480D-BB4F-2A7E4FF0C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2C0E6-085D-41FF-BF13-E80D1B366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966A-63BA-4917-B76A-8B445E987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95AD4-7CAB-4FFF-9256-D87D02D57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A4E4-477D-427B-98E3-9C6F7DA11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150F1-E0D7-46DB-B0EC-11E916B1B9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E9E4-03A5-4545-BCD9-369B53C805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F8E0E-CEF8-4DA4-9242-C87802F961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199AA-6BC6-405F-B4EC-80D13833E0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A92C-0775-4B20-9AD1-CA03EF2C12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36A6C-4C84-44F5-877A-450D7AB7BA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9082-97BA-4BD5-9163-AEF873A352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25A7-EC1E-403A-902E-20AA489514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A1AC-52DE-41B3-A149-FBEBCA7F7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Using CCI Parameters of Fully Supported Data Types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. Nizamudhe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Overview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lare, initialize and report the value of a parameter of each fully supported data ty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r, unsigned ch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, unsigned int, short int, int64_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at, dou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799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nstrate (successful and unsuccessful) conversion of an untyped handle to a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untyped handle to int-param and try to cast it to typed hand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signed int-para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7320" indent="-32400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d::string-pa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1480" indent="-323640">
              <a:spcBef>
                <a:spcPts val="400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684360" y="1185840"/>
            <a:ext cx="1989000" cy="4208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850000" y="1163520"/>
            <a:ext cx="198900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1672560" y="1606680"/>
            <a:ext cx="5400" cy="4172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825600" y="159228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41"/>
          <p:cNvSpPr/>
          <p:nvPr/>
        </p:nvSpPr>
        <p:spPr>
          <a:xfrm>
            <a:off x="1751040" y="1724040"/>
            <a:ext cx="2374920" cy="57636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// params w/other types follow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3429000" y="1166760"/>
            <a:ext cx="2077920" cy="4287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CI-Infrastructu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8" name="Straight Arrow Connector 17"/>
          <p:cNvCxnSpPr>
            <a:stCxn id="97" idx="2"/>
          </p:cNvCxnSpPr>
          <p:nvPr/>
        </p:nvCxnSpPr>
        <p:spPr>
          <a:xfrm flipH="1">
            <a:off x="4453920" y="1595160"/>
            <a:ext cx="14760" cy="425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99" name="Group 34"/>
          <p:cNvGrpSpPr/>
          <p:nvPr/>
        </p:nvGrpSpPr>
        <p:grpSpPr>
          <a:xfrm>
            <a:off x="6060600" y="3168720"/>
            <a:ext cx="786240" cy="307800"/>
            <a:chOff x="6060600" y="3168720"/>
            <a:chExt cx="786240" cy="307800"/>
          </a:xfrm>
        </p:grpSpPr>
        <p:sp>
          <p:nvSpPr>
            <p:cNvPr id="100" name="Rectangle 31"/>
            <p:cNvSpPr/>
            <p:nvPr/>
          </p:nvSpPr>
          <p:spPr>
            <a:xfrm>
              <a:off x="6060960" y="3168720"/>
              <a:ext cx="77904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3"/>
            <p:cNvCxnSpPr/>
            <p:nvPr/>
          </p:nvCxnSpPr>
          <p:spPr>
            <a:xfrm>
              <a:off x="6060600" y="3466080"/>
              <a:ext cx="78660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41"/>
          <p:cNvSpPr/>
          <p:nvPr/>
        </p:nvSpPr>
        <p:spPr>
          <a:xfrm>
            <a:off x="5006880" y="1916280"/>
            <a:ext cx="3413160" cy="3841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handle int_param_handle = m_broker.get_param_handle(param_nam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3" name="Straight Arrow Connector 37"/>
          <p:cNvCxnSpPr/>
          <p:nvPr/>
        </p:nvCxnSpPr>
        <p:spPr>
          <a:xfrm flipH="1" flipV="1">
            <a:off x="4465440" y="2435040"/>
            <a:ext cx="238176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Folded Corner 41"/>
          <p:cNvSpPr/>
          <p:nvPr/>
        </p:nvSpPr>
        <p:spPr>
          <a:xfrm>
            <a:off x="5006880" y="2657520"/>
            <a:ext cx="3738600" cy="439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int&gt; int_param_typed_handle = cci::cci_param_typed_handle&lt;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" name="Group 39"/>
          <p:cNvGrpSpPr/>
          <p:nvPr/>
        </p:nvGrpSpPr>
        <p:grpSpPr>
          <a:xfrm>
            <a:off x="6039000" y="4033800"/>
            <a:ext cx="801720" cy="308160"/>
            <a:chOff x="6039000" y="4033800"/>
            <a:chExt cx="801720" cy="308160"/>
          </a:xfrm>
        </p:grpSpPr>
        <p:sp>
          <p:nvSpPr>
            <p:cNvPr id="106" name="Rectangle 40"/>
            <p:cNvSpPr/>
            <p:nvPr/>
          </p:nvSpPr>
          <p:spPr>
            <a:xfrm>
              <a:off x="6039000" y="4033800"/>
              <a:ext cx="79452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7" name="Straight Arrow Connector 41"/>
            <p:cNvCxnSpPr/>
            <p:nvPr/>
          </p:nvCxnSpPr>
          <p:spPr>
            <a:xfrm>
              <a:off x="6039000" y="4331520"/>
              <a:ext cx="8020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8" name="Folded Corner 41"/>
          <p:cNvSpPr/>
          <p:nvPr/>
        </p:nvSpPr>
        <p:spPr>
          <a:xfrm>
            <a:off x="4510080" y="3557520"/>
            <a:ext cx="44704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unsigned int&gt; uint_param_typed_handle =cci::cci_param_typed_handle&lt;unsigned int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018120" y="4883040"/>
            <a:ext cx="811800" cy="309600"/>
            <a:chOff x="6018120" y="4883040"/>
            <a:chExt cx="811800" cy="309600"/>
          </a:xfrm>
        </p:grpSpPr>
        <p:sp>
          <p:nvSpPr>
            <p:cNvPr id="110" name="Rectangle 44"/>
            <p:cNvSpPr/>
            <p:nvPr/>
          </p:nvSpPr>
          <p:spPr>
            <a:xfrm>
              <a:off x="6018120" y="4883040"/>
              <a:ext cx="804240" cy="30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11" name="Straight Arrow Connector 45"/>
            <p:cNvCxnSpPr/>
            <p:nvPr/>
          </p:nvCxnSpPr>
          <p:spPr>
            <a:xfrm>
              <a:off x="6018120" y="5182200"/>
              <a:ext cx="8121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12" name="Folded Corner 41"/>
          <p:cNvSpPr/>
          <p:nvPr/>
        </p:nvSpPr>
        <p:spPr>
          <a:xfrm>
            <a:off x="4525920" y="4432320"/>
            <a:ext cx="4375080" cy="3952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ci::cci_param_typed_handle&lt;std::string&gt; string_param_typed_handle = cci::cci_param_typed_handle&lt;std::string&gt;(int_param_handle);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Rounded Rectangular Callout 23"/>
          <p:cNvSpPr/>
          <p:nvPr/>
        </p:nvSpPr>
        <p:spPr>
          <a:xfrm>
            <a:off x="2895480" y="2395440"/>
            <a:ext cx="1121040" cy="478080"/>
          </a:xfrm>
          <a:prstGeom prst="wedgeRoundRectCallout">
            <a:avLst>
              <a:gd name="adj1" fmla="val 137750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24"/>
          <p:cNvSpPr/>
          <p:nvPr/>
        </p:nvSpPr>
        <p:spPr>
          <a:xfrm>
            <a:off x="2406600" y="3274920"/>
            <a:ext cx="1219320" cy="479520"/>
          </a:xfrm>
          <a:prstGeom prst="wedgeRoundRectCallout">
            <a:avLst>
              <a:gd name="adj1" fmla="val 123236"/>
              <a:gd name="adj2" fmla="val 6704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99"/>
                </a:solidFill>
                <a:latin typeface="Arial"/>
              </a:rPr>
              <a:t>Unsuccessful typecast</a:t>
            </a:r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ex02_Fully_Supported_Data_Type_Param.log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380880" y="147168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SystemC Simula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bool_param is 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char_param is A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char_param is U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uint_param is 0xfeedf00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16_param is 0x123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int64_param is 0x97654321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float_param is 3.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double_param is 2.71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im_ip: @0 s, @Ctor: Default value of sim_ip.string_param is C++ String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sc_main: Begin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 of sim_ip.int_param is an integer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Typecast of sim_ip.int_param to cci::cci_param_typed_handle&lt;int&gt; succeede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</a:rPr>
              <a:t>Info: cfg_ip: @10 ns, @execute: Current value of sim_ip.int_param is 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td.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380880" y="1143000"/>
            <a:ext cx="6912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unsigned int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nsolas"/>
                <a:ea typeface="Consolas"/>
              </a:rPr>
              <a:t>Warning: cfg_ip: @10 ns, @execute: Typecast of sim_ip.int_param to cci::cci_param_typed_handle&lt;std::string&gt; failed.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file: &lt;removed by verify.pl&gt;</a:t>
            </a:r>
            <a:br>
              <a:rPr sz="1200"/>
            </a:br>
            <a:r>
              <a:rPr b="1" lang="en-US" sz="1200" spc="-1" strike="noStrike">
                <a:solidFill>
                  <a:srgbClr val="7f7f7f"/>
                </a:solidFill>
                <a:latin typeface="Consolas"/>
                <a:ea typeface="Consolas"/>
              </a:rPr>
              <a:t>In process: cfg_ip.execute @ 1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nsolas"/>
              </a:rPr>
              <a:t>Info: sc_main: End Simulation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spcAft>
                <a:spcPts val="2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08-06-04T21:47:01Z</cp:lastPrinted>
  <dcterms:modified xsi:type="dcterms:W3CDTF">2017-11-15T20:59:00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1-15 20:59:00Z</vt:lpwstr>
  </property>
  <property fmtid="{D5CDD505-2E9C-101B-9397-08002B2CF9AE}" pid="5" name="TitusGUID">
    <vt:lpwstr>bfbb1515-2861-4493-b3f1-199c522b8794</vt:lpwstr>
  </property>
</Properties>
</file>