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Rectangle 20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Freeform 3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Freeform 3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Freeform 3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Freeform 3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Freeform 3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Freeform 3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Freeform 4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Freeform 4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Freeform 4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Freeform 4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Freeform 4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Freeform 4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4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Freeform 4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Freeform 4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Freeform 4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Freeform 5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Freeform 51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Freeform 52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71560" y="744120"/>
            <a:ext cx="484992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55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3"/>
          </p:nvPr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96D93-FA88-4DEB-916E-9E3F6789A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C5033-DF5C-4A86-80BE-77FBA86443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E2DF9-F900-45CC-84AF-044CF0546D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02FB3-4F73-408C-B3F8-E68464B8EE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40D1E-2464-4E1C-9806-389D4D6E93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BFC68-51F9-4CE0-9975-75084E9BDB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EC9ED-98AC-4814-BE12-3313D87F2D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02C86-9415-46C1-92F7-F7A5864CCF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EAA8D-1E62-4EDB-A032-1007897619F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2326E2-094A-4671-B2E5-8A3B11BAA6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9176C-7D46-4F75-9099-A3B121EA15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7B36C-A65F-4F6E-B841-1280DC30B4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93837-94EC-492D-9C2D-C4EC3A9407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9D278-2119-48E8-B5E7-569A65ECA0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06A30-8EFB-4691-A9F9-8FD7543172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4ADB0-BCD2-4181-A613-9AC4EF7BCA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A30F5F-8E8E-4C86-A644-0C8C8571816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34410-347F-4063-890D-F2D2ABD1D6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18714-483F-4F90-9568-F82A0AA02F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1016F-1B15-40E6-979C-4ECA1A41F7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E8C6E-8E51-4D4D-94B5-765CA55CD8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7474E1-BCA4-49E5-884F-B0FBAA3477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7A5BB-85A6-4D62-ACDD-FC7CB276BB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37232-AA34-455F-A569-FEC27976FC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0A31A-C6D6-4EBC-92EF-7AFBEDDA5A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6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6D73D6-3CBE-4541-97CC-FA25095FD5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1"/>
          <p:cNvSpPr/>
          <p:nvPr/>
        </p:nvSpPr>
        <p:spPr>
          <a:xfrm>
            <a:off x="3778200" y="9429840"/>
            <a:ext cx="28306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83ACA-884C-4BCA-9CEF-ED63383B7C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3778200" y="9429840"/>
            <a:ext cx="283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000AF-1597-42FF-A64B-479D022154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406" name="AutoShape 5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136940-F91A-4354-A956-1EC540DE05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4B7AD-8562-403C-812F-0E925D2737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4849920" cy="3638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592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778200" y="9429840"/>
            <a:ext cx="2813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55466-3019-430D-BD69-A8EFD6C64C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856B-8887-4942-BADE-4E619478A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BAA84-A491-409E-9C05-4365FF103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02C1-F440-4E30-B2FD-ABACFCF3D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16E0-A1D4-41EB-9250-D4CCB1587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6FF9-E361-477E-AEF6-E97FB7F13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46DE-6ACB-4592-9680-6E1AE4E9B5D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5E5E-648F-4308-97BB-96A62621C0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B002-1B1D-4D93-9D3C-270FC8D77E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DBFE-3BC6-47BF-87D6-708808ED1B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40D7D-8817-4905-8828-5CE9ADC38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AE88D-4DA5-4786-A94A-5AF8B7AFDC6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2D73-6967-4D0A-B26D-B9147CAEA0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8962B-5043-4BDD-B4BC-111895BA9C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5163-2B01-4845-9581-CF1B0F1DEF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1675E-907C-44DB-BAC7-2AED383DB4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DCD1-9B27-46D7-B39A-4AE4230C4DF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123BF-CF6B-4436-BA4A-75437E4264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184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02800" y="114300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88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184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202800" y="3729240"/>
            <a:ext cx="27720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70660-DFB3-455F-964B-1EE02C0C1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4D0E-10C3-49C3-9365-37E3C31C5B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E6E48-BC09-4AC8-B09F-DA564B81C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0904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FF82-4AD0-42D4-B4C2-8BDB9D9567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3740-52B2-459D-A704-A7AC6CCDE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2680" y="372924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F93A-32D1-4A1D-9BAE-9928D5D6D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2680" y="1143000"/>
            <a:ext cx="420120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29240"/>
            <a:ext cx="8609040" cy="236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70FEA-E594-4A73-BA39-58CCE70EB7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287760"/>
            <a:ext cx="1141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9825B-9C9A-4455-B072-C89646A1DD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904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7600" cy="10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0760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2"/>
          </p:nvPr>
        </p:nvSpPr>
        <p:spPr>
          <a:xfrm>
            <a:off x="228600" y="6288120"/>
            <a:ext cx="11397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fld id="{C00BBC0B-9B6B-419F-BCEE-AF0768C941E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3733920" y="5181480"/>
            <a:ext cx="45720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itstream Charter"/>
              </a:rPr>
              <a:t>Aug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earching and Directly Associating Parameter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554040" y="1249200"/>
            <a:ext cx="80722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itstream Charter"/>
              </a:rPr>
              <a:t>Objective of the present example is to demonstrate the following 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Searches (R3), and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2696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708120"/>
                <a:tab algn="l" pos="1432080"/>
                <a:tab algn="l" pos="2155680"/>
                <a:tab algn="l" pos="2879640"/>
                <a:tab algn="l" pos="3603600"/>
                <a:tab algn="l" pos="4343400"/>
                <a:tab algn="l" pos="5051520"/>
                <a:tab algn="l" pos="5775480"/>
                <a:tab algn="l" pos="6499080"/>
                <a:tab algn="l" pos="7223040"/>
                <a:tab algn="l" pos="79470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arameter Value Synchronization to address Different Names, Same Intended Meaning (UC9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Searching &amp; Directly Associating Parameter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"/>
          <p:cNvGrpSpPr/>
          <p:nvPr/>
        </p:nvGrpSpPr>
        <p:grpSpPr>
          <a:xfrm>
            <a:off x="76320" y="2590920"/>
            <a:ext cx="8961480" cy="3549600"/>
            <a:chOff x="76320" y="2590920"/>
            <a:chExt cx="8961480" cy="3549600"/>
          </a:xfrm>
        </p:grpSpPr>
        <p:sp>
          <p:nvSpPr>
            <p:cNvPr id="184" name="AutoShape 3"/>
            <p:cNvSpPr/>
            <p:nvPr/>
          </p:nvSpPr>
          <p:spPr>
            <a:xfrm>
              <a:off x="76320" y="2590920"/>
              <a:ext cx="8961480" cy="2941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AutoShape 8"/>
            <p:cNvSpPr/>
            <p:nvPr/>
          </p:nvSpPr>
          <p:spPr>
            <a:xfrm>
              <a:off x="3961080" y="5646240"/>
              <a:ext cx="1601640" cy="494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Top_Module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86" name="AutoShape 23"/>
          <p:cNvSpPr/>
          <p:nvPr/>
        </p:nvSpPr>
        <p:spPr>
          <a:xfrm>
            <a:off x="2666880" y="2719440"/>
            <a:ext cx="36576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Create two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eter_owner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modul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87" name="Group 40"/>
          <p:cNvGrpSpPr/>
          <p:nvPr/>
        </p:nvGrpSpPr>
        <p:grpSpPr>
          <a:xfrm>
            <a:off x="2403000" y="1227960"/>
            <a:ext cx="4374720" cy="986760"/>
            <a:chOff x="2403000" y="1227960"/>
            <a:chExt cx="4374720" cy="986760"/>
          </a:xfrm>
        </p:grpSpPr>
        <p:sp>
          <p:nvSpPr>
            <p:cNvPr id="188" name="AutoShape 23"/>
            <p:cNvSpPr/>
            <p:nvPr/>
          </p:nvSpPr>
          <p:spPr>
            <a:xfrm>
              <a:off x="2403000" y="1227960"/>
              <a:ext cx="437472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Get handles for owner modules’ parameters using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ion broker </a:t>
              </a:r>
              <a:r>
                <a:rPr b="0" i="1" lang="en-US" sz="1400" spc="-1" strike="noStrike">
                  <a:solidFill>
                    <a:srgbClr val="000000"/>
                  </a:solidFill>
                  <a:latin typeface="Bitstream Charter"/>
                </a:rPr>
                <a:t>Name-based Look Up Access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AutoShape 5"/>
            <p:cNvSpPr/>
            <p:nvPr/>
          </p:nvSpPr>
          <p:spPr>
            <a:xfrm>
              <a:off x="3373200" y="1843200"/>
              <a:ext cx="23616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0" name="Group 32"/>
          <p:cNvGrpSpPr/>
          <p:nvPr/>
        </p:nvGrpSpPr>
        <p:grpSpPr>
          <a:xfrm>
            <a:off x="304920" y="4429080"/>
            <a:ext cx="4030560" cy="981000"/>
            <a:chOff x="304920" y="4429080"/>
            <a:chExt cx="4030560" cy="981000"/>
          </a:xfrm>
        </p:grpSpPr>
        <p:grpSp>
          <p:nvGrpSpPr>
            <p:cNvPr id="191" name="Group 29"/>
            <p:cNvGrpSpPr/>
            <p:nvPr/>
          </p:nvGrpSpPr>
          <p:grpSpPr>
            <a:xfrm>
              <a:off x="304920" y="4429080"/>
              <a:ext cx="4030560" cy="533520"/>
              <a:chOff x="304920" y="4429080"/>
              <a:chExt cx="4030560" cy="533520"/>
            </a:xfrm>
          </p:grpSpPr>
          <p:sp>
            <p:nvSpPr>
              <p:cNvPr id="192" name="AutoShape 11"/>
              <p:cNvSpPr/>
              <p:nvPr/>
            </p:nvSpPr>
            <p:spPr>
              <a:xfrm>
                <a:off x="304920" y="442908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193" name="Group 28"/>
              <p:cNvGrpSpPr/>
              <p:nvPr/>
            </p:nvGrpSpPr>
            <p:grpSpPr>
              <a:xfrm>
                <a:off x="449280" y="4530240"/>
                <a:ext cx="3741840" cy="298800"/>
                <a:chOff x="449280" y="4530240"/>
                <a:chExt cx="3741840" cy="298800"/>
              </a:xfrm>
            </p:grpSpPr>
            <p:sp>
              <p:nvSpPr>
                <p:cNvPr id="194" name="AutoShape 12"/>
                <p:cNvSpPr/>
                <p:nvPr/>
              </p:nvSpPr>
              <p:spPr>
                <a:xfrm>
                  <a:off x="449280" y="453024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195" name="AutoShape 15"/>
                <p:cNvSpPr/>
                <p:nvPr/>
              </p:nvSpPr>
              <p:spPr>
                <a:xfrm>
                  <a:off x="2362320" y="453024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6" name="AutoShape 6"/>
            <p:cNvSpPr/>
            <p:nvPr/>
          </p:nvSpPr>
          <p:spPr>
            <a:xfrm>
              <a:off x="122076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197" name="Group 2"/>
          <p:cNvGrpSpPr/>
          <p:nvPr/>
        </p:nvGrpSpPr>
        <p:grpSpPr>
          <a:xfrm>
            <a:off x="4419720" y="4429080"/>
            <a:ext cx="4411440" cy="981000"/>
            <a:chOff x="4419720" y="4429080"/>
            <a:chExt cx="4411440" cy="981000"/>
          </a:xfrm>
        </p:grpSpPr>
        <p:grpSp>
          <p:nvGrpSpPr>
            <p:cNvPr id="198" name="Group 31"/>
            <p:cNvGrpSpPr/>
            <p:nvPr/>
          </p:nvGrpSpPr>
          <p:grpSpPr>
            <a:xfrm>
              <a:off x="4419720" y="4429080"/>
              <a:ext cx="4411440" cy="533520"/>
              <a:chOff x="4419720" y="4429080"/>
              <a:chExt cx="4411440" cy="533520"/>
            </a:xfrm>
          </p:grpSpPr>
          <p:sp>
            <p:nvSpPr>
              <p:cNvPr id="199" name="AutoShape 11"/>
              <p:cNvSpPr/>
              <p:nvPr/>
            </p:nvSpPr>
            <p:spPr>
              <a:xfrm>
                <a:off x="4419720" y="442908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00" name="Group 30"/>
              <p:cNvGrpSpPr/>
              <p:nvPr/>
            </p:nvGrpSpPr>
            <p:grpSpPr>
              <a:xfrm>
                <a:off x="4556160" y="4505040"/>
                <a:ext cx="4275000" cy="341280"/>
                <a:chOff x="4556160" y="4505040"/>
                <a:chExt cx="4275000" cy="341280"/>
              </a:xfrm>
            </p:grpSpPr>
            <p:sp>
              <p:nvSpPr>
                <p:cNvPr id="201" name="AutoShape 12"/>
                <p:cNvSpPr/>
                <p:nvPr/>
              </p:nvSpPr>
              <p:spPr>
                <a:xfrm>
                  <a:off x="4556160" y="4505040"/>
                  <a:ext cx="245412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02" name="AutoShape 15"/>
                <p:cNvSpPr/>
                <p:nvPr/>
              </p:nvSpPr>
              <p:spPr>
                <a:xfrm>
                  <a:off x="6850080" y="4505040"/>
                  <a:ext cx="198108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03" name="AutoShape 6"/>
            <p:cNvSpPr/>
            <p:nvPr/>
          </p:nvSpPr>
          <p:spPr>
            <a:xfrm>
              <a:off x="5716440" y="503856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04" name="AutoShape 23"/>
          <p:cNvSpPr/>
          <p:nvPr/>
        </p:nvSpPr>
        <p:spPr>
          <a:xfrm>
            <a:off x="1447920" y="322272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Instantiate a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 to synchronize the parameter value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AutoShape 23"/>
          <p:cNvSpPr/>
          <p:nvPr/>
        </p:nvSpPr>
        <p:spPr>
          <a:xfrm>
            <a:off x="1447920" y="3710160"/>
            <a:ext cx="6172200" cy="40464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Sends the list of selected cci_param_handles to the 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Rectangle 2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3"/>
          <p:cNvSpPr/>
          <p:nvPr/>
        </p:nvSpPr>
        <p:spPr>
          <a:xfrm>
            <a:off x="109440" y="2435400"/>
            <a:ext cx="8961480" cy="327636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1447920" y="3071880"/>
            <a:ext cx="6400800" cy="1366920"/>
            <a:chOff x="1447920" y="3071880"/>
            <a:chExt cx="6400800" cy="1366920"/>
          </a:xfrm>
        </p:grpSpPr>
        <p:sp>
          <p:nvSpPr>
            <p:cNvPr id="210" name="AutoShape 23"/>
            <p:cNvSpPr/>
            <p:nvPr/>
          </p:nvSpPr>
          <p:spPr>
            <a:xfrm>
              <a:off x="1447920" y="3071880"/>
              <a:ext cx="6400800" cy="99072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AutoShape 6"/>
            <p:cNvSpPr/>
            <p:nvPr/>
          </p:nvSpPr>
          <p:spPr>
            <a:xfrm>
              <a:off x="3473640" y="4151520"/>
              <a:ext cx="1970640" cy="28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9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_value_sync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12" name="AutoShape 8"/>
          <p:cNvSpPr/>
          <p:nvPr/>
        </p:nvSpPr>
        <p:spPr>
          <a:xfrm>
            <a:off x="3657600" y="5867280"/>
            <a:ext cx="1601640" cy="22860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13" name="Group 40"/>
          <p:cNvGrpSpPr/>
          <p:nvPr/>
        </p:nvGrpSpPr>
        <p:grpSpPr>
          <a:xfrm>
            <a:off x="1763640" y="1248840"/>
            <a:ext cx="5770800" cy="950400"/>
            <a:chOff x="1763640" y="1248840"/>
            <a:chExt cx="5770800" cy="950400"/>
          </a:xfrm>
        </p:grpSpPr>
        <p:sp>
          <p:nvSpPr>
            <p:cNvPr id="214" name="AutoShape 23"/>
            <p:cNvSpPr/>
            <p:nvPr/>
          </p:nvSpPr>
          <p:spPr>
            <a:xfrm>
              <a:off x="1763640" y="1248840"/>
              <a:ext cx="5770800" cy="5202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stored the handles of the owner module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ci_parameters to respective cci_param_handle through the brok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AutoShape 5"/>
            <p:cNvSpPr/>
            <p:nvPr/>
          </p:nvSpPr>
          <p:spPr>
            <a:xfrm>
              <a:off x="3277080" y="1895040"/>
              <a:ext cx="2362320" cy="30420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16" name="Group 32"/>
          <p:cNvGrpSpPr/>
          <p:nvPr/>
        </p:nvGrpSpPr>
        <p:grpSpPr>
          <a:xfrm>
            <a:off x="304920" y="4581360"/>
            <a:ext cx="4030560" cy="981360"/>
            <a:chOff x="304920" y="4581360"/>
            <a:chExt cx="4030560" cy="981360"/>
          </a:xfrm>
        </p:grpSpPr>
        <p:grpSp>
          <p:nvGrpSpPr>
            <p:cNvPr id="217" name="Group 29"/>
            <p:cNvGrpSpPr/>
            <p:nvPr/>
          </p:nvGrpSpPr>
          <p:grpSpPr>
            <a:xfrm>
              <a:off x="304920" y="4581360"/>
              <a:ext cx="4030560" cy="533520"/>
              <a:chOff x="304920" y="4581360"/>
              <a:chExt cx="4030560" cy="533520"/>
            </a:xfrm>
          </p:grpSpPr>
          <p:sp>
            <p:nvSpPr>
              <p:cNvPr id="218" name="AutoShape 11"/>
              <p:cNvSpPr/>
              <p:nvPr/>
            </p:nvSpPr>
            <p:spPr>
              <a:xfrm>
                <a:off x="304920" y="4581360"/>
                <a:ext cx="403056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19" name="Group 28"/>
              <p:cNvGrpSpPr/>
              <p:nvPr/>
            </p:nvGrpSpPr>
            <p:grpSpPr>
              <a:xfrm>
                <a:off x="449280" y="4682520"/>
                <a:ext cx="3741840" cy="298800"/>
                <a:chOff x="449280" y="4682520"/>
                <a:chExt cx="3741840" cy="298800"/>
              </a:xfrm>
            </p:grpSpPr>
            <p:sp>
              <p:nvSpPr>
                <p:cNvPr id="220" name="AutoShape 12"/>
                <p:cNvSpPr/>
                <p:nvPr/>
              </p:nvSpPr>
              <p:spPr>
                <a:xfrm>
                  <a:off x="449280" y="4682520"/>
                  <a:ext cx="198936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1" name="AutoShape 15"/>
                <p:cNvSpPr/>
                <p:nvPr/>
              </p:nvSpPr>
              <p:spPr>
                <a:xfrm>
                  <a:off x="2362320" y="4682520"/>
                  <a:ext cx="1828800" cy="29880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98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2" name="AutoShape 6"/>
            <p:cNvSpPr/>
            <p:nvPr/>
          </p:nvSpPr>
          <p:spPr>
            <a:xfrm>
              <a:off x="122076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23" name="Group 2"/>
          <p:cNvGrpSpPr/>
          <p:nvPr/>
        </p:nvGrpSpPr>
        <p:grpSpPr>
          <a:xfrm>
            <a:off x="4419720" y="4581360"/>
            <a:ext cx="4411440" cy="981360"/>
            <a:chOff x="4419720" y="4581360"/>
            <a:chExt cx="4411440" cy="981360"/>
          </a:xfrm>
        </p:grpSpPr>
        <p:grpSp>
          <p:nvGrpSpPr>
            <p:cNvPr id="224" name="Group 31"/>
            <p:cNvGrpSpPr/>
            <p:nvPr/>
          </p:nvGrpSpPr>
          <p:grpSpPr>
            <a:xfrm>
              <a:off x="4419720" y="4581360"/>
              <a:ext cx="4411440" cy="533520"/>
              <a:chOff x="4419720" y="4581360"/>
              <a:chExt cx="4411440" cy="533520"/>
            </a:xfrm>
          </p:grpSpPr>
          <p:sp>
            <p:nvSpPr>
              <p:cNvPr id="225" name="AutoShape 11"/>
              <p:cNvSpPr/>
              <p:nvPr/>
            </p:nvSpPr>
            <p:spPr>
              <a:xfrm>
                <a:off x="4419720" y="4581360"/>
                <a:ext cx="4411440" cy="53352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26" name="Group 30"/>
              <p:cNvGrpSpPr/>
              <p:nvPr/>
            </p:nvGrpSpPr>
            <p:grpSpPr>
              <a:xfrm>
                <a:off x="4556160" y="4657320"/>
                <a:ext cx="4122720" cy="341280"/>
                <a:chOff x="4556160" y="4657320"/>
                <a:chExt cx="4122720" cy="341280"/>
              </a:xfrm>
            </p:grpSpPr>
            <p:sp>
              <p:nvSpPr>
                <p:cNvPr id="227" name="AutoShape 12"/>
                <p:cNvSpPr/>
                <p:nvPr/>
              </p:nvSpPr>
              <p:spPr>
                <a:xfrm>
                  <a:off x="4556160" y="4657320"/>
                  <a:ext cx="237816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28" name="AutoShape 15"/>
                <p:cNvSpPr/>
                <p:nvPr/>
              </p:nvSpPr>
              <p:spPr>
                <a:xfrm>
                  <a:off x="6850080" y="4657320"/>
                  <a:ext cx="1828800" cy="3412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86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29" name="AutoShape 6"/>
            <p:cNvSpPr/>
            <p:nvPr/>
          </p:nvSpPr>
          <p:spPr>
            <a:xfrm>
              <a:off x="5716440" y="5191200"/>
              <a:ext cx="1827000" cy="3715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30" name="AutoShape 23"/>
          <p:cNvSpPr/>
          <p:nvPr/>
        </p:nvSpPr>
        <p:spPr>
          <a:xfrm>
            <a:off x="2178720" y="2437560"/>
            <a:ext cx="4786200" cy="45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lect a list of cci-parameters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et_param_handl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PI using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Name-based Look Up Acc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pass it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Oval 25"/>
          <p:cNvSpPr/>
          <p:nvPr/>
        </p:nvSpPr>
        <p:spPr>
          <a:xfrm>
            <a:off x="380880" y="4648320"/>
            <a:ext cx="205740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Oval 26"/>
          <p:cNvSpPr/>
          <p:nvPr/>
        </p:nvSpPr>
        <p:spPr>
          <a:xfrm>
            <a:off x="4495680" y="4648320"/>
            <a:ext cx="24386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AutoShape 23"/>
          <p:cNvSpPr/>
          <p:nvPr/>
        </p:nvSpPr>
        <p:spPr>
          <a:xfrm>
            <a:off x="3474360" y="3283200"/>
            <a:ext cx="4252680" cy="520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ith one cci-parameter as the reference,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write it’s default value to the other cci-parame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1676520" y="3209760"/>
            <a:ext cx="1752480" cy="685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A way to sync startup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s of 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parameter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Rectangle 3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76320" y="2057400"/>
            <a:ext cx="8961480" cy="36990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AutoShape 23"/>
          <p:cNvSpPr/>
          <p:nvPr/>
        </p:nvSpPr>
        <p:spPr>
          <a:xfrm>
            <a:off x="533520" y="2133720"/>
            <a:ext cx="8153280" cy="18288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3960720" y="5872320"/>
            <a:ext cx="1602000" cy="2235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Top_Modul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40" name="Group 40"/>
          <p:cNvGrpSpPr/>
          <p:nvPr/>
        </p:nvGrpSpPr>
        <p:grpSpPr>
          <a:xfrm>
            <a:off x="1630440" y="1184040"/>
            <a:ext cx="5731200" cy="749520"/>
            <a:chOff x="1630440" y="1184040"/>
            <a:chExt cx="5731200" cy="749520"/>
          </a:xfrm>
        </p:grpSpPr>
        <p:sp>
          <p:nvSpPr>
            <p:cNvPr id="241" name="AutoShape 5"/>
            <p:cNvSpPr/>
            <p:nvPr/>
          </p:nvSpPr>
          <p:spPr>
            <a:xfrm>
              <a:off x="3237840" y="1556640"/>
              <a:ext cx="2361960" cy="37692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AutoShape 23"/>
            <p:cNvSpPr/>
            <p:nvPr/>
          </p:nvSpPr>
          <p:spPr>
            <a:xfrm>
              <a:off x="1630440" y="1184040"/>
              <a:ext cx="5731200" cy="3070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already initialized handles of parameters to by sync’d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43" name="Group 32"/>
          <p:cNvGrpSpPr/>
          <p:nvPr/>
        </p:nvGrpSpPr>
        <p:grpSpPr>
          <a:xfrm>
            <a:off x="304920" y="4572000"/>
            <a:ext cx="4030560" cy="996840"/>
            <a:chOff x="304920" y="4572000"/>
            <a:chExt cx="4030560" cy="996840"/>
          </a:xfrm>
        </p:grpSpPr>
        <p:grpSp>
          <p:nvGrpSpPr>
            <p:cNvPr id="244" name="Group 29"/>
            <p:cNvGrpSpPr/>
            <p:nvPr/>
          </p:nvGrpSpPr>
          <p:grpSpPr>
            <a:xfrm>
              <a:off x="304920" y="4572000"/>
              <a:ext cx="4030560" cy="542160"/>
              <a:chOff x="304920" y="4572000"/>
              <a:chExt cx="4030560" cy="542160"/>
            </a:xfrm>
          </p:grpSpPr>
          <p:sp>
            <p:nvSpPr>
              <p:cNvPr id="245" name="AutoShape 11"/>
              <p:cNvSpPr/>
              <p:nvPr/>
            </p:nvSpPr>
            <p:spPr>
              <a:xfrm>
                <a:off x="304920" y="4572000"/>
                <a:ext cx="403056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46" name="Group 28"/>
              <p:cNvGrpSpPr/>
              <p:nvPr/>
            </p:nvGrpSpPr>
            <p:grpSpPr>
              <a:xfrm>
                <a:off x="449280" y="4674960"/>
                <a:ext cx="3741840" cy="303480"/>
                <a:chOff x="449280" y="4674960"/>
                <a:chExt cx="3741840" cy="303480"/>
              </a:xfrm>
            </p:grpSpPr>
            <p:sp>
              <p:nvSpPr>
                <p:cNvPr id="247" name="AutoShape 12"/>
                <p:cNvSpPr/>
                <p:nvPr/>
              </p:nvSpPr>
              <p:spPr>
                <a:xfrm>
                  <a:off x="449280" y="4674960"/>
                  <a:ext cx="198936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k_freq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48" name="AutoShape 15"/>
                <p:cNvSpPr/>
                <p:nvPr/>
              </p:nvSpPr>
              <p:spPr>
                <a:xfrm>
                  <a:off x="2362320" y="4674960"/>
                  <a:ext cx="1828800" cy="30348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 fontScale="79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49" name="AutoShape 6"/>
            <p:cNvSpPr/>
            <p:nvPr/>
          </p:nvSpPr>
          <p:spPr>
            <a:xfrm>
              <a:off x="122076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1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50" name="Group 2"/>
          <p:cNvGrpSpPr/>
          <p:nvPr/>
        </p:nvGrpSpPr>
        <p:grpSpPr>
          <a:xfrm>
            <a:off x="4419720" y="4572000"/>
            <a:ext cx="4411440" cy="996840"/>
            <a:chOff x="4419720" y="4572000"/>
            <a:chExt cx="4411440" cy="996840"/>
          </a:xfrm>
        </p:grpSpPr>
        <p:grpSp>
          <p:nvGrpSpPr>
            <p:cNvPr id="251" name="Group 31"/>
            <p:cNvGrpSpPr/>
            <p:nvPr/>
          </p:nvGrpSpPr>
          <p:grpSpPr>
            <a:xfrm>
              <a:off x="4419720" y="4572000"/>
              <a:ext cx="4411440" cy="542160"/>
              <a:chOff x="4419720" y="4572000"/>
              <a:chExt cx="4411440" cy="542160"/>
            </a:xfrm>
          </p:grpSpPr>
          <p:sp>
            <p:nvSpPr>
              <p:cNvPr id="252" name="AutoShape 11"/>
              <p:cNvSpPr/>
              <p:nvPr/>
            </p:nvSpPr>
            <p:spPr>
              <a:xfrm>
                <a:off x="4419720" y="4572000"/>
                <a:ext cx="4411440" cy="542160"/>
              </a:xfrm>
              <a:prstGeom prst="roundRect">
                <a:avLst>
                  <a:gd name="adj" fmla="val 12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grpSp>
            <p:nvGrpSpPr>
              <p:cNvPr id="253" name="Group 30"/>
              <p:cNvGrpSpPr/>
              <p:nvPr/>
            </p:nvGrpSpPr>
            <p:grpSpPr>
              <a:xfrm>
                <a:off x="4556160" y="4649400"/>
                <a:ext cx="4275000" cy="347040"/>
                <a:chOff x="4556160" y="4649400"/>
                <a:chExt cx="4275000" cy="347040"/>
              </a:xfrm>
            </p:grpSpPr>
            <p:sp>
              <p:nvSpPr>
                <p:cNvPr id="254" name="AutoShape 12"/>
                <p:cNvSpPr/>
                <p:nvPr/>
              </p:nvSpPr>
              <p:spPr>
                <a:xfrm>
                  <a:off x="4556160" y="4649400"/>
                  <a:ext cx="237816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Param_Nam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  <a:ea typeface="Arial"/>
                    </a:rPr>
                    <a:t> clock_speed_Hz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255" name="AutoShape 15"/>
                <p:cNvSpPr/>
                <p:nvPr/>
              </p:nvSpPr>
              <p:spPr>
                <a:xfrm>
                  <a:off x="6850080" y="4649400"/>
                  <a:ext cx="1981080" cy="34704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Default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2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256" name="AutoShape 6"/>
            <p:cNvSpPr/>
            <p:nvPr/>
          </p:nvSpPr>
          <p:spPr>
            <a:xfrm>
              <a:off x="5716440" y="5191560"/>
              <a:ext cx="182700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 fontScale="67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Instance#2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Owne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7" name="Oval 25"/>
          <p:cNvSpPr/>
          <p:nvPr/>
        </p:nvSpPr>
        <p:spPr>
          <a:xfrm>
            <a:off x="380880" y="457200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Oval 26"/>
          <p:cNvSpPr/>
          <p:nvPr/>
        </p:nvSpPr>
        <p:spPr>
          <a:xfrm>
            <a:off x="4495680" y="4572000"/>
            <a:ext cx="2354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22160" y="3275280"/>
            <a:ext cx="7852320" cy="30708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 ‘post_write’ callbacks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on the selected parameters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and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677880" y="2368440"/>
            <a:ext cx="7856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ronize values of the parameter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efore BEOE phase begins)</a:t>
            </a:r>
            <a:br>
              <a:rPr sz="1400"/>
            </a:br>
            <a:r>
              <a:rPr b="1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chValues (cci::cci_param_handle  _param_handle_1, cci::cci_param_handle _param_handle_2)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1" name="Curved Connector 10"/>
          <p:cNvCxnSpPr>
            <a:stCxn id="257" idx="0"/>
            <a:endCxn id="258" idx="0"/>
          </p:cNvCxnSpPr>
          <p:nvPr/>
        </p:nvCxnSpPr>
        <p:spPr>
          <a:xfrm flipH="1" rot="16200000">
            <a:off x="3540960" y="2427840"/>
            <a:ext cx="2160" cy="4264560"/>
          </a:xfrm>
          <a:prstGeom prst="curvedConnector5">
            <a:avLst>
              <a:gd name="adj1" fmla="val -13600000"/>
              <a:gd name="adj2" fmla="val 49995"/>
              <a:gd name="adj3" fmla="val -13600000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  <a:tailEnd len="lg" type="triangle" w="lg"/>
          </a:ln>
        </p:spPr>
      </p:cxnSp>
      <p:sp>
        <p:nvSpPr>
          <p:cNvPr id="262" name="AutoShape 6"/>
          <p:cNvSpPr/>
          <p:nvPr/>
        </p:nvSpPr>
        <p:spPr>
          <a:xfrm>
            <a:off x="3735360" y="4105440"/>
            <a:ext cx="1827360" cy="16164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3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param_value_sync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63" name="Curved Connector 10"/>
          <p:cNvCxnSpPr>
            <a:stCxn id="264" idx="4"/>
            <a:endCxn id="248" idx="2"/>
          </p:cNvCxnSpPr>
          <p:nvPr/>
        </p:nvCxnSpPr>
        <p:spPr>
          <a:xfrm flipV="1" rot="16200000">
            <a:off x="5511600" y="2742480"/>
            <a:ext cx="64080" cy="4534560"/>
          </a:xfrm>
          <a:prstGeom prst="curvedConnector5">
            <a:avLst>
              <a:gd name="adj1" fmla="val -339548"/>
              <a:gd name="adj2" fmla="val 49996"/>
              <a:gd name="adj3" fmla="val -339548"/>
            </a:avLst>
          </a:prstGeom>
          <a:ln w="19080">
            <a:solidFill>
              <a:srgbClr val="00b050"/>
            </a:solidFill>
            <a:prstDash val="sysDash"/>
            <a:miter/>
            <a:headEnd len="lg" type="triangle" w="lg"/>
          </a:ln>
        </p:spPr>
      </p:cxnSp>
      <p:grpSp>
        <p:nvGrpSpPr>
          <p:cNvPr id="265" name="Group 33"/>
          <p:cNvGrpSpPr/>
          <p:nvPr/>
        </p:nvGrpSpPr>
        <p:grpSpPr>
          <a:xfrm>
            <a:off x="6934320" y="4572000"/>
            <a:ext cx="1828800" cy="457200"/>
            <a:chOff x="6934320" y="4572000"/>
            <a:chExt cx="1828800" cy="457200"/>
          </a:xfrm>
        </p:grpSpPr>
        <p:sp>
          <p:nvSpPr>
            <p:cNvPr id="266" name="AutoShape 15"/>
            <p:cNvSpPr/>
            <p:nvPr/>
          </p:nvSpPr>
          <p:spPr>
            <a:xfrm>
              <a:off x="6934320" y="4647960"/>
              <a:ext cx="1828800" cy="30348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4" name="Oval 45"/>
            <p:cNvSpPr/>
            <p:nvPr/>
          </p:nvSpPr>
          <p:spPr>
            <a:xfrm>
              <a:off x="6934320" y="4572000"/>
              <a:ext cx="1752480" cy="457200"/>
            </a:xfrm>
            <a:prstGeom prst="ellipse">
              <a:avLst/>
            </a:prstGeom>
            <a:noFill/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67" name="Rectangle 3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49"/>
          <p:cNvGrpSpPr/>
          <p:nvPr/>
        </p:nvGrpSpPr>
        <p:grpSpPr>
          <a:xfrm>
            <a:off x="76320" y="3276720"/>
            <a:ext cx="8961480" cy="2574720"/>
            <a:chOff x="76320" y="3276720"/>
            <a:chExt cx="8961480" cy="2574720"/>
          </a:xfrm>
        </p:grpSpPr>
        <p:grpSp>
          <p:nvGrpSpPr>
            <p:cNvPr id="270" name="Group 48"/>
            <p:cNvGrpSpPr/>
            <p:nvPr/>
          </p:nvGrpSpPr>
          <p:grpSpPr>
            <a:xfrm>
              <a:off x="76320" y="3276720"/>
              <a:ext cx="8961480" cy="2574720"/>
              <a:chOff x="76320" y="3276720"/>
              <a:chExt cx="8961480" cy="2574720"/>
            </a:xfrm>
          </p:grpSpPr>
          <p:grpSp>
            <p:nvGrpSpPr>
              <p:cNvPr id="271" name="Group 47"/>
              <p:cNvGrpSpPr/>
              <p:nvPr/>
            </p:nvGrpSpPr>
            <p:grpSpPr>
              <a:xfrm>
                <a:off x="76320" y="3276720"/>
                <a:ext cx="8961480" cy="2574720"/>
                <a:chOff x="76320" y="3276720"/>
                <a:chExt cx="8961480" cy="2574720"/>
              </a:xfrm>
            </p:grpSpPr>
            <p:grpSp>
              <p:nvGrpSpPr>
                <p:cNvPr id="272" name="Group 46"/>
                <p:cNvGrpSpPr/>
                <p:nvPr/>
              </p:nvGrpSpPr>
              <p:grpSpPr>
                <a:xfrm>
                  <a:off x="76320" y="3276720"/>
                  <a:ext cx="8961480" cy="2574720"/>
                  <a:chOff x="76320" y="3276720"/>
                  <a:chExt cx="8961480" cy="2574720"/>
                </a:xfrm>
              </p:grpSpPr>
              <p:grpSp>
                <p:nvGrpSpPr>
                  <p:cNvPr id="273" name="Group 5"/>
                  <p:cNvGrpSpPr/>
                  <p:nvPr/>
                </p:nvGrpSpPr>
                <p:grpSpPr>
                  <a:xfrm>
                    <a:off x="76320" y="3276720"/>
                    <a:ext cx="8961480" cy="2574720"/>
                    <a:chOff x="76320" y="3276720"/>
                    <a:chExt cx="8961480" cy="2574720"/>
                  </a:xfrm>
                </p:grpSpPr>
                <p:grpSp>
                  <p:nvGrpSpPr>
                    <p:cNvPr id="274" name="Group 1"/>
                    <p:cNvGrpSpPr/>
                    <p:nvPr/>
                  </p:nvGrpSpPr>
                  <p:grpSpPr>
                    <a:xfrm>
                      <a:off x="76320" y="3276720"/>
                      <a:ext cx="8961480" cy="2574720"/>
                      <a:chOff x="76320" y="3276720"/>
                      <a:chExt cx="8961480" cy="2574720"/>
                    </a:xfrm>
                  </p:grpSpPr>
                  <p:sp>
                    <p:nvSpPr>
                      <p:cNvPr id="275" name="AutoShape 3"/>
                      <p:cNvSpPr/>
                      <p:nvPr/>
                    </p:nvSpPr>
                    <p:spPr>
                      <a:xfrm>
                        <a:off x="76320" y="3276720"/>
                        <a:ext cx="8961480" cy="2041560"/>
                      </a:xfrm>
                      <a:prstGeom prst="roundRect">
                        <a:avLst>
                          <a:gd name="adj" fmla="val 134"/>
                        </a:avLst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276" name="AutoShape 8"/>
                      <p:cNvSpPr/>
                      <p:nvPr/>
                    </p:nvSpPr>
                    <p:spPr>
                      <a:xfrm>
                        <a:off x="3961080" y="5341320"/>
                        <a:ext cx="1601640" cy="51012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Top_Module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77" name="Group 32"/>
                    <p:cNvGrpSpPr/>
                    <p:nvPr/>
                  </p:nvGrpSpPr>
                  <p:grpSpPr>
                    <a:xfrm>
                      <a:off x="304920" y="4070520"/>
                      <a:ext cx="4030560" cy="963360"/>
                      <a:chOff x="304920" y="4070520"/>
                      <a:chExt cx="4030560" cy="963360"/>
                    </a:xfrm>
                  </p:grpSpPr>
                  <p:grpSp>
                    <p:nvGrpSpPr>
                      <p:cNvPr id="278" name="Group 29"/>
                      <p:cNvGrpSpPr/>
                      <p:nvPr/>
                    </p:nvGrpSpPr>
                    <p:grpSpPr>
                      <a:xfrm>
                        <a:off x="304920" y="4070520"/>
                        <a:ext cx="4030560" cy="523800"/>
                        <a:chOff x="304920" y="4070520"/>
                        <a:chExt cx="4030560" cy="523800"/>
                      </a:xfrm>
                    </p:grpSpPr>
                    <p:sp>
                      <p:nvSpPr>
                        <p:cNvPr id="279" name="AutoShape 11"/>
                        <p:cNvSpPr/>
                        <p:nvPr/>
                      </p:nvSpPr>
                      <p:spPr>
                        <a:xfrm>
                          <a:off x="304920" y="4070520"/>
                          <a:ext cx="403056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0" name="Group 28"/>
                        <p:cNvGrpSpPr/>
                        <p:nvPr/>
                      </p:nvGrpSpPr>
                      <p:grpSpPr>
                        <a:xfrm>
                          <a:off x="449280" y="4169880"/>
                          <a:ext cx="3741840" cy="293400"/>
                          <a:chOff x="449280" y="4169880"/>
                          <a:chExt cx="3741840" cy="293400"/>
                        </a:xfrm>
                      </p:grpSpPr>
                      <p:sp>
                        <p:nvSpPr>
                          <p:cNvPr id="281" name="AutoShape 12"/>
                          <p:cNvSpPr/>
                          <p:nvPr/>
                        </p:nvSpPr>
                        <p:spPr>
                          <a:xfrm>
                            <a:off x="449280" y="4169880"/>
                            <a:ext cx="198936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k_freq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2" name="AutoShape 15"/>
                          <p:cNvSpPr/>
                          <p:nvPr/>
                        </p:nvSpPr>
                        <p:spPr>
                          <a:xfrm>
                            <a:off x="2362320" y="4169880"/>
                            <a:ext cx="1828800" cy="29340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 fontScale="96000"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1000 (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83" name="AutoShape 6"/>
                      <p:cNvSpPr/>
                      <p:nvPr/>
                    </p:nvSpPr>
                    <p:spPr>
                      <a:xfrm>
                        <a:off x="122076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1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  <p:grpSp>
                  <p:nvGrpSpPr>
                    <p:cNvPr id="284" name="Group 2"/>
                    <p:cNvGrpSpPr/>
                    <p:nvPr/>
                  </p:nvGrpSpPr>
                  <p:grpSpPr>
                    <a:xfrm>
                      <a:off x="4419720" y="4070520"/>
                      <a:ext cx="4411440" cy="963360"/>
                      <a:chOff x="4419720" y="4070520"/>
                      <a:chExt cx="4411440" cy="963360"/>
                    </a:xfrm>
                  </p:grpSpPr>
                  <p:grpSp>
                    <p:nvGrpSpPr>
                      <p:cNvPr id="285" name="Group 31"/>
                      <p:cNvGrpSpPr/>
                      <p:nvPr/>
                    </p:nvGrpSpPr>
                    <p:grpSpPr>
                      <a:xfrm>
                        <a:off x="4419720" y="4070520"/>
                        <a:ext cx="4411440" cy="523800"/>
                        <a:chOff x="4419720" y="4070520"/>
                        <a:chExt cx="4411440" cy="523800"/>
                      </a:xfrm>
                    </p:grpSpPr>
                    <p:sp>
                      <p:nvSpPr>
                        <p:cNvPr id="286" name="AutoShape 11"/>
                        <p:cNvSpPr/>
                        <p:nvPr/>
                      </p:nvSpPr>
                      <p:spPr>
                        <a:xfrm>
                          <a:off x="4419720" y="4070520"/>
                          <a:ext cx="4411440" cy="523800"/>
                        </a:xfrm>
                        <a:prstGeom prst="roundRect">
                          <a:avLst>
                            <a:gd name="adj" fmla="val 120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grpSp>
                      <p:nvGrpSpPr>
                        <p:cNvPr id="287" name="Group 30"/>
                        <p:cNvGrpSpPr/>
                        <p:nvPr/>
                      </p:nvGrpSpPr>
                      <p:grpSpPr>
                        <a:xfrm>
                          <a:off x="4556160" y="4145040"/>
                          <a:ext cx="4275000" cy="335160"/>
                          <a:chOff x="4556160" y="4145040"/>
                          <a:chExt cx="4275000" cy="335160"/>
                        </a:xfrm>
                      </p:grpSpPr>
                      <p:sp>
                        <p:nvSpPr>
                          <p:cNvPr id="288" name="AutoShape 12"/>
                          <p:cNvSpPr/>
                          <p:nvPr/>
                        </p:nvSpPr>
                        <p:spPr>
                          <a:xfrm>
                            <a:off x="4556160" y="4145040"/>
                            <a:ext cx="237816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Param_Nam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  <a:ea typeface="Arial"/>
                              </a:rPr>
                              <a:t> clock_speed_Hz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sp>
                        <p:nvSpPr>
                          <p:cNvPr id="289" name="AutoShape 15"/>
                          <p:cNvSpPr/>
                          <p:nvPr/>
                        </p:nvSpPr>
                        <p:spPr>
                          <a:xfrm>
                            <a:off x="6850080" y="4145040"/>
                            <a:ext cx="1981080" cy="33516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5000" bIns="45000" anchor="ctr" anchorCtr="1">
                            <a:normAutofit/>
                          </a:bodyPr>
                          <a:p>
                            <a:pPr algn="ctr">
                              <a:lnSpc>
                                <a:spcPct val="100000"/>
                              </a:lnSpc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  <a:tab algn="l" pos="9601200"/>
                                <a:tab algn="l" pos="10058400"/>
                                <a:tab algn="l" pos="10515600"/>
                              </a:tabLst>
                            </a:pPr>
                            <a:r>
                              <a:rPr b="1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Default Value :</a:t>
                            </a:r>
                            <a:r>
                              <a:rPr b="0" lang="en-US" sz="1100" spc="-1" strike="noStrike">
                                <a:solidFill>
                                  <a:srgbClr val="000000"/>
                                </a:solidFill>
                                <a:latin typeface="Bitstream Charter"/>
                              </a:rPr>
                              <a:t> 2 (KHz)</a:t>
                            </a:r>
                            <a:endParaRPr b="0" lang="en-US" sz="11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290" name="AutoShape 6"/>
                      <p:cNvSpPr/>
                      <p:nvPr/>
                    </p:nvSpPr>
                    <p:spPr>
                      <a:xfrm>
                        <a:off x="5716440" y="4669200"/>
                        <a:ext cx="1827000" cy="364680"/>
                      </a:xfrm>
                      <a:prstGeom prst="roundRect">
                        <a:avLst>
                          <a:gd name="adj" fmla="val 426"/>
                        </a:avLst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5000" bIns="45000" anchor="ctr" anchorCtr="1">
                        <a:normAutofit fontScale="64000"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457200"/>
                            <a:tab algn="l" pos="914400"/>
                            <a:tab algn="l" pos="1371600"/>
                            <a:tab algn="l" pos="1828800"/>
                            <a:tab algn="l" pos="2286000"/>
                            <a:tab algn="l" pos="2743200"/>
                            <a:tab algn="l" pos="3200400"/>
                            <a:tab algn="l" pos="3657600"/>
                            <a:tab algn="l" pos="4114800"/>
                            <a:tab algn="l" pos="4572000"/>
                            <a:tab algn="l" pos="5029200"/>
                            <a:tab algn="l" pos="5486400"/>
                            <a:tab algn="l" pos="5943600"/>
                            <a:tab algn="l" pos="6400800"/>
                            <a:tab algn="l" pos="6858000"/>
                            <a:tab algn="l" pos="7315200"/>
                            <a:tab algn="l" pos="7772400"/>
                            <a:tab algn="l" pos="8229600"/>
                            <a:tab algn="l" pos="8686800"/>
                            <a:tab algn="l" pos="9144000"/>
                            <a:tab algn="l" pos="9601200"/>
                            <a:tab algn="l" pos="10058400"/>
                            <a:tab algn="l" pos="10515600"/>
                          </a:tabLst>
                        </a:pP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Instance#2</a:t>
                        </a:r>
                        <a:br>
                          <a:rPr sz="1400"/>
                        </a:br>
                        <a:r>
                          <a:rPr b="1" lang="en-US" sz="1400" spc="-1" strike="noStrike">
                            <a:solidFill>
                              <a:srgbClr val="000000"/>
                            </a:solidFill>
                            <a:latin typeface="Bitstream Charter"/>
                          </a:rPr>
                          <a:t>Parameter_Owner</a:t>
                        </a:r>
                        <a:endParaRPr b="0" lang="en-US" sz="1400" spc="-1" strike="noStrike">
                          <a:solidFill>
                            <a:srgbClr val="ffffff"/>
                          </a:solidFill>
                          <a:latin typeface="Calibri"/>
                        </a:endParaRPr>
                      </a:p>
                    </p:txBody>
                  </p:sp>
                </p:grpSp>
              </p:grpSp>
              <p:sp>
                <p:nvSpPr>
                  <p:cNvPr id="291" name="Oval 26"/>
                  <p:cNvSpPr/>
                  <p:nvPr/>
                </p:nvSpPr>
                <p:spPr>
                  <a:xfrm>
                    <a:off x="4495680" y="4130640"/>
                    <a:ext cx="2354400" cy="365040"/>
                  </a:xfrm>
                  <a:prstGeom prst="ellipse">
                    <a:avLst/>
                  </a:prstGeom>
                  <a:noFill/>
                  <a:ln w="255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292" name="AutoShape 15"/>
                <p:cNvSpPr/>
                <p:nvPr/>
              </p:nvSpPr>
              <p:spPr>
                <a:xfrm>
                  <a:off x="7010280" y="4191120"/>
                  <a:ext cx="167652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Old Value :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 1000 (Hz)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93" name="Oval 25"/>
              <p:cNvSpPr/>
              <p:nvPr/>
            </p:nvSpPr>
            <p:spPr>
              <a:xfrm>
                <a:off x="380880" y="4100400"/>
                <a:ext cx="2057400" cy="4413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294" name="Group 25"/>
            <p:cNvGrpSpPr/>
            <p:nvPr/>
          </p:nvGrpSpPr>
          <p:grpSpPr>
            <a:xfrm>
              <a:off x="1409400" y="3429000"/>
              <a:ext cx="4264200" cy="704880"/>
              <a:chOff x="1409400" y="3429000"/>
              <a:chExt cx="4264200" cy="704880"/>
            </a:xfrm>
          </p:grpSpPr>
          <p:cxnSp>
            <p:nvCxnSpPr>
              <p:cNvPr id="295" name="Curved Connector 10"/>
              <p:cNvCxnSpPr>
                <a:stCxn id="293" idx="0"/>
                <a:endCxn id="296" idx="1"/>
              </p:cNvCxnSpPr>
              <p:nvPr/>
            </p:nvCxnSpPr>
            <p:spPr>
              <a:xfrm flipH="1" flipV="1" rot="5400000">
                <a:off x="1937160" y="3052800"/>
                <a:ext cx="506880" cy="156276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  <p:sp>
            <p:nvSpPr>
              <p:cNvPr id="296" name="AutoShape 15"/>
              <p:cNvSpPr/>
              <p:nvPr/>
            </p:nvSpPr>
            <p:spPr>
              <a:xfrm>
                <a:off x="2971800" y="3429000"/>
                <a:ext cx="1828800" cy="303120"/>
              </a:xfrm>
              <a:prstGeom prst="roundRect">
                <a:avLst>
                  <a:gd name="adj" fmla="val 46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Bitstream Charter"/>
                  </a:rPr>
                  <a:t>param_value_sync</a:t>
                </a:r>
                <a:endParaRPr b="0" lang="en-US" sz="11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cxnSp>
            <p:nvCxnSpPr>
              <p:cNvPr id="297" name="Curved Connector 10"/>
              <p:cNvCxnSpPr>
                <a:stCxn id="296" idx="3"/>
                <a:endCxn id="291" idx="0"/>
              </p:cNvCxnSpPr>
              <p:nvPr/>
            </p:nvCxnSpPr>
            <p:spPr>
              <a:xfrm>
                <a:off x="4800240" y="3580920"/>
                <a:ext cx="873720" cy="553320"/>
              </a:xfrm>
              <a:prstGeom prst="curvedConnector2">
                <a:avLst/>
              </a:prstGeom>
              <a:ln w="19080">
                <a:solidFill>
                  <a:srgbClr val="00b050"/>
                </a:solidFill>
                <a:prstDash val="sysDash"/>
                <a:miter/>
                <a:headEnd len="lg" type="triangle" w="lg"/>
                <a:tailEnd len="lg" type="triangle" w="lg"/>
              </a:ln>
            </p:spPr>
          </p:cxnSp>
        </p:grpSp>
      </p:grpSp>
      <p:grpSp>
        <p:nvGrpSpPr>
          <p:cNvPr id="298" name="Group 3"/>
          <p:cNvGrpSpPr/>
          <p:nvPr/>
        </p:nvGrpSpPr>
        <p:grpSpPr>
          <a:xfrm>
            <a:off x="1143000" y="1219320"/>
            <a:ext cx="7010280" cy="860400"/>
            <a:chOff x="1143000" y="1219320"/>
            <a:chExt cx="7010280" cy="860400"/>
          </a:xfrm>
        </p:grpSpPr>
        <p:sp>
          <p:nvSpPr>
            <p:cNvPr id="299" name="AutoShape 5"/>
            <p:cNvSpPr/>
            <p:nvPr/>
          </p:nvSpPr>
          <p:spPr>
            <a:xfrm>
              <a:off x="3581280" y="1702440"/>
              <a:ext cx="236196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AutoShape 23"/>
            <p:cNvSpPr/>
            <p:nvPr/>
          </p:nvSpPr>
          <p:spPr>
            <a:xfrm>
              <a:off x="1143000" y="1219320"/>
              <a:ext cx="7010280" cy="4575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cc00cc"/>
                  </a:solidFill>
                  <a:latin typeface="Bitstream Charter"/>
                </a:rPr>
                <a:t>Within BEOE phase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k_freq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5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01" name="Curved Connector 9"/>
          <p:cNvCxnSpPr>
            <a:stCxn id="300" idx="1"/>
            <a:endCxn id="293" idx="0"/>
          </p:cNvCxnSpPr>
          <p:nvPr/>
        </p:nvCxnSpPr>
        <p:spPr>
          <a:xfrm flipH="1" flipV="1" rot="10800000">
            <a:off x="1141560" y="1446840"/>
            <a:ext cx="267120" cy="2640600"/>
          </a:xfrm>
          <a:prstGeom prst="curvedConnector5">
            <a:avLst>
              <a:gd name="adj1" fmla="val -85695"/>
              <a:gd name="adj2" fmla="val 27297"/>
              <a:gd name="adj3" fmla="val -85695"/>
            </a:avLst>
          </a:prstGeom>
          <a:ln w="19080">
            <a:solidFill>
              <a:srgbClr val="7030a0"/>
            </a:solidFill>
            <a:miter/>
            <a:tailEnd len="med" type="arrow" w="med"/>
          </a:ln>
        </p:spPr>
      </p:cxnSp>
      <p:grpSp>
        <p:nvGrpSpPr>
          <p:cNvPr id="302" name="Group 15"/>
          <p:cNvGrpSpPr/>
          <p:nvPr/>
        </p:nvGrpSpPr>
        <p:grpSpPr>
          <a:xfrm>
            <a:off x="2514600" y="4114800"/>
            <a:ext cx="1828800" cy="457200"/>
            <a:chOff x="2514600" y="4114800"/>
            <a:chExt cx="1828800" cy="457200"/>
          </a:xfrm>
        </p:grpSpPr>
        <p:sp>
          <p:nvSpPr>
            <p:cNvPr id="303" name="AutoShape 15"/>
            <p:cNvSpPr/>
            <p:nvPr/>
          </p:nvSpPr>
          <p:spPr>
            <a:xfrm>
              <a:off x="251460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Oval 39"/>
            <p:cNvSpPr/>
            <p:nvPr/>
          </p:nvSpPr>
          <p:spPr>
            <a:xfrm>
              <a:off x="251460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05" name="AutoShape 5"/>
          <p:cNvSpPr/>
          <p:nvPr/>
        </p:nvSpPr>
        <p:spPr>
          <a:xfrm>
            <a:off x="1752480" y="2441520"/>
            <a:ext cx="6323040" cy="45396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06" name="AutoShape 42"/>
          <p:cNvCxnSpPr>
            <a:stCxn id="296" idx="0"/>
            <a:endCxn id="305" idx="2"/>
          </p:cNvCxnSpPr>
          <p:nvPr/>
        </p:nvCxnSpPr>
        <p:spPr>
          <a:xfrm flipV="1">
            <a:off x="3886200" y="2895120"/>
            <a:ext cx="102960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307" name="Group 15"/>
          <p:cNvGrpSpPr/>
          <p:nvPr/>
        </p:nvGrpSpPr>
        <p:grpSpPr>
          <a:xfrm>
            <a:off x="6934320" y="4114800"/>
            <a:ext cx="1828800" cy="457200"/>
            <a:chOff x="6934320" y="4114800"/>
            <a:chExt cx="1828800" cy="457200"/>
          </a:xfrm>
        </p:grpSpPr>
        <p:sp>
          <p:nvSpPr>
            <p:cNvPr id="308" name="AutoShape 15"/>
            <p:cNvSpPr/>
            <p:nvPr/>
          </p:nvSpPr>
          <p:spPr>
            <a:xfrm>
              <a:off x="6934320" y="419076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5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Oval 39"/>
            <p:cNvSpPr/>
            <p:nvPr/>
          </p:nvSpPr>
          <p:spPr>
            <a:xfrm>
              <a:off x="6934320" y="4114800"/>
              <a:ext cx="1752840" cy="457200"/>
            </a:xfrm>
            <a:prstGeom prst="ellipse">
              <a:avLst/>
            </a:prstGeom>
            <a:noFill/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10" name="Rectangle 50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23"/>
          <p:cNvGrpSpPr/>
          <p:nvPr/>
        </p:nvGrpSpPr>
        <p:grpSpPr>
          <a:xfrm>
            <a:off x="76320" y="3581280"/>
            <a:ext cx="8961480" cy="2574720"/>
            <a:chOff x="76320" y="3581280"/>
            <a:chExt cx="8961480" cy="2574720"/>
          </a:xfrm>
        </p:grpSpPr>
        <p:grpSp>
          <p:nvGrpSpPr>
            <p:cNvPr id="313" name="Group 92"/>
            <p:cNvGrpSpPr/>
            <p:nvPr/>
          </p:nvGrpSpPr>
          <p:grpSpPr>
            <a:xfrm>
              <a:off x="76320" y="3581280"/>
              <a:ext cx="8961480" cy="2574720"/>
              <a:chOff x="76320" y="3581280"/>
              <a:chExt cx="8961480" cy="2574720"/>
            </a:xfrm>
          </p:grpSpPr>
          <p:grpSp>
            <p:nvGrpSpPr>
              <p:cNvPr id="314" name="Group 93"/>
              <p:cNvGrpSpPr/>
              <p:nvPr/>
            </p:nvGrpSpPr>
            <p:grpSpPr>
              <a:xfrm>
                <a:off x="76320" y="3581280"/>
                <a:ext cx="8961480" cy="2574720"/>
                <a:chOff x="76320" y="3581280"/>
                <a:chExt cx="8961480" cy="2574720"/>
              </a:xfrm>
            </p:grpSpPr>
            <p:grpSp>
              <p:nvGrpSpPr>
                <p:cNvPr id="315" name="Group 94"/>
                <p:cNvGrpSpPr/>
                <p:nvPr/>
              </p:nvGrpSpPr>
              <p:grpSpPr>
                <a:xfrm>
                  <a:off x="76320" y="3581280"/>
                  <a:ext cx="8961480" cy="2574720"/>
                  <a:chOff x="76320" y="3581280"/>
                  <a:chExt cx="8961480" cy="2574720"/>
                </a:xfrm>
              </p:grpSpPr>
              <p:grpSp>
                <p:nvGrpSpPr>
                  <p:cNvPr id="316" name="Group 95"/>
                  <p:cNvGrpSpPr/>
                  <p:nvPr/>
                </p:nvGrpSpPr>
                <p:grpSpPr>
                  <a:xfrm>
                    <a:off x="76320" y="3581280"/>
                    <a:ext cx="8961480" cy="2574720"/>
                    <a:chOff x="76320" y="3581280"/>
                    <a:chExt cx="8961480" cy="2574720"/>
                  </a:xfrm>
                </p:grpSpPr>
                <p:grpSp>
                  <p:nvGrpSpPr>
                    <p:cNvPr id="317" name="Group 96"/>
                    <p:cNvGrpSpPr/>
                    <p:nvPr/>
                  </p:nvGrpSpPr>
                  <p:grpSpPr>
                    <a:xfrm>
                      <a:off x="76320" y="3581280"/>
                      <a:ext cx="8961480" cy="2574720"/>
                      <a:chOff x="76320" y="3581280"/>
                      <a:chExt cx="8961480" cy="2574720"/>
                    </a:xfrm>
                  </p:grpSpPr>
                  <p:grpSp>
                    <p:nvGrpSpPr>
                      <p:cNvPr id="318" name="Group 1"/>
                      <p:cNvGrpSpPr/>
                      <p:nvPr/>
                    </p:nvGrpSpPr>
                    <p:grpSpPr>
                      <a:xfrm>
                        <a:off x="76320" y="3581280"/>
                        <a:ext cx="8961480" cy="2574720"/>
                        <a:chOff x="76320" y="3581280"/>
                        <a:chExt cx="8961480" cy="2574720"/>
                      </a:xfrm>
                    </p:grpSpPr>
                    <p:sp>
                      <p:nvSpPr>
                        <p:cNvPr id="319" name="AutoShape 3"/>
                        <p:cNvSpPr/>
                        <p:nvPr/>
                      </p:nvSpPr>
                      <p:spPr>
                        <a:xfrm>
                          <a:off x="76320" y="3581280"/>
                          <a:ext cx="8961480" cy="2041560"/>
                        </a:xfrm>
                        <a:prstGeom prst="roundRect">
                          <a:avLst>
                            <a:gd name="adj" fmla="val 134"/>
                          </a:avLst>
                        </a:pr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  <p:sp>
                      <p:nvSpPr>
                        <p:cNvPr id="320" name="AutoShape 8"/>
                        <p:cNvSpPr/>
                        <p:nvPr/>
                      </p:nvSpPr>
                      <p:spPr>
                        <a:xfrm>
                          <a:off x="3961080" y="5645880"/>
                          <a:ext cx="1601640" cy="51012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/>
                        </a:bodyPr>
                        <a:p>
                          <a:pPr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Top_Module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1" name="Group 32"/>
                      <p:cNvGrpSpPr/>
                      <p:nvPr/>
                    </p:nvGrpSpPr>
                    <p:grpSpPr>
                      <a:xfrm>
                        <a:off x="304920" y="4375080"/>
                        <a:ext cx="4030560" cy="963360"/>
                        <a:chOff x="304920" y="4375080"/>
                        <a:chExt cx="4030560" cy="963360"/>
                      </a:xfrm>
                    </p:grpSpPr>
                    <p:grpSp>
                      <p:nvGrpSpPr>
                        <p:cNvPr id="322" name="Group 29"/>
                        <p:cNvGrpSpPr/>
                        <p:nvPr/>
                      </p:nvGrpSpPr>
                      <p:grpSpPr>
                        <a:xfrm>
                          <a:off x="304920" y="4375080"/>
                          <a:ext cx="4030560" cy="523800"/>
                          <a:chOff x="304920" y="4375080"/>
                          <a:chExt cx="4030560" cy="523800"/>
                        </a:xfrm>
                      </p:grpSpPr>
                      <p:sp>
                        <p:nvSpPr>
                          <p:cNvPr id="323" name="AutoShape 11"/>
                          <p:cNvSpPr/>
                          <p:nvPr/>
                        </p:nvSpPr>
                        <p:spPr>
                          <a:xfrm>
                            <a:off x="304920" y="4375080"/>
                            <a:ext cx="403056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24" name="Group 28"/>
                          <p:cNvGrpSpPr/>
                          <p:nvPr/>
                        </p:nvGrpSpPr>
                        <p:grpSpPr>
                          <a:xfrm>
                            <a:off x="449280" y="4474440"/>
                            <a:ext cx="3741840" cy="293400"/>
                            <a:chOff x="449280" y="4474440"/>
                            <a:chExt cx="3741840" cy="293400"/>
                          </a:xfrm>
                        </p:grpSpPr>
                        <p:sp>
                          <p:nvSpPr>
                            <p:cNvPr id="325" name="AutoShape 12"/>
                            <p:cNvSpPr/>
                            <p:nvPr/>
                          </p:nvSpPr>
                          <p:spPr>
                            <a:xfrm>
                              <a:off x="449280" y="4474440"/>
                              <a:ext cx="198936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k_freq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26" name="AutoShape 15"/>
                            <p:cNvSpPr/>
                            <p:nvPr/>
                          </p:nvSpPr>
                          <p:spPr>
                            <a:xfrm>
                              <a:off x="2362320" y="4474440"/>
                              <a:ext cx="1828800" cy="2934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 fontScale="96000"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1000 (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27" name="AutoShape 6"/>
                        <p:cNvSpPr/>
                        <p:nvPr/>
                      </p:nvSpPr>
                      <p:spPr>
                        <a:xfrm>
                          <a:off x="122076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1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  <p:grpSp>
                    <p:nvGrpSpPr>
                      <p:cNvPr id="328" name="Group 2"/>
                      <p:cNvGrpSpPr/>
                      <p:nvPr/>
                    </p:nvGrpSpPr>
                    <p:grpSpPr>
                      <a:xfrm>
                        <a:off x="4419720" y="4375080"/>
                        <a:ext cx="4411440" cy="963360"/>
                        <a:chOff x="4419720" y="4375080"/>
                        <a:chExt cx="4411440" cy="963360"/>
                      </a:xfrm>
                    </p:grpSpPr>
                    <p:grpSp>
                      <p:nvGrpSpPr>
                        <p:cNvPr id="329" name="Group 31"/>
                        <p:cNvGrpSpPr/>
                        <p:nvPr/>
                      </p:nvGrpSpPr>
                      <p:grpSpPr>
                        <a:xfrm>
                          <a:off x="4419720" y="4375080"/>
                          <a:ext cx="4411440" cy="523800"/>
                          <a:chOff x="4419720" y="4375080"/>
                          <a:chExt cx="4411440" cy="523800"/>
                        </a:xfrm>
                      </p:grpSpPr>
                      <p:sp>
                        <p:nvSpPr>
                          <p:cNvPr id="330" name="AutoShape 11"/>
                          <p:cNvSpPr/>
                          <p:nvPr/>
                        </p:nvSpPr>
                        <p:spPr>
                          <a:xfrm>
                            <a:off x="4419720" y="4375080"/>
                            <a:ext cx="4411440" cy="523800"/>
                          </a:xfrm>
                          <a:prstGeom prst="roundRect">
                            <a:avLst>
                              <a:gd name="adj" fmla="val 120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457200"/>
                                <a:tab algn="l" pos="914400"/>
                                <a:tab algn="l" pos="1371600"/>
                                <a:tab algn="l" pos="1828800"/>
                                <a:tab algn="l" pos="2286000"/>
                                <a:tab algn="l" pos="2743200"/>
                                <a:tab algn="l" pos="3200400"/>
                                <a:tab algn="l" pos="3657600"/>
                                <a:tab algn="l" pos="4114800"/>
                                <a:tab algn="l" pos="4572000"/>
                                <a:tab algn="l" pos="5029200"/>
                                <a:tab algn="l" pos="5486400"/>
                                <a:tab algn="l" pos="5943600"/>
                                <a:tab algn="l" pos="6400800"/>
                                <a:tab algn="l" pos="6858000"/>
                                <a:tab algn="l" pos="7315200"/>
                                <a:tab algn="l" pos="7772400"/>
                                <a:tab algn="l" pos="8229600"/>
                                <a:tab algn="l" pos="8686800"/>
                                <a:tab algn="l" pos="91440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Calibri"/>
                            </a:endParaRPr>
                          </a:p>
                        </p:txBody>
                      </p:sp>
                      <p:grpSp>
                        <p:nvGrpSpPr>
                          <p:cNvPr id="331" name="Group 30"/>
                          <p:cNvGrpSpPr/>
                          <p:nvPr/>
                        </p:nvGrpSpPr>
                        <p:grpSpPr>
                          <a:xfrm>
                            <a:off x="4556160" y="4449600"/>
                            <a:ext cx="4275000" cy="335160"/>
                            <a:chOff x="4556160" y="4449600"/>
                            <a:chExt cx="4275000" cy="335160"/>
                          </a:xfrm>
                        </p:grpSpPr>
                        <p:sp>
                          <p:nvSpPr>
                            <p:cNvPr id="332" name="AutoShape 12"/>
                            <p:cNvSpPr/>
                            <p:nvPr/>
                          </p:nvSpPr>
                          <p:spPr>
                            <a:xfrm>
                              <a:off x="4556160" y="4449600"/>
                              <a:ext cx="237816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Param_Nam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  <a:ea typeface="Arial"/>
                                </a:rPr>
                                <a:t> clock_speed_Hz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  <p:sp>
                          <p:nvSpPr>
                            <p:cNvPr id="333" name="AutoShape 15"/>
                            <p:cNvSpPr/>
                            <p:nvPr/>
                          </p:nvSpPr>
                          <p:spPr>
                            <a:xfrm>
                              <a:off x="6850080" y="4449600"/>
                              <a:ext cx="1981080" cy="33516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5000" bIns="45000" anchor="ctr" anchorCtr="1">
                              <a:normAutofit/>
                            </a:bodyPr>
                            <a:p>
                              <a:pPr algn="ctr"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457200"/>
                                  <a:tab algn="l" pos="914400"/>
                                  <a:tab algn="l" pos="1371600"/>
                                  <a:tab algn="l" pos="1828800"/>
                                  <a:tab algn="l" pos="2286000"/>
                                  <a:tab algn="l" pos="2743200"/>
                                  <a:tab algn="l" pos="3200400"/>
                                  <a:tab algn="l" pos="3657600"/>
                                  <a:tab algn="l" pos="4114800"/>
                                  <a:tab algn="l" pos="4572000"/>
                                  <a:tab algn="l" pos="5029200"/>
                                  <a:tab algn="l" pos="5486400"/>
                                  <a:tab algn="l" pos="5943600"/>
                                  <a:tab algn="l" pos="6400800"/>
                                  <a:tab algn="l" pos="6858000"/>
                                  <a:tab algn="l" pos="7315200"/>
                                  <a:tab algn="l" pos="7772400"/>
                                  <a:tab algn="l" pos="8229600"/>
                                  <a:tab algn="l" pos="8686800"/>
                                  <a:tab algn="l" pos="9144000"/>
                                  <a:tab algn="l" pos="9601200"/>
                                  <a:tab algn="l" pos="10058400"/>
                                  <a:tab algn="l" pos="10515600"/>
                                </a:tabLst>
                              </a:pPr>
                              <a:r>
                                <a:rPr b="1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Default Value :</a:t>
                              </a:r>
                              <a:r>
                                <a:rPr b="0" lang="en-US" sz="1100" spc="-1" strike="noStrike">
                                  <a:solidFill>
                                    <a:srgbClr val="000000"/>
                                  </a:solidFill>
                                  <a:latin typeface="Bitstream Charter"/>
                                </a:rPr>
                                <a:t> 2 (KHz)</a:t>
                              </a:r>
                              <a:endParaRPr b="0" lang="en-US" sz="1100" spc="-1" strike="noStrike">
                                <a:solidFill>
                                  <a:srgbClr val="ffffff"/>
                                </a:solidFill>
                                <a:latin typeface="Calibri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34" name="AutoShape 6"/>
                        <p:cNvSpPr/>
                        <p:nvPr/>
                      </p:nvSpPr>
                      <p:spPr>
                        <a:xfrm>
                          <a:off x="5716440" y="4973760"/>
                          <a:ext cx="1827000" cy="364680"/>
                        </a:xfrm>
                        <a:prstGeom prst="roundRect">
                          <a:avLst>
                            <a:gd name="adj" fmla="val 426"/>
                          </a:avLst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5000" bIns="45000" anchor="ctr" anchorCtr="1">
                          <a:normAutofit fontScale="64000"/>
                        </a:bodyPr>
                        <a:p>
                          <a:pPr algn="ctr">
                            <a:lnSpc>
                              <a:spcPct val="100000"/>
                            </a:lnSpc>
                            <a:tabLst>
                              <a:tab algn="l" pos="0"/>
                              <a:tab algn="l" pos="457200"/>
                              <a:tab algn="l" pos="914400"/>
                              <a:tab algn="l" pos="1371600"/>
                              <a:tab algn="l" pos="1828800"/>
                              <a:tab algn="l" pos="2286000"/>
                              <a:tab algn="l" pos="2743200"/>
                              <a:tab algn="l" pos="3200400"/>
                              <a:tab algn="l" pos="3657600"/>
                              <a:tab algn="l" pos="4114800"/>
                              <a:tab algn="l" pos="4572000"/>
                              <a:tab algn="l" pos="5029200"/>
                              <a:tab algn="l" pos="5486400"/>
                              <a:tab algn="l" pos="5943600"/>
                              <a:tab algn="l" pos="6400800"/>
                              <a:tab algn="l" pos="6858000"/>
                              <a:tab algn="l" pos="7315200"/>
                              <a:tab algn="l" pos="7772400"/>
                              <a:tab algn="l" pos="8229600"/>
                              <a:tab algn="l" pos="8686800"/>
                              <a:tab algn="l" pos="9144000"/>
                              <a:tab algn="l" pos="9601200"/>
                              <a:tab algn="l" pos="10058400"/>
                              <a:tab algn="l" pos="10515600"/>
                            </a:tabLst>
                          </a:pP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Instance#2</a:t>
                          </a:r>
                          <a:br>
                            <a:rPr sz="1400"/>
                          </a:br>
                          <a:r>
                            <a:rPr b="1" lang="en-US" sz="1400" spc="-1" strike="noStrike">
                              <a:solidFill>
                                <a:srgbClr val="000000"/>
                              </a:solidFill>
                              <a:latin typeface="Bitstream Charter"/>
                            </a:rPr>
                            <a:t>Parameter_Owner</a:t>
                          </a:r>
                          <a:endParaRPr b="0" lang="en-US" sz="1400" spc="-1" strike="noStrike">
                            <a:solidFill>
                              <a:srgbClr val="ffffff"/>
                            </a:solidFill>
                            <a:latin typeface="Calibri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335" name="Oval 26"/>
                    <p:cNvSpPr/>
                    <p:nvPr/>
                  </p:nvSpPr>
                  <p:spPr>
                    <a:xfrm>
                      <a:off x="4495680" y="4435200"/>
                      <a:ext cx="2354400" cy="365040"/>
                    </a:xfrm>
                    <a:prstGeom prst="ellipse">
                      <a:avLst/>
                    </a:prstGeom>
                    <a:noFill/>
                    <a:ln w="255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336" name="AutoShape 15"/>
                  <p:cNvSpPr/>
                  <p:nvPr/>
                </p:nvSpPr>
                <p:spPr>
                  <a:xfrm>
                    <a:off x="7010280" y="4495680"/>
                    <a:ext cx="1676520" cy="303120"/>
                  </a:xfrm>
                  <a:prstGeom prst="roundRect">
                    <a:avLst>
                      <a:gd name="adj" fmla="val 463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ctr" anchorCtr="1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Old Value :</a:t>
                    </a: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Bitstream Charter"/>
                      </a:rPr>
                      <a:t> 1000 (Hz)</a:t>
                    </a:r>
                    <a:endParaRPr b="0" lang="en-US" sz="1100" spc="-1" strike="noStrike">
                      <a:solidFill>
                        <a:srgbClr val="ffffff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337" name="Oval 25"/>
                <p:cNvSpPr/>
                <p:nvPr/>
              </p:nvSpPr>
              <p:spPr>
                <a:xfrm>
                  <a:off x="380880" y="4404960"/>
                  <a:ext cx="2057400" cy="441360"/>
                </a:xfrm>
                <a:prstGeom prst="ellipse">
                  <a:avLst/>
                </a:prstGeom>
                <a:noFill/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8" name="Group 117"/>
              <p:cNvGrpSpPr/>
              <p:nvPr/>
            </p:nvGrpSpPr>
            <p:grpSpPr>
              <a:xfrm>
                <a:off x="1409400" y="3733560"/>
                <a:ext cx="4264200" cy="704880"/>
                <a:chOff x="1409400" y="3733560"/>
                <a:chExt cx="4264200" cy="704880"/>
              </a:xfrm>
            </p:grpSpPr>
            <p:cxnSp>
              <p:nvCxnSpPr>
                <p:cNvPr id="339" name="Curved Connector 10"/>
                <p:cNvCxnSpPr>
                  <a:stCxn id="337" idx="0"/>
                  <a:endCxn id="340" idx="1"/>
                </p:cNvCxnSpPr>
                <p:nvPr/>
              </p:nvCxnSpPr>
              <p:spPr>
                <a:xfrm flipH="1" flipV="1" rot="5400000">
                  <a:off x="1937160" y="3357360"/>
                  <a:ext cx="506880" cy="156276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  <p:sp>
              <p:nvSpPr>
                <p:cNvPr id="340" name="AutoShape 15"/>
                <p:cNvSpPr/>
                <p:nvPr/>
              </p:nvSpPr>
              <p:spPr>
                <a:xfrm>
                  <a:off x="2971800" y="3733560"/>
                  <a:ext cx="1828800" cy="303120"/>
                </a:xfrm>
                <a:prstGeom prst="roundRect">
                  <a:avLst>
                    <a:gd name="adj" fmla="val 463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ctr" anchorCtr="1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Bitstream Charter"/>
                    </a:rPr>
                    <a:t>param_value_sync</a:t>
                  </a:r>
                  <a:endParaRPr b="0" lang="en-US" sz="11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cxnSp>
              <p:nvCxnSpPr>
                <p:cNvPr id="341" name="Curved Connector 10"/>
                <p:cNvCxnSpPr>
                  <a:stCxn id="340" idx="3"/>
                  <a:endCxn id="335" idx="0"/>
                </p:cNvCxnSpPr>
                <p:nvPr/>
              </p:nvCxnSpPr>
              <p:spPr>
                <a:xfrm>
                  <a:off x="4800240" y="3885480"/>
                  <a:ext cx="873720" cy="553320"/>
                </a:xfrm>
                <a:prstGeom prst="curvedConnector2">
                  <a:avLst/>
                </a:prstGeom>
                <a:ln w="19080">
                  <a:solidFill>
                    <a:srgbClr val="00b050"/>
                  </a:solidFill>
                  <a:prstDash val="sysDash"/>
                  <a:miter/>
                  <a:headEnd len="lg" type="triangle" w="lg"/>
                  <a:tailEnd len="lg" type="triangle" w="lg"/>
                </a:ln>
              </p:spPr>
            </p:cxnSp>
          </p:grpSp>
        </p:grpSp>
        <p:sp>
          <p:nvSpPr>
            <p:cNvPr id="342" name="AutoShape 23"/>
            <p:cNvSpPr/>
            <p:nvPr/>
          </p:nvSpPr>
          <p:spPr>
            <a:xfrm>
              <a:off x="6934320" y="4572000"/>
              <a:ext cx="1676160" cy="15228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AutoShape 23"/>
            <p:cNvSpPr/>
            <p:nvPr/>
          </p:nvSpPr>
          <p:spPr>
            <a:xfrm>
              <a:off x="2514600" y="4495680"/>
              <a:ext cx="1676520" cy="22860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ld Value 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5000 (Hz)</a:t>
              </a:r>
              <a:endParaRPr b="0" lang="en-US" sz="12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44" name="Group 3"/>
          <p:cNvGrpSpPr/>
          <p:nvPr/>
        </p:nvGrpSpPr>
        <p:grpSpPr>
          <a:xfrm>
            <a:off x="1600200" y="1730520"/>
            <a:ext cx="6705720" cy="860400"/>
            <a:chOff x="1600200" y="1730520"/>
            <a:chExt cx="6705720" cy="860400"/>
          </a:xfrm>
        </p:grpSpPr>
        <p:sp>
          <p:nvSpPr>
            <p:cNvPr id="345" name="AutoShape 5"/>
            <p:cNvSpPr/>
            <p:nvPr/>
          </p:nvSpPr>
          <p:spPr>
            <a:xfrm>
              <a:off x="3562920" y="2213640"/>
              <a:ext cx="2535120" cy="377280"/>
            </a:xfrm>
            <a:prstGeom prst="roundRect">
              <a:avLst>
                <a:gd name="adj" fmla="val 426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Parameter_Configurator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AutoShape 23"/>
            <p:cNvSpPr/>
            <p:nvPr/>
          </p:nvSpPr>
          <p:spPr>
            <a:xfrm>
              <a:off x="1600200" y="1730520"/>
              <a:ext cx="6705720" cy="479160"/>
            </a:xfrm>
            <a:prstGeom prst="roundRect">
              <a:avLst>
                <a:gd name="adj" fmla="val 13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At 0ns, change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alue of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Bitstream Charter"/>
                </a:rPr>
                <a:t>clck_speed_Hz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 via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CONFIGURATOR </a:t>
              </a:r>
              <a:r>
                <a:rPr b="0" lang="en-US" sz="1400" spc="-1" strike="noStrike">
                  <a:solidFill>
                    <a:srgbClr val="000000"/>
                  </a:solidFill>
                  <a:latin typeface="Bitstream Charter"/>
                </a:rPr>
                <a:t>to </a:t>
              </a:r>
              <a:r>
                <a:rPr b="1" lang="en-US" sz="1400" spc="-1" strike="noStrike">
                  <a:solidFill>
                    <a:srgbClr val="000000"/>
                  </a:solidFill>
                  <a:latin typeface="Bitstream Charter"/>
                </a:rPr>
                <a:t>12000 (Hz)</a:t>
              </a:r>
              <a:endParaRPr b="0" lang="en-US" sz="14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47" name="AutoShape 23"/>
          <p:cNvSpPr/>
          <p:nvPr/>
        </p:nvSpPr>
        <p:spPr>
          <a:xfrm>
            <a:off x="2971800" y="1066680"/>
            <a:ext cx="3581280" cy="457200"/>
          </a:xfrm>
          <a:prstGeom prst="roundRect">
            <a:avLst>
              <a:gd name="adj" fmla="val 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Simulation starts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AutoShape 5"/>
          <p:cNvSpPr/>
          <p:nvPr/>
        </p:nvSpPr>
        <p:spPr>
          <a:xfrm>
            <a:off x="1600200" y="2822400"/>
            <a:ext cx="6323040" cy="454320"/>
          </a:xfrm>
          <a:prstGeom prst="roundRect">
            <a:avLst>
              <a:gd name="adj" fmla="val 42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Registered Callback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for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parameter is called and 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k_freq_Hz</a:t>
            </a: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value is synchronized with the </a:t>
            </a:r>
            <a:r>
              <a:rPr b="1" i="1" lang="en-US" sz="1400" spc="-1" strike="noStrike">
                <a:solidFill>
                  <a:srgbClr val="000000"/>
                </a:solidFill>
                <a:latin typeface="Bitstream Charter"/>
              </a:rPr>
              <a:t>clock_speed_Hz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value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349" name="Curved Connector 9"/>
          <p:cNvCxnSpPr>
            <a:stCxn id="346" idx="3"/>
            <a:endCxn id="335" idx="0"/>
          </p:cNvCxnSpPr>
          <p:nvPr/>
        </p:nvCxnSpPr>
        <p:spPr>
          <a:xfrm flipH="1">
            <a:off x="5673240" y="1969560"/>
            <a:ext cx="2633040" cy="2453400"/>
          </a:xfrm>
          <a:prstGeom prst="curvedConnector5">
            <a:avLst>
              <a:gd name="adj1" fmla="val -8683"/>
              <a:gd name="adj2" fmla="val 27560"/>
              <a:gd name="adj3" fmla="val -8683"/>
            </a:avLst>
          </a:prstGeom>
          <a:ln w="19080">
            <a:solidFill>
              <a:srgbClr val="92823e"/>
            </a:solidFill>
            <a:miter/>
            <a:tailEnd len="med" type="arrow" w="med"/>
          </a:ln>
        </p:spPr>
      </p:cxnSp>
      <p:grpSp>
        <p:nvGrpSpPr>
          <p:cNvPr id="350" name="Group 46"/>
          <p:cNvGrpSpPr/>
          <p:nvPr/>
        </p:nvGrpSpPr>
        <p:grpSpPr>
          <a:xfrm>
            <a:off x="6934320" y="4419720"/>
            <a:ext cx="1828800" cy="457200"/>
            <a:chOff x="6934320" y="4419720"/>
            <a:chExt cx="1828800" cy="457200"/>
          </a:xfrm>
        </p:grpSpPr>
        <p:sp>
          <p:nvSpPr>
            <p:cNvPr id="351" name="AutoShape 15"/>
            <p:cNvSpPr/>
            <p:nvPr/>
          </p:nvSpPr>
          <p:spPr>
            <a:xfrm>
              <a:off x="693432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Oval 48"/>
            <p:cNvSpPr/>
            <p:nvPr/>
          </p:nvSpPr>
          <p:spPr>
            <a:xfrm>
              <a:off x="693432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353" name="Group 46"/>
          <p:cNvGrpSpPr/>
          <p:nvPr/>
        </p:nvGrpSpPr>
        <p:grpSpPr>
          <a:xfrm>
            <a:off x="2514600" y="4419720"/>
            <a:ext cx="1828800" cy="457200"/>
            <a:chOff x="2514600" y="4419720"/>
            <a:chExt cx="1828800" cy="457200"/>
          </a:xfrm>
        </p:grpSpPr>
        <p:sp>
          <p:nvSpPr>
            <p:cNvPr id="354" name="AutoShape 15"/>
            <p:cNvSpPr/>
            <p:nvPr/>
          </p:nvSpPr>
          <p:spPr>
            <a:xfrm>
              <a:off x="2514600" y="4495680"/>
              <a:ext cx="1828800" cy="303120"/>
            </a:xfrm>
            <a:prstGeom prst="roundRect">
              <a:avLst>
                <a:gd name="adj" fmla="val 46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Bitstream Charter"/>
                </a:rPr>
                <a:t>New Value :</a:t>
              </a:r>
              <a:r>
                <a:rPr b="0" lang="en-US" sz="1100" spc="-1" strike="noStrike">
                  <a:solidFill>
                    <a:srgbClr val="000000"/>
                  </a:solidFill>
                  <a:latin typeface="Bitstream Charter"/>
                </a:rPr>
                <a:t> 12000 (Hz)</a:t>
              </a:r>
              <a:endParaRPr b="0" lang="en-US" sz="11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Oval 48"/>
            <p:cNvSpPr/>
            <p:nvPr/>
          </p:nvSpPr>
          <p:spPr>
            <a:xfrm>
              <a:off x="2514600" y="4419720"/>
              <a:ext cx="1752840" cy="457200"/>
            </a:xfrm>
            <a:prstGeom prst="ellipse">
              <a:avLst/>
            </a:prstGeom>
            <a:noFill/>
            <a:ln w="25560">
              <a:solidFill>
                <a:srgbClr val="9282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cxnSp>
        <p:nvCxnSpPr>
          <p:cNvPr id="356" name="AutoShape 130"/>
          <p:cNvCxnSpPr>
            <a:stCxn id="340" idx="0"/>
          </p:cNvCxnSpPr>
          <p:nvPr/>
        </p:nvCxnSpPr>
        <p:spPr>
          <a:xfrm flipV="1">
            <a:off x="3886200" y="3276360"/>
            <a:ext cx="838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7" name="Rectangle 13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itle 1"/>
          <p:cNvSpPr/>
          <p:nvPr/>
        </p:nvSpPr>
        <p:spPr>
          <a:xfrm>
            <a:off x="141120" y="46080"/>
            <a:ext cx="889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DejaVu Sans"/>
              </a:rPr>
              <a:t>Example Illustration Cont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11_Searching_and_Directly_Associateing_Parameters.lo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0880" y="12193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1: @0 s, [OWNER C_TOR] : Parameter Name   : top_mod.param_owner1.clk_freq_Hz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owner2: @0 s, [OWNER C_TOR] : Parameter Name   : top_mod.param_owner2.clock_speed_Hz  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1.clk_freq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: @0 s, [TOP_MODULE C_TOR] : Parameter Name : top_mod.param_owner2.clock_speed_Hz  Parameter Value :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1.clk_freq_Hz   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eter Name : top_mod.param_owner2.clock_speed_Hz Parameter Value : 1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Within the BEOE 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Changing the 'clk_freq_Hz' of OWNER (1) to 5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090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0880" y="1514520"/>
            <a:ext cx="86868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1.clk_freq_Hz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within beoe] : Parameter Name : top_mod.param_owner2.clock_speed_Hz   Parameter Value : 5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Changing the 'clock_speed_Hz' of OWNER (2) to 12000 (Hz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2.clock_speed_Hz 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top_mod.param_value_sync: @0 s, [PARAM_VALUE_SYNC - post_write callback] : Parameter Name : top_mod.param_owner1.clk_freq_Hz 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1.clk_freq_Hz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eter Name : top_mod.param_owner2.clock_speed_Hz   Parameter Value : 1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</dc:creator>
  <dc:description/>
  <cp:keywords>CTPClassification=CTP_IC:VisualMarkings=</cp:keywords>
  <dc:language>en-US</dc:language>
  <cp:lastModifiedBy>Wieman, Trevor</cp:lastModifiedBy>
  <cp:lastPrinted>2017-02-05T20:28:14Z</cp:lastPrinted>
  <dcterms:modified xsi:type="dcterms:W3CDTF">2017-12-16T22:24:22Z</dcterms:modified>
  <cp:revision>25</cp:revision>
  <dc:subject/>
  <dc:title>ex11_Searching_and_Directly_Associating_Paramet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6 22:24:21Z</vt:lpwstr>
  </property>
  <property fmtid="{D5CDD505-2E9C-101B-9397-08002B2CF9AE}" pid="5" name="TitusGUID">
    <vt:lpwstr>3cb855b7-0950-486a-ab41-5d5a221903ba</vt:lpwstr>
  </property>
</Properties>
</file>