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F8E8-A823-497A-B900-BC6C59603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C845-4E4A-4730-A662-02AF364D7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93E3-73E8-44A1-9C84-6BA93C4D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24FB-0859-411B-9C34-6364C6BE5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1E95-236C-47E5-BE24-C6985D474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8871-3AA5-416D-8841-5ACB632E0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F85D-EE06-459A-8DFB-E14B6EC2B7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477DF-BA7E-460E-A100-F7EDB71F71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92B5-04BE-435B-B9B3-B7E02BC9E4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7BA9-8B08-46F3-8300-05CB7E7B8C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5D8D-5F63-4AB3-803A-E89EA5443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23CA-782C-4199-8A16-AF9B222BB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F383-A94D-4A68-BDDC-F0145F657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D31D-96EE-46FF-AF42-CC91B18F4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A6D3-140B-476C-B464-6C338D10D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B4FB-CE48-4E77-B3A5-735FCFA98C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40EDC-17F3-430B-B53C-43EE9F0A3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67459-2FAC-43C0-9F0B-0AEF01A29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3444-E7B0-42D8-B6B6-5F2378D9E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Destruction Resurrection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OSCI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nal Podda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ember 201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Resurrection of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464840"/>
            <a:ext cx="86868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ever a parameter is destructed, all handles to that parameter are no longer valid and should not be us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rameter can be resurrected by the owner module and can be initialized to a new valu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makes the parameter handle valid again and usage can resu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that a parameter can be resurrected from the owner module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43160" y="36482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19040" y="4815000"/>
            <a:ext cx="1486440" cy="155160"/>
            <a:chOff x="3119040" y="48150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40280" y="48150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19040" y="49665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27040" y="3741840"/>
            <a:ext cx="15573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43160" y="4361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Folded Corner 41"/>
          <p:cNvSpPr/>
          <p:nvPr/>
        </p:nvSpPr>
        <p:spPr>
          <a:xfrm>
            <a:off x="3157560" y="1776240"/>
            <a:ext cx="2722680" cy="297000"/>
          </a:xfrm>
          <a:prstGeom prst="foldedCorner">
            <a:avLst>
              <a:gd name="adj" fmla="val 0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*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2"/>
          <p:cNvSpPr/>
          <p:nvPr/>
        </p:nvSpPr>
        <p:spPr>
          <a:xfrm>
            <a:off x="3205080" y="4452840"/>
            <a:ext cx="1629000" cy="2826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int_param_ptr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Folded Corner 42"/>
          <p:cNvSpPr/>
          <p:nvPr/>
        </p:nvSpPr>
        <p:spPr>
          <a:xfrm>
            <a:off x="3230640" y="3581280"/>
            <a:ext cx="336708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handle.set_cci_value(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Folded Corner 26"/>
          <p:cNvSpPr/>
          <p:nvPr/>
        </p:nvSpPr>
        <p:spPr>
          <a:xfrm>
            <a:off x="1432080" y="3087720"/>
            <a:ext cx="158256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1" name="Straight Arrow Connector 39"/>
          <p:cNvCxnSpPr/>
          <p:nvPr/>
        </p:nvCxnSpPr>
        <p:spPr>
          <a:xfrm flipH="1" flipV="1">
            <a:off x="3118680" y="39780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Folded Corner 42"/>
          <p:cNvSpPr/>
          <p:nvPr/>
        </p:nvSpPr>
        <p:spPr>
          <a:xfrm>
            <a:off x="3230640" y="266544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int_param_ptr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14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5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" name="Straight Arrow Connector 16"/>
          <p:cNvCxnSpPr>
            <a:stCxn id="117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" name="Straight Arrow Connector 17"/>
          <p:cNvCxnSpPr>
            <a:stCxn id="118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TextBox 27"/>
          <p:cNvSpPr/>
          <p:nvPr/>
        </p:nvSpPr>
        <p:spPr>
          <a:xfrm>
            <a:off x="443520" y="17762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5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28"/>
          <p:cNvSpPr/>
          <p:nvPr/>
        </p:nvSpPr>
        <p:spPr>
          <a:xfrm>
            <a:off x="443160" y="36590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9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Folded Corner 42"/>
          <p:cNvSpPr/>
          <p:nvPr/>
        </p:nvSpPr>
        <p:spPr>
          <a:xfrm>
            <a:off x="3287880" y="3716280"/>
            <a:ext cx="1457280" cy="284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 new value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443520" y="27446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60ns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Folded Corner 42"/>
          <p:cNvSpPr/>
          <p:nvPr/>
        </p:nvSpPr>
        <p:spPr>
          <a:xfrm>
            <a:off x="5259240" y="1859040"/>
            <a:ext cx="2627640" cy="4554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rm that the parameter handle of sim_ip.int_param is now inval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Folded Corner 26"/>
          <p:cNvSpPr/>
          <p:nvPr/>
        </p:nvSpPr>
        <p:spPr>
          <a:xfrm>
            <a:off x="1332000" y="3087720"/>
            <a:ext cx="16826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Folded Corner 42"/>
          <p:cNvSpPr/>
          <p:nvPr/>
        </p:nvSpPr>
        <p:spPr>
          <a:xfrm>
            <a:off x="3230640" y="2587680"/>
            <a:ext cx="2452680" cy="4334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_ptr = new cci_param&lt;int&gt;("int_param", -10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Group 35"/>
          <p:cNvGrpSpPr/>
          <p:nvPr/>
        </p:nvGrpSpPr>
        <p:grpSpPr>
          <a:xfrm>
            <a:off x="3119040" y="3079800"/>
            <a:ext cx="1486440" cy="155160"/>
            <a:chOff x="3119040" y="3079800"/>
            <a:chExt cx="1486440" cy="155160"/>
          </a:xfrm>
        </p:grpSpPr>
        <p:sp>
          <p:nvSpPr>
            <p:cNvPr id="131" name="Rectangle 32"/>
            <p:cNvSpPr/>
            <p:nvPr/>
          </p:nvSpPr>
          <p:spPr>
            <a:xfrm>
              <a:off x="3140280" y="30798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32" name="Straight Arrow Connector 34"/>
            <p:cNvCxnSpPr/>
            <p:nvPr/>
          </p:nvCxnSpPr>
          <p:spPr>
            <a:xfrm flipH="1" flipV="1">
              <a:off x="3119040" y="32313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33" name="Folded Corner 42"/>
          <p:cNvSpPr/>
          <p:nvPr/>
        </p:nvSpPr>
        <p:spPr>
          <a:xfrm>
            <a:off x="5259240" y="3413160"/>
            <a:ext cx="2562480" cy="6062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up the sim_ip.int_param handle again and confirm its validity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Straight Arrow Connector 39"/>
          <p:cNvCxnSpPr/>
          <p:nvPr/>
        </p:nvCxnSpPr>
        <p:spPr>
          <a:xfrm flipH="1" flipV="1">
            <a:off x="3118680" y="4071600"/>
            <a:ext cx="3313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5" name="Folded Corner 26"/>
          <p:cNvSpPr/>
          <p:nvPr/>
        </p:nvSpPr>
        <p:spPr>
          <a:xfrm>
            <a:off x="1332000" y="3728880"/>
            <a:ext cx="1657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*int_param_ptr = -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21_Param_Destruction_Resurrection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int_param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int_param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Current value of int_param is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30 ns, execute: Destroy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50 ns, execute: [EXTERNAL] Parameter handle of sim_ip.int_param is no more vali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@60 ns, execute: Resurrect sim_ip.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Parameter handle of sim_ip.int_param is valid aga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90 ns, execute: [EXTERNAL]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int_param is -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15:47:40Z</dcterms:modified>
  <cp:revision>170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7:40Z</vt:lpwstr>
  </property>
  <property fmtid="{D5CDD505-2E9C-101B-9397-08002B2CF9AE}" pid="5" name="TitusGUID">
    <vt:lpwstr>ea6cc5ed-1c1b-4aa0-91f1-9c2633a3b32b</vt:lpwstr>
  </property>
</Properties>
</file>