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8578-912E-461D-98D3-06DA102CB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8E5A-D329-4CBC-BFA5-90C3DDAF6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C018-AD4D-4D63-B320-3BF82F648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F3DC-F539-4A0A-B0BB-90B093235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BEF7-3B1B-4E84-8BF7-C5E1AE8EE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are lot more messages coming from CCI infrastructure code; the report includes only user messages (not from cci inf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3149-465C-4E0B-8F1B-85A0D41D6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F0DB1-9D4C-492A-B452-3690ED102A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E0419-D6EE-4E6A-AC6B-83C5978AB2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314B8-A1F5-4F3D-8714-4816C395C7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8FAF3-E23C-41E7-A9BA-569680DD50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937AF-C94A-4ED8-8F13-84DCCBE489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41733-E30F-4898-B41F-B504AA45A5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EDCD5-6686-4055-98B9-8243D2FD4E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15E53-468F-4C30-9BEC-BB61E73CFC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45707-F6F5-4F35-BA59-75C7E45AA9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54A6C-5903-43F0-928F-8EDA8D7610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9C074-C9E8-4172-B4EB-7F49763643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149CC-A74B-49E2-B504-159891A495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6DAD-E4ED-4399-A2AF-0E33EA7BB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Immutable Parameters</a:t>
            </a:r>
            <a:br>
              <a:rPr sz="2600"/>
            </a:br>
            <a:br>
              <a:rPr sz="26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hal Go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imple Immutable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 use of simple immutabl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module specifies variables as immu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1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 parameter with default va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 this value is set, any attempt to change the parameter at run time will fai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ase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 initial value for a parameter; before parameter construc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value will take precedence over default (constructor) value of the parameter; as well as; any attempt to change the parameter at run time will fa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2143080" y="100188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3118680" y="1430280"/>
            <a:ext cx="1836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Folded Corner 41"/>
          <p:cNvSpPr/>
          <p:nvPr/>
        </p:nvSpPr>
        <p:spPr>
          <a:xfrm>
            <a:off x="6129360" y="2019240"/>
            <a:ext cx="2773440" cy="3999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(“param_1”, 1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Folded Corner 42"/>
          <p:cNvSpPr/>
          <p:nvPr/>
        </p:nvSpPr>
        <p:spPr>
          <a:xfrm>
            <a:off x="6129360" y="3570120"/>
            <a:ext cx="1214280" cy="441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1 = 1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Rounded Rectangular Callout 44"/>
          <p:cNvSpPr/>
          <p:nvPr/>
        </p:nvSpPr>
        <p:spPr>
          <a:xfrm>
            <a:off x="3746520" y="5497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1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ounded Rectangular Callout 45"/>
          <p:cNvSpPr/>
          <p:nvPr/>
        </p:nvSpPr>
        <p:spPr>
          <a:xfrm>
            <a:off x="814320" y="5502240"/>
            <a:ext cx="2216160" cy="531720"/>
          </a:xfrm>
          <a:prstGeom prst="wedgeRoundRectCallout">
            <a:avLst>
              <a:gd name="adj1" fmla="val 53509"/>
              <a:gd name="adj2" fmla="val -135768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param_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ounded Rectangular Callout 44"/>
          <p:cNvSpPr/>
          <p:nvPr/>
        </p:nvSpPr>
        <p:spPr>
          <a:xfrm>
            <a:off x="7054920" y="2579760"/>
            <a:ext cx="1904760" cy="579240"/>
          </a:xfrm>
          <a:prstGeom prst="wedgeRoundRectCallout">
            <a:avLst>
              <a:gd name="adj1" fmla="val -47550"/>
              <a:gd name="adj2" fmla="val -7597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is ignored. param_1 remains “100” (Ref: example5)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Rounded Rectangular Callout 44"/>
          <p:cNvSpPr/>
          <p:nvPr/>
        </p:nvSpPr>
        <p:spPr>
          <a:xfrm>
            <a:off x="3225960" y="2378160"/>
            <a:ext cx="1519200" cy="304560"/>
          </a:xfrm>
          <a:prstGeom prst="wedgeRoundRectCallout">
            <a:avLst>
              <a:gd name="adj1" fmla="val -47037"/>
              <a:gd name="adj2" fmla="val -12787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Set up init value to 10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Rounded Rectangular Callout 44"/>
          <p:cNvSpPr/>
          <p:nvPr/>
        </p:nvSpPr>
        <p:spPr>
          <a:xfrm>
            <a:off x="7035840" y="4240080"/>
            <a:ext cx="1923840" cy="534960"/>
          </a:xfrm>
          <a:prstGeom prst="wedgeRoundRectCallout">
            <a:avLst>
              <a:gd name="adj1" fmla="val -56300"/>
              <a:gd name="adj2" fmla="val -89625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Attempt to update param_1 value fails. param_1 remains “100”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TextBox 28"/>
          <p:cNvSpPr/>
          <p:nvPr/>
        </p:nvSpPr>
        <p:spPr>
          <a:xfrm>
            <a:off x="662760" y="356220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Folded Corner 41"/>
          <p:cNvSpPr/>
          <p:nvPr/>
        </p:nvSpPr>
        <p:spPr>
          <a:xfrm>
            <a:off x="3225960" y="1517760"/>
            <a:ext cx="2398680" cy="63504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_broker.set_pre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sim_ip.param_1"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::cci_value::from_json("1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 (UC-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5068800" y="1009800"/>
            <a:ext cx="198936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2149560" y="98424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9" name="Straight Arrow Connector 16"/>
          <p:cNvCxnSpPr>
            <a:stCxn id="107" idx="2"/>
          </p:cNvCxnSpPr>
          <p:nvPr/>
        </p:nvCxnSpPr>
        <p:spPr>
          <a:xfrm flipH="1">
            <a:off x="6058800" y="14299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17"/>
          <p:cNvCxnSpPr>
            <a:stCxn id="108" idx="2"/>
          </p:cNvCxnSpPr>
          <p:nvPr/>
        </p:nvCxnSpPr>
        <p:spPr>
          <a:xfrm flipH="1">
            <a:off x="3125160" y="1412640"/>
            <a:ext cx="19800" cy="4261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1" name="TextBox 27"/>
          <p:cNvSpPr/>
          <p:nvPr/>
        </p:nvSpPr>
        <p:spPr>
          <a:xfrm>
            <a:off x="657360" y="146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Folded Corner 42"/>
          <p:cNvSpPr/>
          <p:nvPr/>
        </p:nvSpPr>
        <p:spPr>
          <a:xfrm>
            <a:off x="6102360" y="4059360"/>
            <a:ext cx="1258920" cy="2746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 = 20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44"/>
          <p:cNvSpPr/>
          <p:nvPr/>
        </p:nvSpPr>
        <p:spPr>
          <a:xfrm>
            <a:off x="3720960" y="547056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param_2 ‘Owner’ modu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Rounded Rectangular Callout 45"/>
          <p:cNvSpPr/>
          <p:nvPr/>
        </p:nvSpPr>
        <p:spPr>
          <a:xfrm>
            <a:off x="789120" y="5432400"/>
            <a:ext cx="2276280" cy="541440"/>
          </a:xfrm>
          <a:prstGeom prst="wedgeRoundRectCallout">
            <a:avLst>
              <a:gd name="adj1" fmla="val 51254"/>
              <a:gd name="adj2" fmla="val -119689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EXTERNAL module updating sim_ip.param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44"/>
          <p:cNvSpPr/>
          <p:nvPr/>
        </p:nvSpPr>
        <p:spPr>
          <a:xfrm>
            <a:off x="6494400" y="2365200"/>
            <a:ext cx="1962360" cy="385920"/>
          </a:xfrm>
          <a:prstGeom prst="wedgeRoundRectCallout">
            <a:avLst>
              <a:gd name="adj1" fmla="val -46513"/>
              <a:gd name="adj2" fmla="val -88023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Default value will be used. param_2 = 2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Rounded Rectangular Callout 44"/>
          <p:cNvSpPr/>
          <p:nvPr/>
        </p:nvSpPr>
        <p:spPr>
          <a:xfrm>
            <a:off x="6800760" y="4570560"/>
            <a:ext cx="1390680" cy="441000"/>
          </a:xfrm>
          <a:prstGeom prst="wedgeRoundRectCallout">
            <a:avLst>
              <a:gd name="adj1" fmla="val -56611"/>
              <a:gd name="adj2" fmla="val -98666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Internal updates are also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Folded Corner 42"/>
          <p:cNvSpPr/>
          <p:nvPr/>
        </p:nvSpPr>
        <p:spPr>
          <a:xfrm>
            <a:off x="3201840" y="2889360"/>
            <a:ext cx="2819520" cy="3952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_handle.set_cci_value(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value("200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TextBox 28"/>
          <p:cNvSpPr/>
          <p:nvPr/>
        </p:nvSpPr>
        <p:spPr>
          <a:xfrm>
            <a:off x="648360" y="39337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3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Folded Corner 41"/>
          <p:cNvSpPr/>
          <p:nvPr/>
        </p:nvSpPr>
        <p:spPr>
          <a:xfrm>
            <a:off x="6087960" y="1776240"/>
            <a:ext cx="2800440" cy="4003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,immutable_parameter&gt;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_2(“param_2”, 2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Rounded Rectangular Callout 44"/>
          <p:cNvSpPr/>
          <p:nvPr/>
        </p:nvSpPr>
        <p:spPr>
          <a:xfrm>
            <a:off x="3691080" y="3505320"/>
            <a:ext cx="1517400" cy="428400"/>
          </a:xfrm>
          <a:prstGeom prst="wedgeRoundRectCallout">
            <a:avLst>
              <a:gd name="adj1" fmla="val -40527"/>
              <a:gd name="adj2" fmla="val -86462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External updates are reject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ex04_Simple_Immutable_param.log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80880" y="1133640"/>
            <a:ext cx="8686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Attempting to setup config_ip to 100 before IP constru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0 s, Set init-value of sim_ip.param_1 to 1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1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specified for sim_ip.param_2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1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param_2 mutable type is immut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Ctor: immutable param: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0 s, execute method is testing Use Case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@Run: Assign new value (10) to sim_ip.param_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1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1 = 100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37880"/>
            <a:ext cx="86868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80880" y="1244520"/>
            <a:ext cx="8686800" cy="49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nsolas"/>
              </a:rPr>
              <a:t>Info: sim_ip: @10 ns, execute method is testing Use Case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Attempting to set value of 'sim_ip.param_2' to 2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30 ns, @Run: Assign new value (20) to sim_ip.param_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(sim_ip.param_2) is immutable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3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nsolas"/>
              </a:rPr>
              <a:t>Info: sim_ip: Info: @Run: param_2 = 2 (expected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Vishal Goel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0-06T16:22:58Z</dcterms:modified>
  <cp:revision>212</cp:revision>
  <dc:subject/>
  <dc:title>Simple Immutable Parameters Examp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21:49:18Z</vt:lpwstr>
  </property>
  <property fmtid="{D5CDD505-2E9C-101B-9397-08002B2CF9AE}" pid="5" name="TitusGUID">
    <vt:lpwstr>f1c79e0e-b5e2-49e9-9085-1b84db7193b4</vt:lpwstr>
  </property>
</Properties>
</file>