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5708-ABBA-4527-8152-A4778CC3B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1D5BE-D9CA-4F78-96CE-A007F07237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ECA683-9FC1-4F17-A109-75186A7406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E855E-5D95-46BF-ACDA-531DB2309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92446-8CF7-4327-BEEB-069493C22C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371B2-99D6-434C-A90D-8928F8C8AC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FC30-647B-4581-977D-29F1B25C5E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8B29D-8723-431B-A885-370D0232E6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66771-F1E7-4090-BAB1-29BB328FCD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DE5C8-287C-4542-8172-0AD6925C6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3BA2E-F204-472A-B0D3-06AE960771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3DDF9-2E44-4363-B924-E86F00B6A6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27238-AC2E-499F-BAA7-9664E3A799E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CF2F8-7CD7-4B51-A276-6A3F94992C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816BB3-D08B-4153-8558-25EAEC552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62387-8EFE-40B9-8E72-3F18116E41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172C8-55AF-4BD6-BDF3-875A6798FA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01D29-66E0-45A8-ACB9-6D68B704B9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FF6B-BDFD-482A-B014-1D7E59D2F7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FFC3-327F-435E-92C8-25B34B3FE1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9864-F714-442A-9FAC-C888DCFF5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A7E5-A8A8-425A-B0B7-AC2C67314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AA35-58DF-4CF4-81D0-7EB66F0F8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F9935-3D42-4B34-98EC-F64BC2AA964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AFFDC-FB13-4079-833F-E2570DBC3C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361B6-EF26-42EB-871A-BA1BD658FE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7A33-FEDF-406D-A08C-3022092BD6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BE00D-4A9B-447D-9C47-CF0CA78976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1648-F3F0-4D22-B983-A9E1B3325A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CC75D-D2DC-4852-9494-9D27C88889C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0828-5179-45C6-BB9E-A2D8954AE5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DCCAA-1274-4E07-9E4D-BC067DF2BD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96D3-6C5C-4ED7-AF43-9B544F8E1C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CDF13-6ECD-4CA6-8CBC-E372D9087D3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5ADC9-88CA-4523-85A4-63AD6DC9B3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AEF54-EFAA-468F-BAC4-BD47146D40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80850-02FC-4287-A409-560635936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5AECD-1DE7-462B-AE76-5B4CAD227D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250CD-7712-4A90-A343-DC039EEA1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11CC-D866-4195-A38D-3D826AA05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AD28-2B84-403F-8E3E-B724A32E80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87E97-BD69-4C59-A2E7-F3D64AA4D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37588-315E-4868-AED8-DAE2F4996A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3F5A4DCD-4218-46DC-87F9-D1C069E0FFB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uperset Parameter Value Specificatio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perset Parameter Value Specific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tecting Unconsumed Parameters (R3.1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in a mod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8"/>
          <p:cNvSpPr/>
          <p:nvPr/>
        </p:nvSpPr>
        <p:spPr>
          <a:xfrm flipH="1">
            <a:off x="228456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762120" y="4038480"/>
            <a:ext cx="24382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Rectangle 34"/>
          <p:cNvSpPr/>
          <p:nvPr/>
        </p:nvSpPr>
        <p:spPr>
          <a:xfrm>
            <a:off x="6095880" y="4114800"/>
            <a:ext cx="26672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7"/>
          <p:cNvSpPr/>
          <p:nvPr/>
        </p:nvSpPr>
        <p:spPr>
          <a:xfrm>
            <a:off x="457200" y="685800"/>
            <a:ext cx="2666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n.cpp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testbench fi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Rectangle 38"/>
          <p:cNvSpPr/>
          <p:nvPr/>
        </p:nvSpPr>
        <p:spPr>
          <a:xfrm>
            <a:off x="533520" y="990720"/>
            <a:ext cx="80010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configuration file approach for assigning preset values to the cci-parameters.  (For further details, see ex17_Specifying_Parameter_Values_via_a_Configuration_File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Rectangle 40"/>
          <p:cNvSpPr/>
          <p:nvPr/>
        </p:nvSpPr>
        <p:spPr>
          <a:xfrm>
            <a:off x="2286000" y="2666880"/>
            <a:ext cx="4800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two modules 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W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dules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" name="Straight Arrow Connector 43"/>
          <p:cNvCxnSpPr>
            <a:stCxn id="188" idx="2"/>
            <a:endCxn id="184" idx="0"/>
          </p:cNvCxnSpPr>
          <p:nvPr/>
        </p:nvCxnSpPr>
        <p:spPr>
          <a:xfrm flipH="1">
            <a:off x="1980360" y="3352320"/>
            <a:ext cx="27061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45"/>
          <p:cNvCxnSpPr>
            <a:stCxn id="188" idx="2"/>
            <a:endCxn id="185" idx="0"/>
          </p:cNvCxnSpPr>
          <p:nvPr/>
        </p:nvCxnSpPr>
        <p:spPr>
          <a:xfrm>
            <a:off x="4686480" y="3352320"/>
            <a:ext cx="27439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Rectangle 46"/>
          <p:cNvSpPr/>
          <p:nvPr/>
        </p:nvSpPr>
        <p:spPr>
          <a:xfrm>
            <a:off x="152280" y="48006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antiate the cci_parameters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1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eter Nam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_param_2;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Value 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Rectangle 47"/>
          <p:cNvSpPr/>
          <p:nvPr/>
        </p:nvSpPr>
        <p:spPr>
          <a:xfrm>
            <a:off x="6113520" y="499284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handle for broker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(cci::cci_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Straight Connector 28"/>
          <p:cNvSpPr/>
          <p:nvPr/>
        </p:nvSpPr>
        <p:spPr>
          <a:xfrm flipH="1">
            <a:off x="7237440" y="4572000"/>
            <a:ext cx="144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5"/>
          <p:cNvSpPr/>
          <p:nvPr/>
        </p:nvSpPr>
        <p:spPr>
          <a:xfrm>
            <a:off x="6095880" y="1600200"/>
            <a:ext cx="2819520" cy="1143000"/>
          </a:xfrm>
          <a:prstGeom prst="flowChartDocumen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_owner.int_param_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6629400" y="2666880"/>
            <a:ext cx="1633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figuration_Fi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590400" y="1827720"/>
            <a:ext cx="451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ci::cnf::cci_configFile_Tool configTool("configFileTool");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figTool.config("Configuration_File.txt"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Rectangle 2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traight Connector 28"/>
          <p:cNvSpPr/>
          <p:nvPr/>
        </p:nvSpPr>
        <p:spPr>
          <a:xfrm flipH="1">
            <a:off x="6934320" y="1523880"/>
            <a:ext cx="1440" cy="449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304920" y="91440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owne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410080" y="838080"/>
            <a:ext cx="2667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meter_configurator.h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4038480" y="2882880"/>
            <a:ext cx="4800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list of unconsumed preset values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onsumed_parameter_list = m_broker.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unconsumed_preset_value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2438280" y="2577960"/>
            <a:ext cx="1905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Within EOE phas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3200400" y="43434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@ 0 ns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17"/>
          <p:cNvSpPr/>
          <p:nvPr/>
        </p:nvSpPr>
        <p:spPr>
          <a:xfrm>
            <a:off x="4038480" y="4572000"/>
            <a:ext cx="42674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 the list of parameter names for which there are unconsumed preset values: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3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m_owner.int_param_4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Straight Connector 28"/>
          <p:cNvSpPr/>
          <p:nvPr/>
        </p:nvSpPr>
        <p:spPr>
          <a:xfrm flipH="1">
            <a:off x="1523520" y="1676520"/>
            <a:ext cx="1800" cy="14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038480" y="1447920"/>
            <a:ext cx="51055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_param_handles(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retrieve list of all cci-parameters within model.  Store result in a std::vector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te_parameter_list =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_broker.get_param_handles(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"/>
          <p:cNvSpPr/>
          <p:nvPr/>
        </p:nvSpPr>
        <p:spPr>
          <a:xfrm>
            <a:off x="685800" y="220680"/>
            <a:ext cx="82375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8_Superset_Parameter_Value_Specification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80880" y="1514160"/>
            <a:ext cx="8686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1' to '1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2' to '2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3' to '3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int_param_4' to '400‘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List of all parameters in the mod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EOE] : Parameter Name : param_owner.int_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List of parameter names with unconsumed preset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Unconsumed Parameter Name : param_owner.int_param_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40:57Z</dcterms:modified>
  <cp:revision>20</cp:revision>
  <dc:subject/>
  <dc:title>ex18_Superset_Parameter_Value_Specific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40:57Z</vt:lpwstr>
  </property>
  <property fmtid="{D5CDD505-2E9C-101B-9397-08002B2CF9AE}" pid="5" name="TitusGUID">
    <vt:lpwstr>407613b7-d1ea-43f3-af1c-aef363dad956</vt:lpwstr>
  </property>
</Properties>
</file>