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Freeform 5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Freeform 51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494240" cy="33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55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097B0A-4564-4D13-AC7F-B74B1452BA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4DB228-54AF-44F3-9DA1-4D9575C1D25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3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4BF005-A1E1-4F2B-89F7-90806DAA8B5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60BE5D-1825-4522-A574-FC5549426E6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AutoShape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BF7754-3284-4582-ACAE-4968FD4CF0F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DE1389-3164-4DA1-8A37-AB682EBAA1D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D10506-30A3-41DA-AA5E-CBEEA29EC05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B843B1-22ED-4FD6-A926-035110B9092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F857DE-D76D-49CD-80BE-A7061C85811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6BB575-A634-441E-861A-9387BBB1984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092C2F-C5F7-4ED7-B094-67A5B7B18C6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772B03-FCF2-417C-8C49-76F838D79F6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0D5477-5E09-4D82-B96C-A970A154E45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C7545C-D0CA-4CC9-B670-641101B071E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E229FD-B64B-469B-A7F8-D5438B1AE26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0E4034-D9F6-4F4B-96A3-2DDE56D1E91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4B5718-104B-48D0-8F1C-95BEDFDC675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4D6895-D7E4-44D2-A1A9-4F6FC5561E3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AD7890-D054-48E0-A8D9-82493D73924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505747-F040-4086-9E97-ACD405B4725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DED4F4-61BB-4386-A9C5-A8F6CA9E36F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6AF61D-212D-464A-86EB-3BBFB6D5633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63E817-5BB0-4146-81A5-61E214DCB9E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3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D33FF9-72CD-4B4F-B4E2-AE2BD384B32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13F324-3632-4142-A413-76279D037BD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9518E5-56BB-48D2-8111-F2F14C2E3DE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2F679B-B7CA-4F51-A985-BD72EC3CA42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39BF73-0C15-4424-8E0A-4A9AC5F6013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B6997A-C7E0-4413-A975-30F5F36A33D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6AF139-52F1-49F3-937B-C42E6CAA8CB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9AC430-4528-4644-8F1F-0CD2EB140E7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3CACC3-6054-453B-A241-84F242448C0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6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1A944C-28BF-484E-AF5B-4784BB0E707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EEA048-3732-4750-A888-10D2CBF008F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C78404-7325-4E44-889C-926F204C15E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ECB62-DA75-4962-B8BF-A03B82C0B2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E6551-73C8-48CA-B071-C3D1387BFC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703F5-360C-44CC-A72E-5DEA2D3EAF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A50AC-E937-40E2-8D6E-5F1FBF9B2F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D9E7B-C918-483D-A75E-112BB11A17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E7B6E-9F96-4EF5-9888-9A5FB8F24AC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9CBD8-D529-4EE9-878C-DC6E8B3A777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A1F6E-E868-4BB0-9117-7016B10E540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88D31-1A5B-4D86-8221-85813AACA2F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9AD24-3635-47F6-9F42-89C4173CB5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38CDB-59F7-42A0-ABBE-01AADDBFC52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91D96-8BCF-4A44-A13D-4FA6647C58C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8AE4A-77A9-4EB1-BDA1-61D54DC1918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2F473-5F91-4324-B22D-A7BA0E9054C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9EA91-1543-4AED-9F00-9C8464F8848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CB6EA-A9A6-40CC-999E-B12DF38856B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3D2E5-24A1-40BB-BE22-E9E2E6F9B52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A3B89-52DC-441E-A230-5A53D00F97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3646D-4C67-4CF5-8EAD-689FB655D5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69AC1-7EF9-4349-B7E1-C102083065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8754D-A651-443C-B9F6-2550CC80FF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7EF11-4350-4614-B3B7-ACCAAA49C8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598CB-DFEB-4EF9-97B1-3E71909582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6D180-CD7C-488D-AE5B-73EAFADBEF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6CC218-E9EA-4E3D-882A-F236A37D8D3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7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7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600" y="6288120"/>
            <a:ext cx="1139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ABC3E954-83F8-4933-9828-0F3B3E9FF71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Tracing Parameter Activity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3352680" y="4876920"/>
            <a:ext cx="5639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v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Retrieving handle for newly created cci_parame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Parameter Name : param_owner.doubl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has been create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Parameter Value : 12.34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Registering other callbacks on the newly created cci-paramete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racing Parameter Activit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Configurator perspective: show how to use the parameter creation callback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Report the creation and modification of paramete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33"/>
          <p:cNvSpPr/>
          <p:nvPr/>
        </p:nvSpPr>
        <p:spPr>
          <a:xfrm>
            <a:off x="609480" y="3733920"/>
            <a:ext cx="28958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Rectangle 34"/>
          <p:cNvSpPr/>
          <p:nvPr/>
        </p:nvSpPr>
        <p:spPr>
          <a:xfrm>
            <a:off x="6095880" y="3733920"/>
            <a:ext cx="26672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server cla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Rectangle 37"/>
          <p:cNvSpPr/>
          <p:nvPr/>
        </p:nvSpPr>
        <p:spPr>
          <a:xfrm>
            <a:off x="457200" y="685800"/>
            <a:ext cx="26668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ain.cpp (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testbench file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Rectangle 38"/>
          <p:cNvSpPr/>
          <p:nvPr/>
        </p:nvSpPr>
        <p:spPr>
          <a:xfrm>
            <a:off x="457200" y="1066680"/>
            <a:ext cx="8001000" cy="152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itialize and register global broker</a:t>
            </a:r>
            <a:br>
              <a:rPr sz="1500"/>
            </a:b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</a:t>
            </a:r>
            <a:r>
              <a:rPr b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::cci_register_broker(new cci_utils::broker(“My Global Broker”));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stantiate the </a:t>
            </a:r>
            <a:r>
              <a:rPr b="0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observer</a:t>
            </a: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class (which registers various callbacks to trace cci-parameters </a:t>
            </a:r>
            <a:br>
              <a:rPr sz="1500"/>
            </a:b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 activities)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Later, instantiate the </a:t>
            </a:r>
            <a:r>
              <a:rPr b="0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arameter_owner</a:t>
            </a: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module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observer</a:t>
            </a: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observer_inst;</a:t>
            </a: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                                               // A simple C++ Class</a:t>
            </a:r>
            <a:br>
              <a:rPr sz="1500"/>
            </a:b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arameter_owner</a:t>
            </a: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i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aram_owner(“param_owner”);</a:t>
            </a: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       </a:t>
            </a:r>
            <a:r>
              <a:rPr b="1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// </a:t>
            </a:r>
            <a:r>
              <a:rPr b="0" lang="en-IN" sz="15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arameter Owner module</a:t>
            </a:r>
            <a:endParaRPr b="0" lang="en-US" sz="15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Rectangle 40"/>
          <p:cNvSpPr/>
          <p:nvPr/>
        </p:nvSpPr>
        <p:spPr>
          <a:xfrm>
            <a:off x="3733920" y="2666880"/>
            <a:ext cx="17524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.cpp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88" name="Straight Arrow Connector 43"/>
          <p:cNvCxnSpPr>
            <a:stCxn id="187" idx="2"/>
            <a:endCxn id="183" idx="0"/>
          </p:cNvCxnSpPr>
          <p:nvPr/>
        </p:nvCxnSpPr>
        <p:spPr>
          <a:xfrm flipH="1">
            <a:off x="2057040" y="3047760"/>
            <a:ext cx="255312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9" name="Straight Arrow Connector 45"/>
          <p:cNvCxnSpPr>
            <a:stCxn id="187" idx="2"/>
            <a:endCxn id="184" idx="0"/>
          </p:cNvCxnSpPr>
          <p:nvPr/>
        </p:nvCxnSpPr>
        <p:spPr>
          <a:xfrm>
            <a:off x="4610160" y="3047760"/>
            <a:ext cx="282024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0" name="Rectangle 46"/>
          <p:cNvSpPr/>
          <p:nvPr/>
        </p:nvSpPr>
        <p:spPr>
          <a:xfrm>
            <a:off x="228600" y="4267080"/>
            <a:ext cx="426708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OLE 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stantiate few cci-parameter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::cnf::cci_param&lt;int&gt;    *      int_param;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::cnf::cci_param&lt;float&gt; *     float_param;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Make changes to their values during simulati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Rectangle 47"/>
          <p:cNvSpPr/>
          <p:nvPr/>
        </p:nvSpPr>
        <p:spPr>
          <a:xfrm>
            <a:off x="4724280" y="4114800"/>
            <a:ext cx="419112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OLE 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et handle for the </a:t>
            </a:r>
            <a:r>
              <a:rPr b="0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lobal broker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gister callbacks for notifying creation of new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-parameter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gister other callback by getting hold of the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arameter handle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Straight Connector 28"/>
          <p:cNvSpPr/>
          <p:nvPr/>
        </p:nvSpPr>
        <p:spPr>
          <a:xfrm flipH="1">
            <a:off x="7237440" y="41148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Rectangle 2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Straight Connector 28"/>
          <p:cNvSpPr/>
          <p:nvPr/>
        </p:nvSpPr>
        <p:spPr>
          <a:xfrm>
            <a:off x="2286000" y="41911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traight Connector 28"/>
          <p:cNvSpPr/>
          <p:nvPr/>
        </p:nvSpPr>
        <p:spPr>
          <a:xfrm flipH="1">
            <a:off x="6934320" y="1523880"/>
            <a:ext cx="1440" cy="449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Rectangle 34"/>
          <p:cNvSpPr/>
          <p:nvPr/>
        </p:nvSpPr>
        <p:spPr>
          <a:xfrm>
            <a:off x="5410080" y="838080"/>
            <a:ext cx="2667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server cla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Rectangle 13"/>
          <p:cNvSpPr/>
          <p:nvPr/>
        </p:nvSpPr>
        <p:spPr>
          <a:xfrm>
            <a:off x="2666880" y="1143000"/>
            <a:ext cx="2743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Within Constructor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Straight Connector 28"/>
          <p:cNvSpPr/>
          <p:nvPr/>
        </p:nvSpPr>
        <p:spPr>
          <a:xfrm flipH="1">
            <a:off x="1598760" y="1676520"/>
            <a:ext cx="144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Rectangle 15"/>
          <p:cNvSpPr/>
          <p:nvPr/>
        </p:nvSpPr>
        <p:spPr>
          <a:xfrm>
            <a:off x="2971800" y="1828800"/>
            <a:ext cx="586728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et global broker hand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::cnf::cci_originator observer_originator("observer");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::cci_broker_handle(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::cci_get_global_broker(observer_originator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Rectangle 15"/>
          <p:cNvSpPr/>
          <p:nvPr/>
        </p:nvSpPr>
        <p:spPr>
          <a:xfrm>
            <a:off x="2819520" y="3733920"/>
            <a:ext cx="6248160" cy="167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gister a callback to notify the creation of cci-parameters of the parameter_owner modules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m_broker.register_create_callback(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sc_bind(&amp;ex20_observer::config_new_param_callback,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this,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sc_unnamed::_1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Rectangle 33"/>
          <p:cNvSpPr/>
          <p:nvPr/>
        </p:nvSpPr>
        <p:spPr>
          <a:xfrm>
            <a:off x="152280" y="914400"/>
            <a:ext cx="28958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traight Connector 28"/>
          <p:cNvSpPr/>
          <p:nvPr/>
        </p:nvSpPr>
        <p:spPr>
          <a:xfrm flipH="1">
            <a:off x="6934320" y="1523880"/>
            <a:ext cx="1440" cy="449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Rectangle 34"/>
          <p:cNvSpPr/>
          <p:nvPr/>
        </p:nvSpPr>
        <p:spPr>
          <a:xfrm>
            <a:off x="5410080" y="838080"/>
            <a:ext cx="2667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server cla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Rectangle 13"/>
          <p:cNvSpPr/>
          <p:nvPr/>
        </p:nvSpPr>
        <p:spPr>
          <a:xfrm>
            <a:off x="4800600" y="1600200"/>
            <a:ext cx="35812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Various other callbacks registration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Straight Connector 28"/>
          <p:cNvSpPr/>
          <p:nvPr/>
        </p:nvSpPr>
        <p:spPr>
          <a:xfrm flipH="1">
            <a:off x="1598760" y="1676520"/>
            <a:ext cx="144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Rectangle 1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Rectangle 33"/>
          <p:cNvSpPr/>
          <p:nvPr/>
        </p:nvSpPr>
        <p:spPr>
          <a:xfrm>
            <a:off x="304920" y="838080"/>
            <a:ext cx="28954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Rectangle 15"/>
          <p:cNvSpPr/>
          <p:nvPr/>
        </p:nvSpPr>
        <p:spPr>
          <a:xfrm>
            <a:off x="2057400" y="2057400"/>
            <a:ext cx="7010280" cy="373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Within the callback implementation of the 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onfig_new_param_callback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function, register other callback functions for monitoring </a:t>
            </a:r>
            <a:r>
              <a:rPr b="0" i="1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ad, write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activities on to the cci-parameter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// Get reference of newly created cci-parameter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bserver_base_handle = m_broker.get_param_handle(param_handle.get_name(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// Register pre-read, pre/post-write callback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bserver_cb.push_back(observer_base_handle.register_pre_read_callback(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&amp;ex20_observer::pre_read_callback,this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bserver_cb.push_back(observer_base_handle.register_pre_write_callback(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&amp;ex20_observer::pre_write_callback,this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bserver_cb.push_back(observer_base_handle.register_post_write_callback(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&amp;ex20_observer::post_write_callback,this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Rectangle 13"/>
          <p:cNvSpPr/>
          <p:nvPr/>
        </p:nvSpPr>
        <p:spPr>
          <a:xfrm>
            <a:off x="2743200" y="1066680"/>
            <a:ext cx="2743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Within Constructor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2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traight Connector 28"/>
          <p:cNvSpPr/>
          <p:nvPr/>
        </p:nvSpPr>
        <p:spPr>
          <a:xfrm flipH="1">
            <a:off x="6934320" y="1523880"/>
            <a:ext cx="1440" cy="449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Rectangle 34"/>
          <p:cNvSpPr/>
          <p:nvPr/>
        </p:nvSpPr>
        <p:spPr>
          <a:xfrm>
            <a:off x="5410080" y="838080"/>
            <a:ext cx="2667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server cla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Rectangle 13"/>
          <p:cNvSpPr/>
          <p:nvPr/>
        </p:nvSpPr>
        <p:spPr>
          <a:xfrm>
            <a:off x="2895480" y="1143000"/>
            <a:ext cx="2743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Within Constructor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Straight Connector 28"/>
          <p:cNvSpPr/>
          <p:nvPr/>
        </p:nvSpPr>
        <p:spPr>
          <a:xfrm flipH="1">
            <a:off x="1902960" y="1523880"/>
            <a:ext cx="180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Rectangle 9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Rectangle 33"/>
          <p:cNvSpPr/>
          <p:nvPr/>
        </p:nvSpPr>
        <p:spPr>
          <a:xfrm>
            <a:off x="304920" y="838080"/>
            <a:ext cx="28954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Rectangle 15"/>
          <p:cNvSpPr/>
          <p:nvPr/>
        </p:nvSpPr>
        <p:spPr>
          <a:xfrm>
            <a:off x="380880" y="1676520"/>
            <a:ext cx="44960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et default value to the integer-type cci-parameter</a:t>
            </a:r>
            <a:br>
              <a:rPr sz="1400"/>
            </a:br>
            <a:br>
              <a:rPr sz="1400"/>
            </a:br>
            <a:r>
              <a:rPr b="1" i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t_param  =  new cci::cnf::cci_param&lt;int&gt;(“int_param”, 10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Rectangle 15"/>
          <p:cNvSpPr/>
          <p:nvPr/>
        </p:nvSpPr>
        <p:spPr>
          <a:xfrm>
            <a:off x="4724280" y="2514600"/>
            <a:ext cx="37339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port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t_param</a:t>
            </a: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-parameter has been created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4724280" y="3276720"/>
            <a:ext cx="373392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trieve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Handle for the ‘int_param’ cci-parameter </a:t>
            </a:r>
            <a:br>
              <a:rPr sz="1400"/>
            </a:b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nd stores it to new_param_hand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Rectangle 15"/>
          <p:cNvSpPr/>
          <p:nvPr/>
        </p:nvSpPr>
        <p:spPr>
          <a:xfrm>
            <a:off x="4724280" y="4114800"/>
            <a:ext cx="39625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gister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pre_read callback using </a:t>
            </a:r>
            <a:r>
              <a:rPr b="1" i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new_param_handle</a:t>
            </a:r>
            <a:br>
              <a:rPr sz="1400"/>
            </a:br>
            <a:r>
              <a:rPr b="1" i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pre_write callback using new_param_handle</a:t>
            </a:r>
            <a:br>
              <a:rPr sz="1400"/>
            </a:b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post_write callback using new_param_hand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3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traight Connector 28"/>
          <p:cNvSpPr/>
          <p:nvPr/>
        </p:nvSpPr>
        <p:spPr>
          <a:xfrm flipH="1">
            <a:off x="6934320" y="1523880"/>
            <a:ext cx="1440" cy="449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Rectangle 34"/>
          <p:cNvSpPr/>
          <p:nvPr/>
        </p:nvSpPr>
        <p:spPr>
          <a:xfrm>
            <a:off x="5410080" y="838080"/>
            <a:ext cx="2667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server cla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Rectangle 16"/>
          <p:cNvSpPr/>
          <p:nvPr/>
        </p:nvSpPr>
        <p:spPr>
          <a:xfrm>
            <a:off x="3505320" y="1143000"/>
            <a:ext cx="914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@ 0 n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Straight Connector 28"/>
          <p:cNvSpPr/>
          <p:nvPr/>
        </p:nvSpPr>
        <p:spPr>
          <a:xfrm flipH="1">
            <a:off x="1902960" y="1523880"/>
            <a:ext cx="180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Rectangle 33"/>
          <p:cNvSpPr/>
          <p:nvPr/>
        </p:nvSpPr>
        <p:spPr>
          <a:xfrm>
            <a:off x="304920" y="838080"/>
            <a:ext cx="28954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Rectangle 15"/>
          <p:cNvSpPr/>
          <p:nvPr/>
        </p:nvSpPr>
        <p:spPr>
          <a:xfrm>
            <a:off x="380880" y="1752480"/>
            <a:ext cx="30481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et  (arbitrary) new value to the </a:t>
            </a:r>
            <a:r>
              <a:rPr b="0" i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t_param</a:t>
            </a:r>
            <a:br>
              <a:rPr sz="1400"/>
            </a:br>
            <a:br>
              <a:rPr sz="1400"/>
            </a:br>
            <a:r>
              <a:rPr b="1" i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*int_param = 15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Rectangle 15"/>
          <p:cNvSpPr/>
          <p:nvPr/>
        </p:nvSpPr>
        <p:spPr>
          <a:xfrm>
            <a:off x="4648320" y="2362320"/>
            <a:ext cx="4038480" cy="144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port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e_read activity on the ‘int_param’</a:t>
            </a:r>
            <a:br>
              <a:rPr sz="1400"/>
            </a:b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e_write activity on the ‘int_param’</a:t>
            </a:r>
            <a:br>
              <a:rPr sz="1400"/>
            </a:b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e_read activity on the ‘int_param’</a:t>
            </a:r>
            <a:br>
              <a:rPr sz="1400"/>
            </a:b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ost_write activity on the ‘int_param’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AutoShape 15"/>
          <p:cNvSpPr/>
          <p:nvPr/>
        </p:nvSpPr>
        <p:spPr>
          <a:xfrm>
            <a:off x="4191120" y="4419720"/>
            <a:ext cx="2438280" cy="99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675" y="2492"/>
                </a:moveTo>
                <a:lnTo>
                  <a:pt x="-5330" y="2492"/>
                </a:lnTo>
                <a:lnTo>
                  <a:pt x="-5330" y="-8688"/>
                </a:lnTo>
                <a:lnTo>
                  <a:pt x="8466" y="-21392"/>
                </a:lnTo>
              </a:path>
              <a:path w="21600" h="21600">
                <a:moveTo>
                  <a:pt x="-675" y="0"/>
                </a:moveTo>
                <a:lnTo>
                  <a:pt x="-675" y="2160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pre_read”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callback is called because value of the parameter is read within the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“pre_write”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&amp;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“post_write”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callback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4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traight Connector 28"/>
          <p:cNvSpPr/>
          <p:nvPr/>
        </p:nvSpPr>
        <p:spPr>
          <a:xfrm flipH="1">
            <a:off x="6934320" y="1523880"/>
            <a:ext cx="1440" cy="449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Rectangle 34"/>
          <p:cNvSpPr/>
          <p:nvPr/>
        </p:nvSpPr>
        <p:spPr>
          <a:xfrm>
            <a:off x="5410080" y="838080"/>
            <a:ext cx="2667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bserver clas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Straight Connector 28"/>
          <p:cNvSpPr/>
          <p:nvPr/>
        </p:nvSpPr>
        <p:spPr>
          <a:xfrm flipH="1">
            <a:off x="1902960" y="1523880"/>
            <a:ext cx="180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Rectangle 33"/>
          <p:cNvSpPr/>
          <p:nvPr/>
        </p:nvSpPr>
        <p:spPr>
          <a:xfrm>
            <a:off x="304920" y="838080"/>
            <a:ext cx="28954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Rectangle 15"/>
          <p:cNvSpPr/>
          <p:nvPr/>
        </p:nvSpPr>
        <p:spPr>
          <a:xfrm>
            <a:off x="380880" y="1676520"/>
            <a:ext cx="50292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reate and set default value to the float-type cci-parameter</a:t>
            </a:r>
            <a:br>
              <a:rPr sz="1400"/>
            </a:br>
            <a:br>
              <a:rPr sz="1400"/>
            </a:br>
            <a:r>
              <a:rPr b="1" i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float_param  =  new cci::cnf::cci_param&lt;int&gt;(“float_param”, 12.345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Rectangle 15"/>
          <p:cNvSpPr/>
          <p:nvPr/>
        </p:nvSpPr>
        <p:spPr>
          <a:xfrm>
            <a:off x="4724280" y="2514600"/>
            <a:ext cx="37339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port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float_param</a:t>
            </a: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ci-parameter has been created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Rectangle 15"/>
          <p:cNvSpPr/>
          <p:nvPr/>
        </p:nvSpPr>
        <p:spPr>
          <a:xfrm>
            <a:off x="4724280" y="3276720"/>
            <a:ext cx="388620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trieve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Handle for the ‘float_param’ cci-parameter </a:t>
            </a:r>
            <a:br>
              <a:rPr sz="1400"/>
            </a:b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nd stores it to new_param_hand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Rectangle 15"/>
          <p:cNvSpPr/>
          <p:nvPr/>
        </p:nvSpPr>
        <p:spPr>
          <a:xfrm>
            <a:off x="4724280" y="4114800"/>
            <a:ext cx="39625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egisters :</a:t>
            </a:r>
            <a:br>
              <a:rPr sz="1400"/>
            </a:br>
            <a:r>
              <a:rPr b="0" lang="en-IN" sz="1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pre_read callback using </a:t>
            </a:r>
            <a:r>
              <a:rPr b="1" i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new_param_handle</a:t>
            </a:r>
            <a:br>
              <a:rPr sz="1400"/>
            </a:br>
            <a:r>
              <a:rPr b="1" i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pre_write callback using new_param_handle</a:t>
            </a:r>
            <a:br>
              <a:rPr sz="1400"/>
            </a:b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	</a:t>
            </a:r>
            <a:r>
              <a:rPr b="1" lang="en-IN" sz="1400" spc="-1" strike="noStrike">
                <a:solidFill>
                  <a:srgbClr val="3333cc"/>
                </a:solidFill>
                <a:latin typeface="Arial Narrow"/>
                <a:ea typeface="Times New Roman"/>
              </a:rPr>
              <a:t>post_write callback using new_param_hand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Rectangle 16"/>
          <p:cNvSpPr/>
          <p:nvPr/>
        </p:nvSpPr>
        <p:spPr>
          <a:xfrm>
            <a:off x="3657600" y="1143000"/>
            <a:ext cx="914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@ 5 n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AutoShape 1"/>
          <p:cNvSpPr/>
          <p:nvPr/>
        </p:nvSpPr>
        <p:spPr>
          <a:xfrm>
            <a:off x="304920" y="220680"/>
            <a:ext cx="86184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5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(ex20_Tracing_Parameter_Activity.log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Prior to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C_TOR] : Creating new integer type cci-parameter with default value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Retrieving handle for newly created cci_parame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Parameter Name : param_owner.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has been create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Parameter Value :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create_param_cb] : Registering other callbacks on the newly created cci-paramete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Setting new value to the 'int' type param to '15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pre_write_cb] : Retrieving details of new cci-parame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pre_write_cb] : Parameter Name : param_owner.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post_write_cb] : Retrieving details of new cci-parame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- post_write_cb] : Parameter Name : param_owner.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@ 5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[OWNER] : Creating new 'double' type cci-parameter with default value : 12.34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7T01:25:28Z</dcterms:modified>
  <cp:revision>82</cp:revision>
  <dc:subject/>
  <dc:title>ex20_Tracing_Parameter_Activit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01:25:27Z</vt:lpwstr>
  </property>
  <property fmtid="{D5CDD505-2E9C-101B-9397-08002B2CF9AE}" pid="5" name="TitusGUID">
    <vt:lpwstr>c510a3f5-05aa-41bf-bec3-42483cac079d</vt:lpwstr>
  </property>
</Properties>
</file>