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7665-AFD6-487B-9936-D9C3B40D9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E75C-62C1-4AF7-AB4B-2AE9E055D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FE65-BCD5-4370-99FE-3EE466364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1646-177F-4800-B86D-738B8B824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46B8-7D35-49C8-AED5-B5C7A3DC5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38D3-9EF4-47E4-BF48-96607A3FF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C8A4-0E9B-43BF-948F-AB04D0187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712F2-002C-4BA5-A1EC-45982FD43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160D-A9DC-4771-A738-1157C4351D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AA52-B035-44B6-9080-19609EC895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14336-4228-4AC7-80C9-A9BFF28F0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4319-7402-4D30-B1A2-A2CCA8BF8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E9F0-C6C4-4644-A559-4BDC570006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BC2E1-602F-46ED-9302-7C5474D81B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14DD-D11F-47DA-93C0-A3A23D321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AC0E1-84ED-4238-88FE-8F950873A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FF57-7E0F-4F1F-8986-9C7FB73A9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A7C3-1360-4F3D-A0C0-C6FCAA3A9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C4E0C-0B17-4FCD-B820-DA6BC0BB8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F38E-C712-4C69-8433-0D54A67AD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earch Predicat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Search Predicat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wner module simple_ip has CCI parameters of different data typ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odule search_ip performs various searches and reports the matching paramete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example, module search_ip performs the following parameter search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er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 value typ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value greater than or equal to 3 and smaller than 8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3960" indent="-248040" algn="just">
              <a:spcBef>
                <a:spcPts val="499"/>
              </a:spcBef>
              <a:buClr>
                <a:srgbClr val="000099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 name contains the character ‘t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4480" indent="-2044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CCI parameters representing basic data types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787400" y="1322280"/>
            <a:ext cx="1989360" cy="4366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3" name="Straight Arrow Connector 16"/>
          <p:cNvCxnSpPr>
            <a:stCxn id="92" idx="2"/>
          </p:cNvCxnSpPr>
          <p:nvPr/>
        </p:nvCxnSpPr>
        <p:spPr>
          <a:xfrm flipH="1">
            <a:off x="2775960" y="1758600"/>
            <a:ext cx="684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4" name="Folded Corner 41"/>
          <p:cNvSpPr/>
          <p:nvPr/>
        </p:nvSpPr>
        <p:spPr>
          <a:xfrm>
            <a:off x="3062160" y="2081160"/>
            <a:ext cx="3048120" cy="157644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bool&gt; bool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cci_param&lt;char&gt; char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char&gt; uchar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unsigned int&gt; uin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a-DK" sz="1200" spc="-1" strike="noStrike">
                <a:solidFill>
                  <a:srgbClr val="000000"/>
                </a:solidFill>
                <a:latin typeface="Arial"/>
              </a:rPr>
              <a:t>cci_param&lt;float&gt; float_param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ci_param&lt;double&gt; double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std::string&gt; string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CCI parameter ‘Owner’ module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The search_ip module which search sim_ip’s parameter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1787400" y="1143000"/>
            <a:ext cx="1989360" cy="4046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arch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6"/>
          <p:cNvCxnSpPr>
            <a:stCxn id="97" idx="2"/>
          </p:cNvCxnSpPr>
          <p:nvPr/>
        </p:nvCxnSpPr>
        <p:spPr>
          <a:xfrm flipH="1">
            <a:off x="2775960" y="1547640"/>
            <a:ext cx="6840" cy="4384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9" name="Folded Corner 41"/>
          <p:cNvSpPr/>
          <p:nvPr/>
        </p:nvSpPr>
        <p:spPr>
          <a:xfrm>
            <a:off x="3062160" y="279252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ntegers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integer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4"/>
          <p:cNvSpPr/>
          <p:nvPr/>
        </p:nvSpPr>
        <p:spPr>
          <a:xfrm>
            <a:off x="449280" y="5342040"/>
            <a:ext cx="2173320" cy="58896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earches simple_ip’s parameter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Folded Corner 41"/>
          <p:cNvSpPr/>
          <p:nvPr/>
        </p:nvSpPr>
        <p:spPr>
          <a:xfrm>
            <a:off x="3062160" y="351468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tring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bool string_type_predicate(const cci_param_untyped_handle handle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Folded Corner 41"/>
          <p:cNvSpPr/>
          <p:nvPr/>
        </p:nvSpPr>
        <p:spPr>
          <a:xfrm>
            <a:off x="3062160" y="421020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Numbers greater that or equal to 3 and smaller than 85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value_in_range_predicate(const cci_param_untyped_handle handle, double greater_eq, double low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Folded Corner 41"/>
          <p:cNvSpPr/>
          <p:nvPr/>
        </p:nvSpPr>
        <p:spPr>
          <a:xfrm>
            <a:off x="3062160" y="5067360"/>
            <a:ext cx="5753160" cy="56988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rameter name contains at least ‘t’ only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l name_contains_character_predicate( const cci_param_untyped_handle handle, const char character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062160" y="2068560"/>
            <a:ext cx="5753160" cy="4158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Original List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s the original list of parameters in simple_ip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2_Search_Predicate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880" y="927000"/>
            <a:ext cx="86868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Original li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bool_param = tr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double_param = 2.7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91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Integers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char_param = 8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String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Numbers greater than or equal to 3 and smaller than 85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char_param = 6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rch_ip: @0 s, execute: Parameter name contains at least 't'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float_param = 3.14000010490417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int_param = -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string_param = "C++ String"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sim_ip.uint_param = 4277006349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52:42Z</dcterms:modified>
  <cp:revision>184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52:42Z</vt:lpwstr>
  </property>
  <property fmtid="{D5CDD505-2E9C-101B-9397-08002B2CF9AE}" pid="5" name="TitusGUID">
    <vt:lpwstr>9e508fab-0d4d-42f6-bb4e-875dc6a2e392</vt:lpwstr>
  </property>
</Properties>
</file>