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38520" cy="339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383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792CDD-7FC2-4F07-B355-41CA93EFD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91CB0-B2AA-4E94-B398-6CD3D0EA2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A77B0-7C6A-478A-B39A-F9FF5A28B2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0FEDD-6764-4D21-8373-80F5881E1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E1433-1D46-4265-94FE-8EC7FB362A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A2120-CF4A-43D0-8022-C9E10A369E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2B6F9-D83D-4206-88B4-316EB38E28A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0C455-872D-4E26-AB41-466223C7AB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FF9E7-C33E-4D86-9A1A-897FAB8A15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7680" y="685800"/>
            <a:ext cx="4529160" cy="33955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5292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447A8-DF22-436E-921A-09A46D280A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3E265E-F989-4A9C-B97C-6786A100A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450E2-1B34-4F9C-A3ED-3FF2A7CE8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1B699-7FBD-4569-948A-C7EDCE9882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28220-7C29-4C64-8CB3-CA246D869D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EA0C9-4611-44C5-9CF2-CF2B123A8A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524FA-4084-4949-8493-1D0684F2C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4B566-4182-4596-88DE-D1A4D67076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D6038-95FD-489E-AB75-14B644C228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FB9CE-7DD5-4CB4-BEA0-968742714D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C6F60-094F-4B34-BACE-7DC8AA4280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22B0C-A0D2-465A-869C-C8F9F7E6808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DCB96-E994-44A1-97EC-CCB733D913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9DA4-9C70-47E3-BC0E-39D8B05078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94C8F-461F-438F-8B33-4D67FEFEB9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E2C85A-EBD4-4BB3-A1FB-DF1961651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3F512-DC7B-4A7D-B841-3C5AA3388D9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F3553F-4B30-4235-B82F-0C227AE155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7"/>
          <p:cNvSpPr/>
          <p:nvPr/>
        </p:nvSpPr>
        <p:spPr>
          <a:xfrm>
            <a:off x="3884760" y="8685360"/>
            <a:ext cx="2938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46019-DCCB-4647-976E-E9DDB00A3B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5472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DCE17-847F-4001-AA39-186704164F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11C7-B25A-4A1D-9149-3BBA72DBC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B3314-70E6-47F9-912F-E5F5AB343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346FE-AB7E-43BE-AF61-E7BE0DD8A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601F-A745-44D4-9BE3-426D5DF169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08A6-BD1C-40B2-8746-2A2E44464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10D3-0F37-4BC6-8B41-D5B27E1546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4085-810E-48A5-9BE5-D4AE781A4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0AEC-F025-4B63-AEC7-867BD0A1F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099E-FE55-4BE9-AE53-879B3EB99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2802-537C-4684-B65F-E17778E9FE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4103-81BA-4A05-A0B6-32D698764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4605-D50B-4942-BC1D-32FB6646E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0C2A2-BBF2-4B43-94A7-50C6F8728D09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er Defined Data Typ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rish Verma, P V S Phaneend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E2FB4C-FC8E-4004-A841-4722A1847EA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533412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396252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>
            <a:off x="3505320" y="106668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9"/>
          <p:cNvSpPr/>
          <p:nvPr/>
        </p:nvSpPr>
        <p:spPr>
          <a:xfrm>
            <a:off x="3962520" y="2362320"/>
            <a:ext cx="495288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20"/>
          <p:cNvSpPr/>
          <p:nvPr/>
        </p:nvSpPr>
        <p:spPr>
          <a:xfrm>
            <a:off x="4038480" y="3200400"/>
            <a:ext cx="449604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Documentation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21"/>
          <p:cNvSpPr/>
          <p:nvPr/>
        </p:nvSpPr>
        <p:spPr>
          <a:xfrm>
            <a:off x="1676520" y="273204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5088" y="3600"/>
                </a:lnTo>
                <a:lnTo>
                  <a:pt x="-5088" y="-3350"/>
                </a:lnTo>
                <a:lnTo>
                  <a:pt x="25667" y="-49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505320" y="3962520"/>
            <a:ext cx="914400" cy="3045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25"/>
          <p:cNvSpPr/>
          <p:nvPr/>
        </p:nvSpPr>
        <p:spPr>
          <a:xfrm>
            <a:off x="3429000" y="4343400"/>
            <a:ext cx="563868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set_string "{\"s_address\":1024,\"d_address\":1280,\"index\":3}");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set_cci_value(cci::cci_value::from_json(set_string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6"/>
          <p:cNvSpPr/>
          <p:nvPr/>
        </p:nvSpPr>
        <p:spPr>
          <a:xfrm>
            <a:off x="533520" y="5041800"/>
            <a:ext cx="2819160" cy="67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68"/>
                </a:moveTo>
                <a:lnTo>
                  <a:pt x="-2104" y="3668"/>
                </a:lnTo>
                <a:lnTo>
                  <a:pt x="-2104" y="-3617"/>
                </a:lnTo>
                <a:lnTo>
                  <a:pt x="22962" y="-4687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0619C-FB29-4F2C-A297-6780DE7658B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2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5486400" y="6094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3276720" y="1143000"/>
            <a:ext cx="914400" cy="30492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8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3886200" y="1523880"/>
            <a:ext cx="4267080" cy="60984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Name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16"/>
          <p:cNvSpPr/>
          <p:nvPr/>
        </p:nvSpPr>
        <p:spPr>
          <a:xfrm>
            <a:off x="3886200" y="2286000"/>
            <a:ext cx="5105520" cy="604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Value :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_handle.get_cci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1024,"d_address":1280,"index":3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1676520" y="2666880"/>
            <a:ext cx="19810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5667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16_User_Defined_Data_Type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preset value 's_address:256,d_address:512,index:0' to UD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{"s_address":512,"d_address":768,"index":1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Value' : {"s_address":256,"d_address":512,"index":0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 - '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C_TOR] : Broker Type : DEFAULT_BROKER - is not a private brok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Description 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New Value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's_address:768,d_address:1024,index:2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 ns, [OWNER -&gt; Retrieve] : UDT Value 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@ 4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value: {"s_address":768,"d_address":1024,"index":2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: Parameter desc: This is user-defined data typ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Value - 's_address:1024,d_address:1280,index: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write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@ 8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name : param_owner.User_data_type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re_read_cb] 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[OBSERVER post_read_cb]:  Parameter Name : param_owner.User_data_type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8 ns, [CFGR -&gt; Retrieve] : Parameter value: {"s_address":1024,"d_address":1280,"index":3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DF3536-386E-4111-A163-A86C6E87D2BD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Adding support for user-defined data types, including complex struc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Mincho"/>
              </a:rPr>
              <a:t>Show access using both JSON values and cci_val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46B67D-B633-443E-99D7-2103A423C0BE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019920" y="2209680"/>
            <a:ext cx="2133360" cy="83844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2365"/>
              <a:gd name="adj5" fmla="val -128597"/>
              <a:gd name="adj6" fmla="val -62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(A simple C++ class, not an SC_MODULE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19"/>
          <p:cNvSpPr/>
          <p:nvPr/>
        </p:nvSpPr>
        <p:spPr>
          <a:xfrm>
            <a:off x="2895480" y="2270160"/>
            <a:ext cx="205740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3"/>
              <a:gd name="adj5" fmla="val -36365"/>
              <a:gd name="adj6" fmla="val -125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2"/>
          <p:cNvSpPr/>
          <p:nvPr/>
        </p:nvSpPr>
        <p:spPr>
          <a:xfrm>
            <a:off x="152280" y="3738600"/>
            <a:ext cx="5257800" cy="7621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please go through the            presentation for ex#8 or ex#11 and ex#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6"/>
          <p:cNvSpPr/>
          <p:nvPr/>
        </p:nvSpPr>
        <p:spPr>
          <a:xfrm>
            <a:off x="5638680" y="3390840"/>
            <a:ext cx="3048120" cy="129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40" y="2234"/>
                </a:moveTo>
                <a:lnTo>
                  <a:pt x="22286" y="2234"/>
                </a:lnTo>
                <a:lnTo>
                  <a:pt x="22286" y="-5617"/>
                </a:lnTo>
                <a:lnTo>
                  <a:pt x="18326" y="-13469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different types of callbacks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(pre_read, pre_write &amp; post_write)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on the parameters of interest to monitor their activit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27"/>
          <p:cNvSpPr/>
          <p:nvPr/>
        </p:nvSpPr>
        <p:spPr>
          <a:xfrm>
            <a:off x="152280" y="5408640"/>
            <a:ext cx="4419720" cy="6094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be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displayed by the shape on the r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29"/>
          <p:cNvSpPr/>
          <p:nvPr/>
        </p:nvSpPr>
        <p:spPr>
          <a:xfrm>
            <a:off x="518148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3600"/>
                </a:moveTo>
                <a:lnTo>
                  <a:pt x="-4230" y="3600"/>
                </a:lnTo>
                <a:lnTo>
                  <a:pt x="-4230" y="100"/>
                </a:lnTo>
                <a:lnTo>
                  <a:pt x="3630" y="-7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0"/>
          <p:cNvSpPr/>
          <p:nvPr/>
        </p:nvSpPr>
        <p:spPr>
          <a:xfrm>
            <a:off x="152280" y="2514600"/>
            <a:ext cx="20574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2115"/>
              <a:gd name="adj5" fmla="val -89064"/>
              <a:gd name="adj6" fmla="val 1131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the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user_datatype.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3"/>
          <p:cNvSpPr/>
          <p:nvPr/>
        </p:nvSpPr>
        <p:spPr>
          <a:xfrm>
            <a:off x="152280" y="4619520"/>
            <a:ext cx="4114800" cy="53352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ev.originator.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27C7B-0586-4B54-9025-3204AC4C8A28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22200" y="985680"/>
            <a:ext cx="56800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tep#1</a:t>
            </a:r>
            <a:r>
              <a:rPr b="1" lang="en-US" sz="20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2000" spc="-1" strike="noStrike">
                <a:solidFill>
                  <a:srgbClr val="000000"/>
                </a:solidFill>
                <a:latin typeface="Bitstream Charter"/>
              </a:rPr>
              <a:t>Defining a User-Defined Data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407880" y="1895400"/>
            <a:ext cx="7696440" cy="29718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clare a C++ class/structure for the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er-defined data type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(see the following sl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reate a default constructor for the user-defined data type struc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Also provide an overloaded constructor that is useful to assign the user-defined values in the desired mann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Implement cci_value_converter&lt;user-defined-type&gt; with pack and unpack functions (not shown – see example co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load the insertion (&lt;&lt;) operator to provide convenience in reporting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0DB49-96C7-4CDD-B58F-0CAA810896FF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380880" y="685800"/>
            <a:ext cx="7543800" cy="38088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frastructure to be created :  Creating Data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685800" y="1143000"/>
            <a:ext cx="3886200" cy="4952880"/>
          </a:xfrm>
          <a:custGeom>
            <a:avLst/>
            <a:gdLst>
              <a:gd name="textAreaLeft" fmla="*/ 3600 w 3886200"/>
              <a:gd name="textAreaRight" fmla="*/ 3882600 w 3886200"/>
              <a:gd name="textAreaTop" fmla="*/ 3600 h 4952880"/>
              <a:gd name="textAreaBottom" fmla="*/ 4949280 h 4952880"/>
            </a:gdLst>
            <a:ahLst/>
            <a:rect l="textAreaLeft" t="textAreaTop" r="textAreaRight" b="textAreaBottom"/>
            <a:pathLst>
              <a:path w="21600" h="27528">
                <a:moveTo>
                  <a:pt x="75" y="0"/>
                </a:moveTo>
                <a:arcTo wR="75" hR="75" stAng="16200000" swAng="-5400000"/>
                <a:lnTo>
                  <a:pt x="0" y="27453"/>
                </a:lnTo>
                <a:arcTo wR="75" hR="75" stAng="10800000" swAng="-5400000"/>
                <a:lnTo>
                  <a:pt x="21525" y="27528"/>
                </a:lnTo>
                <a:arcTo wR="75" hR="75" stAng="5400000" swAng="-5400000"/>
                <a:lnTo>
                  <a:pt x="21600" y="75"/>
                </a:lnTo>
                <a:arcTo wR="75" hR="7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 route_table_u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Default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Sourc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0x0)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//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/ Overloaded Constructo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oute_table_ut(int saddr, int daddr, int 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: s_address(s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d_address(daddr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, index(idx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// Nothing to implement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s_address;     // Slave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d_address;    // Destination Addres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int    index;           // Index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};// End of STRUCT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5BD3F-B25F-48FE-B902-DD984D98B6AA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247680" y="876240"/>
            <a:ext cx="50292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Overloading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insertion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 operator of C+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07880" y="1600200"/>
            <a:ext cx="6907320" cy="44197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std::ostream&amp; operator &lt;&lt;(std::ostream&amp; os, const route_table_ut&amp; ud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cci::cci_value udv(ud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return os &lt;&lt; udv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46B0D-4FED-4501-BB9F-974CDD3C5C93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3"/>
          <p:cNvSpPr/>
          <p:nvPr/>
        </p:nvSpPr>
        <p:spPr>
          <a:xfrm>
            <a:off x="1863720" y="49100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5611680" y="4373640"/>
            <a:ext cx="3303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2960" y="448164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2287440" y="3941640"/>
            <a:ext cx="45720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Before the instantiation of the mod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2182680" y="1905120"/>
            <a:ext cx="5024520" cy="10350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yOriginator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1824120" y="1219320"/>
            <a:ext cx="5489640" cy="563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yOriginator(“sc_main_originato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12"/>
          <p:cNvSpPr/>
          <p:nvPr/>
        </p:nvSpPr>
        <p:spPr>
          <a:xfrm>
            <a:off x="1366920" y="3048120"/>
            <a:ext cx="6786360" cy="914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preset value using </a:t>
            </a: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et_preset_value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API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std::string init_str("{\"s_address\":256,\"d_address\":512,\"index\":0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globalBroker.set_preset_cci_value(“param_owner.User_data_type_param”, cci::cci_value::from_json(init_str)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7335720" y="491184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2362320" y="4952880"/>
            <a:ext cx="4662360" cy="103032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obj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699AC-64AE-462A-A2D0-F1F527922C9B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1"/>
          <p:cNvSpPr/>
          <p:nvPr/>
        </p:nvSpPr>
        <p:spPr>
          <a:xfrm>
            <a:off x="323208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"/>
          <p:cNvSpPr/>
          <p:nvPr/>
        </p:nvSpPr>
        <p:spPr>
          <a:xfrm>
            <a:off x="498168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1380960" y="665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304920" y="1550880"/>
            <a:ext cx="5105160" cy="6858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ame and assign defaul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("User_data_type_param",route_table_ut(0x200,0x300,1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4343400" y="2313000"/>
            <a:ext cx="1511280" cy="22860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7"/>
          <p:cNvSpPr/>
          <p:nvPr/>
        </p:nvSpPr>
        <p:spPr>
          <a:xfrm>
            <a:off x="304920" y="345600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Default 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_default_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faul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512,"d_address":768,"index":1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8"/>
          <p:cNvSpPr/>
          <p:nvPr/>
        </p:nvSpPr>
        <p:spPr>
          <a:xfrm>
            <a:off x="304920" y="5132520"/>
            <a:ext cx="5029200" cy="68580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Set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onst std::string init_desc = “This is user-defined data type”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udt_param.set_description(init_desc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7013520" y="123840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5504040" y="4827600"/>
            <a:ext cx="3563640" cy="76212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Bitstream Charter"/>
              </a:rPr>
              <a:t>Declare handle for the paramet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Bitstream Charter"/>
              </a:rPr>
              <a:t>cci::cci_param_handle udt_param_handle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309600" y="1246320"/>
            <a:ext cx="3881520" cy="22860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i::cci_param&lt;route_table_ut&gt; udt_para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15"/>
          <p:cNvSpPr/>
          <p:nvPr/>
        </p:nvSpPr>
        <p:spPr>
          <a:xfrm>
            <a:off x="304920" y="2693880"/>
            <a:ext cx="449568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 nam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nam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Name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.User_data_type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7"/>
          <p:cNvSpPr/>
          <p:nvPr/>
        </p:nvSpPr>
        <p:spPr>
          <a:xfrm>
            <a:off x="304920" y="4294080"/>
            <a:ext cx="4800600" cy="7621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Value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using 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get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() API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256,"d_address":512,"index":0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BD160-54E1-4CB0-AE9E-A2416B78FA39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"/>
          <p:cNvSpPr/>
          <p:nvPr/>
        </p:nvSpPr>
        <p:spPr>
          <a:xfrm>
            <a:off x="323208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525780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1380960" y="65736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7013520" y="123048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3"/>
          <p:cNvSpPr/>
          <p:nvPr/>
        </p:nvSpPr>
        <p:spPr>
          <a:xfrm>
            <a:off x="380880" y="1527120"/>
            <a:ext cx="4496040" cy="85428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parameter’s documentation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description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Documentation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This is user-defined data typ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14"/>
          <p:cNvSpPr/>
          <p:nvPr/>
        </p:nvSpPr>
        <p:spPr>
          <a:xfrm>
            <a:off x="380880" y="2533680"/>
            <a:ext cx="6172200" cy="68580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t new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set_cci_value("{\"s_address\":768,\"d_address\":1024,\"index\":2}"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16"/>
          <p:cNvSpPr/>
          <p:nvPr/>
        </p:nvSpPr>
        <p:spPr>
          <a:xfrm>
            <a:off x="4800600" y="337176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4850"/>
                </a:lnTo>
                <a:lnTo>
                  <a:pt x="12077" y="-85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6"/>
          <p:cNvSpPr/>
          <p:nvPr/>
        </p:nvSpPr>
        <p:spPr>
          <a:xfrm>
            <a:off x="3809880" y="1162080"/>
            <a:ext cx="181620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18"/>
          <p:cNvSpPr/>
          <p:nvPr/>
        </p:nvSpPr>
        <p:spPr>
          <a:xfrm>
            <a:off x="3962520" y="4362480"/>
            <a:ext cx="1815840" cy="3049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19"/>
          <p:cNvSpPr/>
          <p:nvPr/>
        </p:nvSpPr>
        <p:spPr>
          <a:xfrm>
            <a:off x="380880" y="4803840"/>
            <a:ext cx="4800600" cy="85392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Query the present value :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udt_param.get_value();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Returns Value =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{"s_address":768,"d_address":1024,"index":2}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0"/>
          <p:cNvSpPr/>
          <p:nvPr/>
        </p:nvSpPr>
        <p:spPr>
          <a:xfrm>
            <a:off x="5562720" y="4514760"/>
            <a:ext cx="22096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45" y="3600"/>
                </a:moveTo>
                <a:lnTo>
                  <a:pt x="31934" y="3600"/>
                </a:lnTo>
                <a:lnTo>
                  <a:pt x="31934" y="25650"/>
                </a:lnTo>
                <a:lnTo>
                  <a:pt x="-33992" y="2579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wning_param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User Defined Data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Girish Verma, P V S Phaneendra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7T00:40:22Z</dcterms:modified>
  <cp:revision>66</cp:revision>
  <dc:subject/>
  <dc:title>ex16_User_Defined_Data_Ty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40:21Z</vt:lpwstr>
  </property>
  <property fmtid="{D5CDD505-2E9C-101B-9397-08002B2CF9AE}" pid="5" name="TitusGUID">
    <vt:lpwstr>fc8b835a-1d3c-4a78-8f66-3d525973a8b0</vt:lpwstr>
  </property>
</Properties>
</file>