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0"/>
            <a:ext cx="6669000" cy="992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Freeform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Freeform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Freeform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Freeform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Freeform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reeform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Freeform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Freeform 2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Freeform 2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Freeform 2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Freeform 2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Freeform 2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Freeform 2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6858000" h="9144000">
                <a:moveTo>
                  <a:pt x="1588" y="0"/>
                </a:moveTo>
                <a:lnTo>
                  <a:pt x="1587" y="0"/>
                </a:lnTo>
                <a:cubicBezTo>
                  <a:pt x="710" y="0"/>
                  <a:pt x="0" y="710"/>
                  <a:pt x="0" y="1587"/>
                </a:cubicBezTo>
                <a:lnTo>
                  <a:pt x="0" y="9142413"/>
                </a:lnTo>
                <a:cubicBezTo>
                  <a:pt x="0" y="9143290"/>
                  <a:pt x="710" y="9144000"/>
                  <a:pt x="1587" y="9144001"/>
                </a:cubicBezTo>
                <a:lnTo>
                  <a:pt x="6856413" y="9144000"/>
                </a:lnTo>
                <a:cubicBezTo>
                  <a:pt x="6857290" y="9143999"/>
                  <a:pt x="6858001" y="9143289"/>
                  <a:pt x="6858001" y="9142412"/>
                </a:cubicBezTo>
                <a:lnTo>
                  <a:pt x="6858000" y="1588"/>
                </a:lnTo>
                <a:cubicBezTo>
                  <a:pt x="6858000" y="710"/>
                  <a:pt x="6857289" y="0"/>
                  <a:pt x="6856412" y="0"/>
                </a:cubicBezTo>
                <a:lnTo>
                  <a:pt x="158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3778200" y="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65080" y="744120"/>
            <a:ext cx="488952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38"/>
          <p:cNvSpPr/>
          <p:nvPr/>
        </p:nvSpPr>
        <p:spPr>
          <a:xfrm>
            <a:off x="0" y="9429840"/>
            <a:ext cx="2889360" cy="496800"/>
          </a:xfrm>
          <a:custGeom>
            <a:avLst/>
            <a:gdLst>
              <a:gd name="textAreaLeft" fmla="*/ 0 w 2889360"/>
              <a:gd name="textAreaRight" fmla="*/ 2889720 w 288936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42D16-6E25-4C6B-B4FD-3985C4F3A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5739F-F91B-41C5-BDAC-EEBEDDF7F8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AutoShape 1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88721-1132-43EC-80F1-9361E89B9DB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D1839-5EB7-4139-8F62-1B8D55DBD3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6F4C4-28BE-4FCA-8E8E-FEBE8BC9A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91483-5DAF-4980-B667-6F2DE5004BC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3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AB305-2015-41F4-B82F-015DE2A55D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BB749-7494-49BE-8C6C-6CF9B1A20A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0FAD6-D828-49E0-BCFA-40101110ED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F511D-89F8-4260-A8CB-2353521359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3778200" y="9429840"/>
            <a:ext cx="2889360" cy="496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4AFA86-8871-42D9-A47B-BBAAC1098A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BEC41-F1B5-41DD-A03F-B3DDADEEAF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9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1E451-B0D4-47A9-8B52-694E205646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860400" y="744480"/>
            <a:ext cx="4915080" cy="368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2894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DejaVu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65080" y="744480"/>
            <a:ext cx="4889520" cy="3668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66720" y="4716000"/>
            <a:ext cx="52862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778200" y="9429840"/>
            <a:ext cx="2840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3FFC4B-87AB-4F13-B588-50F6B2C08E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CCE0-E156-4C59-95BC-C18C952444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D173-44AC-4CA8-97CA-39A90FCDB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B18C-848C-4602-AA1F-62BF042FF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83CA-6F25-4E6F-AFE6-12CFE72026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83AC6-B478-4D27-962C-5FC75976FB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048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20800" y="114264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048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20800" y="3743280"/>
            <a:ext cx="27806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683C-048C-4221-934C-F59471141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03BC-4AD4-4B38-B5A1-B83443F72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369E9-8E94-4A4A-8FF4-3EA283A11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636040" cy="50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54BC6-2956-4171-9F85-692C2EFDC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981C6-8224-446E-85FD-54C7BC3B5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5640" y="374328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E240-FB54-4CF6-A68A-1399B3D73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5640" y="1142640"/>
            <a:ext cx="421416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743280"/>
            <a:ext cx="8636040" cy="23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1E46-7981-4228-AD6B-E57A354768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287760"/>
            <a:ext cx="116856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99E13-659C-46AA-99F3-C1A7B6B34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8636040" cy="49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352680" y="5029200"/>
            <a:ext cx="4343400" cy="1200240"/>
          </a:xfrm>
          <a:prstGeom prst="pi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 V S Phaneendr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rcuitSutra Technologies Pvt. Lt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y 2011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Hierarchical Override of Parameter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DejaVu Sans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1"/>
          <p:cNvSpPr/>
          <p:nvPr/>
        </p:nvSpPr>
        <p:spPr>
          <a:xfrm>
            <a:off x="236520" y="144360"/>
            <a:ext cx="8686800" cy="9144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erarchical Override of Parameter Valu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236520" y="1285920"/>
            <a:ext cx="8786880" cy="3886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s of the present example is to demonstrate the following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-to-Model Configuration (UseCase 12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and Preset Values (UseCase 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-based Parameter Access (Requirement 1.3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"/>
          <p:cNvSpPr/>
          <p:nvPr/>
        </p:nvSpPr>
        <p:spPr>
          <a:xfrm>
            <a:off x="1371600" y="108000"/>
            <a:ext cx="6172200" cy="577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egend Diagr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444680" y="851040"/>
            <a:ext cx="6102360" cy="437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7" name="AutoShape 3"/>
          <p:cNvSpPr/>
          <p:nvPr/>
        </p:nvSpPr>
        <p:spPr>
          <a:xfrm>
            <a:off x="1219320" y="5445000"/>
            <a:ext cx="6553080" cy="4222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8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This legend diagram doesn't apply to the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Expected Output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section!!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1"/>
          <p:cNvSpPr/>
          <p:nvPr/>
        </p:nvSpPr>
        <p:spPr>
          <a:xfrm>
            <a:off x="157320" y="179280"/>
            <a:ext cx="8915400" cy="5943600"/>
          </a:xfrm>
          <a:custGeom>
            <a:avLst/>
            <a:gdLst>
              <a:gd name="textAreaLeft" fmla="*/ 360 w 8915400"/>
              <a:gd name="textAreaRight" fmla="*/ 8915040 w 8915400"/>
              <a:gd name="textAreaTop" fmla="*/ 360 h 5943600"/>
              <a:gd name="textAreaBottom" fmla="*/ 5943240 h 5943600"/>
            </a:gdLst>
            <a:ahLst/>
            <a:rect l="textAreaLeft" t="textAreaTop" r="textAreaRight" b="textAreaBottom"/>
            <a:pathLst>
              <a:path w="8915400" h="5943600">
                <a:moveTo>
                  <a:pt x="1376" y="0"/>
                </a:moveTo>
                <a:lnTo>
                  <a:pt x="1375" y="0"/>
                </a:lnTo>
                <a:cubicBezTo>
                  <a:pt x="616" y="0"/>
                  <a:pt x="0" y="616"/>
                  <a:pt x="0" y="1375"/>
                </a:cubicBezTo>
                <a:lnTo>
                  <a:pt x="0" y="5942224"/>
                </a:lnTo>
                <a:cubicBezTo>
                  <a:pt x="0" y="5942983"/>
                  <a:pt x="616" y="5943599"/>
                  <a:pt x="1375" y="5943600"/>
                </a:cubicBezTo>
                <a:lnTo>
                  <a:pt x="8914024" y="5943600"/>
                </a:lnTo>
                <a:cubicBezTo>
                  <a:pt x="8914783" y="5943599"/>
                  <a:pt x="8915400" y="5942983"/>
                  <a:pt x="8915400" y="5942224"/>
                </a:cubicBezTo>
                <a:lnTo>
                  <a:pt x="8915400" y="1376"/>
                </a:lnTo>
                <a:cubicBezTo>
                  <a:pt x="8915400" y="616"/>
                  <a:pt x="8914783" y="0"/>
                  <a:pt x="8914024" y="0"/>
                </a:cubicBezTo>
                <a:lnTo>
                  <a:pt x="1376" y="0"/>
                </a:lnTo>
                <a:close/>
              </a:path>
            </a:pathLst>
          </a:cu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AutoShape 2"/>
          <p:cNvSpPr/>
          <p:nvPr/>
        </p:nvSpPr>
        <p:spPr>
          <a:xfrm>
            <a:off x="7581960" y="2575080"/>
            <a:ext cx="1295280" cy="41256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8204040" y="2222640"/>
            <a:ext cx="11160" cy="284040"/>
          </a:xfrm>
          <a:custGeom>
            <a:avLst/>
            <a:gdLst>
              <a:gd name="textAreaLeft" fmla="*/ 0 w 11160"/>
              <a:gd name="textAreaRight" fmla="*/ 11160 w 1116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1164" h="284040">
                <a:moveTo>
                  <a:pt x="0" y="0"/>
                </a:moveTo>
                <a:lnTo>
                  <a:pt x="11164" y="284040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3079800" y="843120"/>
            <a:ext cx="3549600" cy="2917800"/>
          </a:xfrm>
          <a:prstGeom prst="pie">
            <a:avLst/>
          </a:prstGeom>
          <a:solidFill>
            <a:srgbClr val="ff99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806400" y="134460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806400" y="2208240"/>
            <a:ext cx="1461960" cy="407880"/>
          </a:xfrm>
          <a:prstGeom prst="pie">
            <a:avLst/>
          </a:prstGeom>
          <a:solidFill>
            <a:srgbClr val="00ff00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ster#n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Freeform 7"/>
          <p:cNvSpPr/>
          <p:nvPr/>
        </p:nvSpPr>
        <p:spPr>
          <a:xfrm flipH="1">
            <a:off x="1790640" y="1760400"/>
            <a:ext cx="46080" cy="411480"/>
          </a:xfrm>
          <a:custGeom>
            <a:avLst/>
            <a:gdLst>
              <a:gd name="textAreaLeft" fmla="*/ 360 w 46080"/>
              <a:gd name="textAreaRight" fmla="*/ 46800 w 46080"/>
              <a:gd name="textAreaTop" fmla="*/ 0 h 411480"/>
              <a:gd name="textAreaBottom" fmla="*/ 411840 h 411480"/>
            </a:gdLst>
            <a:ahLst/>
            <a:rect l="textAreaLeft" t="textAreaTop" r="textAreaRight" b="textAreaBottom"/>
            <a:pathLst>
              <a:path w="44641" h="411123">
                <a:moveTo>
                  <a:pt x="0" y="0"/>
                </a:moveTo>
                <a:lnTo>
                  <a:pt x="44641" y="411123"/>
                </a:lnTo>
              </a:path>
            </a:pathLst>
          </a:custGeom>
          <a:noFill/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565200" y="420840"/>
            <a:ext cx="1828800" cy="533160"/>
          </a:xfrm>
          <a:prstGeom prst="pie">
            <a:avLst/>
          </a:prstGeom>
          <a:noFill/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_Modul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6981840" y="3279600"/>
            <a:ext cx="2021040" cy="60804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ID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Base Addr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 Siz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2971800" y="4495680"/>
            <a:ext cx="2743200" cy="152424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_main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set preset valu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ax. addressable limit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d fill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ROUTER TABLE content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lave_1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 start of construction of any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s vi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ame-based Look-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p Acces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2971800" y="247680"/>
            <a:ext cx="5657760" cy="317520"/>
          </a:xfrm>
          <a:prstGeom prst="pie">
            <a:avLst/>
          </a:prstGeom>
          <a:solidFill>
            <a:srgbClr val="6d18c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Bitstream Charter"/>
              </a:rPr>
              <a:t>Binding and Communication in accordance to TLM2.0 standar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152280" y="4043520"/>
            <a:ext cx="2743200" cy="1973160"/>
          </a:xfrm>
          <a:prstGeom prst="pie">
            <a:avLst/>
          </a:prstGeom>
          <a:solidFill>
            <a:srgbClr val="e6e6e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MODU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n turn initialize few of the parameters of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i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 TAB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ntents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P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ODULE shal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 the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 Hierarc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STER(S) &amp; SLAVE(S)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OUTER, overri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i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faul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eset 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reby demonstrating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del-to-Model Configuration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7581960" y="1747800"/>
            <a:ext cx="1295280" cy="4129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2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AutoShape 16"/>
          <p:cNvSpPr/>
          <p:nvPr/>
        </p:nvSpPr>
        <p:spPr>
          <a:xfrm>
            <a:off x="7581960" y="1100160"/>
            <a:ext cx="1295280" cy="411120"/>
          </a:xfrm>
          <a:prstGeom prst="pie">
            <a:avLst/>
          </a:prstGeom>
          <a:solidFill>
            <a:srgbClr val="ff3366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ave#1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AutoShape 17"/>
          <p:cNvSpPr/>
          <p:nvPr/>
        </p:nvSpPr>
        <p:spPr>
          <a:xfrm>
            <a:off x="299880" y="3276720"/>
            <a:ext cx="2595600" cy="460080"/>
          </a:xfrm>
          <a:prstGeom prst="pie">
            <a:avLst/>
          </a:prstGeom>
          <a:solidFill>
            <a:srgbClr val="cccccc"/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(s) (im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4083120" y="1092240"/>
            <a:ext cx="1461960" cy="407880"/>
          </a:xfrm>
          <a:prstGeom prst="pie">
            <a:avLst/>
          </a:prstGeom>
          <a:solidFill>
            <a:srgbClr val="ff9966">
              <a:alpha val="50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38520" bIns="38520" anchor="ctr" anchorCtr="1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Freeform 19"/>
          <p:cNvSpPr/>
          <p:nvPr/>
        </p:nvSpPr>
        <p:spPr>
          <a:xfrm>
            <a:off x="2182680" y="1401840"/>
            <a:ext cx="1067040" cy="30456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Freeform 20"/>
          <p:cNvSpPr/>
          <p:nvPr/>
        </p:nvSpPr>
        <p:spPr>
          <a:xfrm>
            <a:off x="2182680" y="2301840"/>
            <a:ext cx="1067040" cy="304920"/>
          </a:xfrm>
          <a:custGeom>
            <a:avLst/>
            <a:gdLst>
              <a:gd name="textAreaLeft" fmla="*/ 75960 w 1067040"/>
              <a:gd name="textAreaRight" fmla="*/ 991080 w 106704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Freeform 21"/>
          <p:cNvSpPr/>
          <p:nvPr/>
        </p:nvSpPr>
        <p:spPr>
          <a:xfrm>
            <a:off x="6539040" y="11509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Freeform 22"/>
          <p:cNvSpPr/>
          <p:nvPr/>
        </p:nvSpPr>
        <p:spPr>
          <a:xfrm>
            <a:off x="6539040" y="1797120"/>
            <a:ext cx="1066680" cy="30456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3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2948040" cy="1860480"/>
          </a:xfrm>
          <a:prstGeom prst="rect">
            <a:avLst/>
          </a:prstGeom>
          <a:ln w="0">
            <a:noFill/>
          </a:ln>
        </p:spPr>
      </p:pic>
      <p:sp>
        <p:nvSpPr>
          <p:cNvPr id="150" name="Freeform 24"/>
          <p:cNvSpPr/>
          <p:nvPr/>
        </p:nvSpPr>
        <p:spPr>
          <a:xfrm>
            <a:off x="6575400" y="2616120"/>
            <a:ext cx="1066680" cy="304920"/>
          </a:xfrm>
          <a:custGeom>
            <a:avLst/>
            <a:gdLst>
              <a:gd name="textAreaLeft" fmla="*/ 75960 w 1066680"/>
              <a:gd name="textAreaRight" fmla="*/ 990720 w 10666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086" y="0"/>
                </a:lnTo>
                <a:lnTo>
                  <a:pt x="3086" y="5400"/>
                </a:lnTo>
                <a:lnTo>
                  <a:pt x="18514" y="5400"/>
                </a:ln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18514" y="16200"/>
                </a:lnTo>
                <a:lnTo>
                  <a:pt x="3086" y="16200"/>
                </a:lnTo>
                <a:lnTo>
                  <a:pt x="3086" y="21600"/>
                </a:lnTo>
                <a:lnTo>
                  <a:pt x="0" y="10800"/>
                </a:lnTo>
                <a:close/>
              </a:path>
            </a:pathLst>
          </a:custGeom>
          <a:solidFill>
            <a:srgbClr val="6d18c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AutoShape 25"/>
          <p:cNvSpPr/>
          <p:nvPr/>
        </p:nvSpPr>
        <p:spPr>
          <a:xfrm>
            <a:off x="5867280" y="4724280"/>
            <a:ext cx="3159360" cy="1392480"/>
          </a:xfrm>
          <a:prstGeom prst="pie">
            <a:avLst/>
          </a:prstGeom>
          <a:solidFill>
            <a:srgbClr val="f796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OUTER TABLE 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d#1 :  Slave#_Index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2 :  Slave#_Start_Addrt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eld#3 :  Slave#_End_add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ield contents for Slave_1 have bee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d at sc_main() and rest others with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_module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AutoShape 26"/>
          <p:cNvSpPr/>
          <p:nvPr/>
        </p:nvSpPr>
        <p:spPr>
          <a:xfrm>
            <a:off x="6445080" y="3914640"/>
            <a:ext cx="2546640" cy="814680"/>
          </a:xfrm>
          <a:prstGeom prst="pie">
            <a:avLst/>
          </a:prstGeom>
          <a:solidFill>
            <a:srgbClr val="f79646">
              <a:alpha val="99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Master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Slaves (eo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' Addressable Range (mutab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3" name="Straight Arrow Connector 8"/>
          <p:cNvCxnSpPr/>
          <p:nvPr/>
        </p:nvCxnSpPr>
        <p:spPr>
          <a:xfrm>
            <a:off x="7108560" y="564840"/>
            <a:ext cx="1080" cy="58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Elbow Connector 12"/>
          <p:cNvCxnSpPr/>
          <p:nvPr/>
        </p:nvCxnSpPr>
        <p:spPr>
          <a:xfrm rot="5400000">
            <a:off x="2401200" y="720360"/>
            <a:ext cx="1050120" cy="421560"/>
          </a:xfrm>
          <a:prstGeom prst="bentConnector3">
            <a:avLst>
              <a:gd name="adj1" fmla="val 25514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55" name="Rectangle 29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1"/>
          <p:cNvSpPr/>
          <p:nvPr/>
        </p:nvSpPr>
        <p:spPr>
          <a:xfrm>
            <a:off x="6051600" y="120600"/>
            <a:ext cx="2971800" cy="11430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NOTE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instantiates the router,   master(s) and slave(s)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itstream Charter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”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inds the above   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modules using the TLM2.0 standar</a:t>
            </a:r>
            <a:r>
              <a:rPr b="0" i="1" lang="en-US" sz="1400" spc="-1" strike="noStrike">
                <a:solidFill>
                  <a:srgbClr val="000000"/>
                </a:solidFill>
                <a:latin typeface="Bitstream Charter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AutoShape 2"/>
          <p:cNvSpPr/>
          <p:nvPr/>
        </p:nvSpPr>
        <p:spPr>
          <a:xfrm>
            <a:off x="254160" y="228600"/>
            <a:ext cx="2286000" cy="457200"/>
          </a:xfrm>
          <a:prstGeom prst="pie">
            <a:avLst/>
          </a:prstGeom>
          <a:solidFill>
            <a:srgbClr val="00d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Inside sc_main(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AutoShape 3"/>
          <p:cNvSpPr/>
          <p:nvPr/>
        </p:nvSpPr>
        <p:spPr>
          <a:xfrm>
            <a:off x="76320" y="768240"/>
            <a:ext cx="5333760" cy="603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2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76320" y="1539720"/>
            <a:ext cx="6966000" cy="603360"/>
          </a:xfrm>
          <a:prstGeom prst="pie">
            <a:avLst/>
          </a:pr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e-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number of masters for the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OP MODUL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to illustrate that the last set value is considered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number_of_masters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76320" y="2343960"/>
            <a:ext cx="632448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&gt;set_preset_cci_value(“top_module_inst.number_of_slaves”, "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AutoShape 6"/>
          <p:cNvSpPr/>
          <p:nvPr/>
        </p:nvSpPr>
        <p:spPr>
          <a:xfrm>
            <a:off x="76320" y="2969640"/>
            <a:ext cx="7192800" cy="455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Override the default maximum set addressable limit of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addr_max”, "1024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AutoShape 7"/>
          <p:cNvSpPr/>
          <p:nvPr/>
        </p:nvSpPr>
        <p:spPr>
          <a:xfrm>
            <a:off x="76320" y="3599640"/>
            <a:ext cx="7310160" cy="1369440"/>
          </a:xfrm>
          <a:prstGeom prst="pie">
            <a:avLst/>
          </a:prstGeom>
          <a:solidFill>
            <a:srgbClr val="cc00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and lock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Table conten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reset values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for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index_1”, "1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index_1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start”, "128"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star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top_module_inst.RouterInstance.r_addr_end”, “255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addr_end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AutoShape 8"/>
          <p:cNvSpPr/>
          <p:nvPr/>
        </p:nvSpPr>
        <p:spPr>
          <a:xfrm>
            <a:off x="81000" y="5168880"/>
            <a:ext cx="3424320" cy="455400"/>
          </a:xfrm>
          <a:prstGeom prst="pie">
            <a:avLst/>
          </a:prstGeom>
          <a:solidFill>
            <a:srgbClr val="bfbfb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 MODU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op_module top_mod(“top_module_inst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AutoShape 9"/>
          <p:cNvSpPr/>
          <p:nvPr/>
        </p:nvSpPr>
        <p:spPr>
          <a:xfrm>
            <a:off x="76320" y="5661000"/>
            <a:ext cx="3886200" cy="6386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imualation Starts after construction of the hierarchy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c_start(1140, SC_NS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1"/>
          <p:cNvSpPr/>
          <p:nvPr/>
        </p:nvSpPr>
        <p:spPr>
          <a:xfrm>
            <a:off x="254160" y="228600"/>
            <a:ext cx="3174840" cy="457200"/>
          </a:xfrm>
          <a:prstGeom prst="pie">
            <a:avLst/>
          </a:prstGeom>
          <a:solidFill>
            <a:srgbClr val="cc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TOP_MODUL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Freeform 2"/>
          <p:cNvSpPr/>
          <p:nvPr/>
        </p:nvSpPr>
        <p:spPr>
          <a:xfrm>
            <a:off x="243000" y="1020600"/>
            <a:ext cx="8443800" cy="5151600"/>
          </a:xfrm>
          <a:custGeom>
            <a:avLst/>
            <a:gdLst>
              <a:gd name="textAreaLeft" fmla="*/ 3600 w 8443800"/>
              <a:gd name="textAreaRight" fmla="*/ 8440200 w 8443800"/>
              <a:gd name="textAreaTop" fmla="*/ 3600 h 5151600"/>
              <a:gd name="textAreaBottom" fmla="*/ 5148000 h 5151600"/>
            </a:gdLst>
            <a:ahLst/>
            <a:rect l="textAreaLeft" t="textAreaTop" r="textAreaRight" b="textAreaBottom"/>
            <a:pathLst>
              <a:path w="8443798" h="5151601">
                <a:moveTo>
                  <a:pt x="13356" y="0"/>
                </a:moveTo>
                <a:lnTo>
                  <a:pt x="13355" y="0"/>
                </a:lnTo>
                <a:cubicBezTo>
                  <a:pt x="5979" y="0"/>
                  <a:pt x="0" y="5979"/>
                  <a:pt x="0" y="13355"/>
                </a:cubicBezTo>
                <a:lnTo>
                  <a:pt x="0" y="5138245"/>
                </a:lnTo>
                <a:cubicBezTo>
                  <a:pt x="0" y="5145621"/>
                  <a:pt x="5979" y="5151600"/>
                  <a:pt x="13355" y="5151601"/>
                </a:cubicBezTo>
                <a:lnTo>
                  <a:pt x="8430442" y="5151601"/>
                </a:lnTo>
                <a:cubicBezTo>
                  <a:pt x="8437818" y="5151600"/>
                  <a:pt x="8443798" y="5145621"/>
                  <a:pt x="8443798" y="5138245"/>
                </a:cubicBezTo>
                <a:lnTo>
                  <a:pt x="8443798" y="13356"/>
                </a:lnTo>
                <a:cubicBezTo>
                  <a:pt x="8443798" y="5979"/>
                  <a:pt x="8437818" y="0"/>
                  <a:pt x="8430442" y="0"/>
                </a:cubicBezTo>
                <a:lnTo>
                  <a:pt x="13356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AutoShape 3"/>
          <p:cNvSpPr/>
          <p:nvPr/>
        </p:nvSpPr>
        <p:spPr>
          <a:xfrm>
            <a:off x="890640" y="1591200"/>
            <a:ext cx="74912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master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masters”, name(),  n_master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1; 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master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22280" y="1128600"/>
            <a:ext cx="2092320" cy="330480"/>
          </a:xfrm>
          <a:prstGeom prst="pie">
            <a:avLst/>
          </a:prstGeom>
          <a:solidFill>
            <a:srgbClr val="cccccc"/>
          </a:solidFill>
          <a:ln w="9360">
            <a:solidFill>
              <a:srgbClr val="99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6364440" y="120600"/>
            <a:ext cx="2622240" cy="7938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n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n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890640" y="2592720"/>
            <a:ext cx="7262640" cy="821160"/>
          </a:xfrm>
          <a:prstGeom prst="pie">
            <a:avLst/>
          </a:prstGeom>
          <a:solidFill>
            <a:srgbClr val="cc00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umber of slaves for th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(RouterTable) and lock them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set_preset_cci_value(“%s.RouterInstance.r_slaves”, name(), n_slaves.get()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Here,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4; 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(default value overridde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yGlobalBroker-&gt;lock_preset_value(“top_module_inst.RouterInstance.r_slaves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2514600" y="3672000"/>
            <a:ext cx="3849840" cy="601560"/>
          </a:xfrm>
          <a:prstGeom prst="pie">
            <a:avLst/>
          </a:prstGeom>
          <a:solidFill>
            <a:srgbClr val="ff9966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instance and fill the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based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on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preset value (if set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routerInstance(“RouterInstance”)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495360" y="4710960"/>
            <a:ext cx="3531960" cy="455400"/>
          </a:xfrm>
          <a:prstGeom prst="pie">
            <a:avLst/>
          </a:prstGeom>
          <a:solidFill>
            <a:srgbClr val="23ff23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struct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MASTER(S) (their number as set within ‘sc_main’ 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4748040" y="4713120"/>
            <a:ext cx="3657600" cy="638640"/>
          </a:xfrm>
          <a:prstGeom prst="pie">
            <a:avLst/>
          </a:prstGeom>
          <a:solidFill>
            <a:srgbClr val="ff3366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Initializes base address of slave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’s start address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and finally Cosntruct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(s) (number of slave(s) as set within 'sc_main'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963720" y="4287960"/>
            <a:ext cx="7084800" cy="407880"/>
          </a:xfrm>
          <a:prstGeom prst="pie">
            <a:avLst/>
          </a:prstGeom>
          <a:solidFill>
            <a:srgbClr val="9966cc"/>
          </a:solidFill>
          <a:ln w="9360">
            <a:solidFill>
              <a:srgbClr val="355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Binding in accordance to TLM2.0 standard via ROUTER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AutoShape 11"/>
          <p:cNvSpPr/>
          <p:nvPr/>
        </p:nvSpPr>
        <p:spPr>
          <a:xfrm>
            <a:off x="317520" y="5418720"/>
            <a:ext cx="7302600" cy="821160"/>
          </a:xfrm>
          <a:prstGeom prst="pie">
            <a:avLst/>
          </a:prstGeom>
          <a:solidFill>
            <a:srgbClr val="b3b300"/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 and Set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he preset values to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OUTER TABLE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t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1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contents will result in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iled parameter setting warning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generation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Warning: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DEFAULT_BROKER_0: set_preset_cci_value: ... setting failed because preset value is locked!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7405560" y="3200400"/>
            <a:ext cx="1281240" cy="1079640"/>
          </a:xfrm>
          <a:prstGeom prst="borderCallout1">
            <a:avLst>
              <a:gd name="adj1" fmla="val 18750"/>
              <a:gd name="adj2" fmla="val -8333"/>
              <a:gd name="adj3" fmla="val 72763"/>
              <a:gd name="adj4" fmla="val -81569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sed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ry-catch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echanism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the prese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values for th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outer Table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AutoShape 13"/>
          <p:cNvSpPr/>
          <p:nvPr/>
        </p:nvSpPr>
        <p:spPr>
          <a:xfrm flipH="1">
            <a:off x="343800" y="3573360"/>
            <a:ext cx="1079640" cy="6858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62379"/>
              <a:gd name="adj6" fmla="val -1000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Slave_siz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preset val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so specified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"/>
          <p:cNvSpPr/>
          <p:nvPr/>
        </p:nvSpPr>
        <p:spPr>
          <a:xfrm>
            <a:off x="254160" y="228600"/>
            <a:ext cx="248904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Within ROUTE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1" name="Freeform 2"/>
          <p:cNvSpPr/>
          <p:nvPr/>
        </p:nvSpPr>
        <p:spPr>
          <a:xfrm>
            <a:off x="254160" y="3657600"/>
            <a:ext cx="3860640" cy="1828800"/>
          </a:xfrm>
          <a:custGeom>
            <a:avLst/>
            <a:gdLst/>
            <a:ahLst/>
            <a:rect l="l" t="t" r="r" b="b"/>
            <a:pathLst>
              <a:path w="3860642" h="1828800">
                <a:moveTo>
                  <a:pt x="1016" y="0"/>
                </a:moveTo>
                <a:lnTo>
                  <a:pt x="1015" y="0"/>
                </a:lnTo>
                <a:cubicBezTo>
                  <a:pt x="454" y="0"/>
                  <a:pt x="0" y="454"/>
                  <a:pt x="0" y="1015"/>
                </a:cubicBezTo>
                <a:lnTo>
                  <a:pt x="0" y="1827784"/>
                </a:lnTo>
                <a:cubicBezTo>
                  <a:pt x="0" y="1828345"/>
                  <a:pt x="454" y="1828799"/>
                  <a:pt x="1015" y="1828800"/>
                </a:cubicBezTo>
                <a:lnTo>
                  <a:pt x="3859626" y="1828800"/>
                </a:lnTo>
                <a:cubicBezTo>
                  <a:pt x="3860187" y="1828799"/>
                  <a:pt x="3860642" y="1828345"/>
                  <a:pt x="3860642" y="1827784"/>
                </a:cubicBezTo>
                <a:lnTo>
                  <a:pt x="3860642" y="1016"/>
                </a:lnTo>
                <a:cubicBezTo>
                  <a:pt x="3860642" y="454"/>
                  <a:pt x="3860187" y="0"/>
                  <a:pt x="3859626" y="0"/>
                </a:cubicBezTo>
                <a:lnTo>
                  <a:pt x="1016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5979960" y="84240"/>
            <a:ext cx="3079800" cy="1022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Default Values</a:t>
            </a: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masters : r_master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Number of slaves : r_slaves = 0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Max' Addressable Limit : addr_limit = 64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398520" y="3827520"/>
            <a:ext cx="2489040" cy="33012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'beoe' pha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398520" y="4343400"/>
            <a:ext cx="3487680" cy="9144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Builds the Router Table contents with default  values within this phase in case if no preset values were set from th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top_module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Freeform 6"/>
          <p:cNvSpPr/>
          <p:nvPr/>
        </p:nvSpPr>
        <p:spPr>
          <a:xfrm>
            <a:off x="254160" y="912960"/>
            <a:ext cx="4622760" cy="2058840"/>
          </a:xfrm>
          <a:custGeom>
            <a:avLst/>
            <a:gdLst/>
            <a:ahLst/>
            <a:rect l="l" t="t" r="r" b="b"/>
            <a:pathLst>
              <a:path w="4546442" h="2058835">
                <a:moveTo>
                  <a:pt x="1144" y="0"/>
                </a:moveTo>
                <a:lnTo>
                  <a:pt x="1143" y="0"/>
                </a:lnTo>
                <a:cubicBezTo>
                  <a:pt x="512" y="0"/>
                  <a:pt x="0" y="512"/>
                  <a:pt x="0" y="1143"/>
                </a:cubicBezTo>
                <a:lnTo>
                  <a:pt x="0" y="2057691"/>
                </a:lnTo>
                <a:cubicBezTo>
                  <a:pt x="0" y="2058322"/>
                  <a:pt x="512" y="2058834"/>
                  <a:pt x="1143" y="2058835"/>
                </a:cubicBezTo>
                <a:lnTo>
                  <a:pt x="4545298" y="2058835"/>
                </a:lnTo>
                <a:cubicBezTo>
                  <a:pt x="4545929" y="2058834"/>
                  <a:pt x="4546442" y="2058322"/>
                  <a:pt x="4546442" y="2057691"/>
                </a:cubicBezTo>
                <a:lnTo>
                  <a:pt x="4546442" y="1144"/>
                </a:lnTo>
                <a:cubicBezTo>
                  <a:pt x="4546442" y="512"/>
                  <a:pt x="4545929" y="0"/>
                  <a:pt x="4545298" y="0"/>
                </a:cubicBezTo>
                <a:lnTo>
                  <a:pt x="1144" y="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61800" y="1020600"/>
            <a:ext cx="248940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itstream Charter"/>
              </a:rPr>
              <a:t>Within constructor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361800" y="1530360"/>
            <a:ext cx="417384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addr_limit =1024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initialized within sc_main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AutoShape 9"/>
          <p:cNvSpPr/>
          <p:nvPr/>
        </p:nvSpPr>
        <p:spPr>
          <a:xfrm>
            <a:off x="398520" y="1922400"/>
            <a:ext cx="432576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masters = 1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AutoShape 10"/>
          <p:cNvSpPr/>
          <p:nvPr/>
        </p:nvSpPr>
        <p:spPr>
          <a:xfrm>
            <a:off x="398520" y="2390760"/>
            <a:ext cx="4173480" cy="32868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r_slaves = 4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(already set and locked by TOP_MODULE)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AutoShape 11"/>
          <p:cNvSpPr/>
          <p:nvPr/>
        </p:nvSpPr>
        <p:spPr>
          <a:xfrm>
            <a:off x="5896080" y="4424400"/>
            <a:ext cx="914400" cy="457200"/>
          </a:xfrm>
          <a:prstGeom prst="pie">
            <a:avLst/>
          </a:prstGeom>
          <a:solidFill>
            <a:srgbClr val="3deb3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7875720" y="4387680"/>
            <a:ext cx="914400" cy="457200"/>
          </a:xfrm>
          <a:prstGeom prst="pie">
            <a:avLst/>
          </a:prstGeom>
          <a:solidFill>
            <a:srgbClr val="ff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AutoShape 13"/>
          <p:cNvSpPr/>
          <p:nvPr/>
        </p:nvSpPr>
        <p:spPr>
          <a:xfrm>
            <a:off x="6558120" y="2732040"/>
            <a:ext cx="1371600" cy="457200"/>
          </a:xfrm>
          <a:prstGeom prst="pie">
            <a:avLst/>
          </a:prstGeom>
          <a:solidFill>
            <a:srgbClr val="ff99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AutoShape 14"/>
          <p:cNvSpPr/>
          <p:nvPr/>
        </p:nvSpPr>
        <p:spPr>
          <a:xfrm>
            <a:off x="5823000" y="2236680"/>
            <a:ext cx="2971800" cy="457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Bitstream Charter"/>
              </a:rPr>
              <a:t>TLM2 Communication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4" name="AutoShape 15"/>
          <p:cNvCxnSpPr/>
          <p:nvPr/>
        </p:nvCxnSpPr>
        <p:spPr>
          <a:xfrm flipV="1">
            <a:off x="6110280" y="3296880"/>
            <a:ext cx="527760" cy="95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16"/>
          <p:cNvCxnSpPr/>
          <p:nvPr/>
        </p:nvCxnSpPr>
        <p:spPr>
          <a:xfrm>
            <a:off x="7911720" y="3325320"/>
            <a:ext cx="618120" cy="94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17"/>
          <p:cNvCxnSpPr/>
          <p:nvPr/>
        </p:nvCxnSpPr>
        <p:spPr>
          <a:xfrm flipH="1" flipV="1">
            <a:off x="7798680" y="3436560"/>
            <a:ext cx="484920" cy="79128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97" name="AutoShape 18"/>
          <p:cNvCxnSpPr/>
          <p:nvPr/>
        </p:nvCxnSpPr>
        <p:spPr>
          <a:xfrm flipH="1">
            <a:off x="6285960" y="3443400"/>
            <a:ext cx="440280" cy="821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98" name="Rectangle 21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7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636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Expected Outpu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ＭＳ Ｐゴシック"/>
              </a:rPr>
              <a:t>(ex09_Hierarchical_Override_of_Parameter_Values.log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80880" y="12193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initiators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ting preset value of the number of targets to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target_1 conten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Start Address for target_1 to 12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Set and lock Router Table End Address for target_1 to 2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[MAIN] : Instantiate top module after setting preset values to top_module, router and target paramet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-- [TOP MODULE CONSTRUCTOR BEGINS HERE]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initiators :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 Number of targets :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: @0 s, [TOP_MODULE C_TOR] : Creating Router : RouterInst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top_module_inst.RouterInstance: @0 s, [ROUTER C_TOR] ----- [ROUTER CONSTRUCTOR BEGINS HERE] ------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800" spc="-1" strike="noStrike">
                <a:solidFill>
                  <a:srgbClr val="3333cc"/>
                </a:solidFill>
                <a:latin typeface="Calibri"/>
                <a:ea typeface="Calibri"/>
              </a:rPr>
              <a:t>The remained of the logfile is interesting but too lengthy to include here; the reader is encouraged to run the example, or examine the golden logfile, to see all of the detai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8:34:41Z</dcterms:created>
  <dc:creator>P V S Phaneendra, Girish Verma</dc:creator>
  <dc:description/>
  <cp:keywords>CTPClassification=CTP_IC:VisualMarkings=</cp:keywords>
  <dc:language>en-US</dc:language>
  <cp:lastModifiedBy>Wieman, Trevor</cp:lastModifiedBy>
  <cp:lastPrinted>2017-02-05T19:45:47Z</cp:lastPrinted>
  <dcterms:modified xsi:type="dcterms:W3CDTF">2017-12-15T21:02:17Z</dcterms:modified>
  <cp:revision>45</cp:revision>
  <dc:subject/>
  <dc:title>Hierarchical_Override_of_Parameter_Val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1:02:17Z</vt:lpwstr>
  </property>
  <property fmtid="{D5CDD505-2E9C-101B-9397-08002B2CF9AE}" pid="5" name="TitusGUID">
    <vt:lpwstr>5dfb4e06-5d0b-41e9-9b26-1c1bb8b29aab</vt:lpwstr>
  </property>
</Properties>
</file>