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54C86-DD48-4E3E-BCE0-E9B65C482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6F04E9-78C4-40C8-BB11-996D2279B5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7863EB-B285-48A1-9D8D-B746D28A0E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5250E-1304-4E0A-AB6B-E083CA6A04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CEA41-BD1B-4C5A-B634-32CB903FA52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C8FEC3-7064-4824-B4DE-BD58E37C1B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A8A5C-008C-4DE5-AFC8-4E1CE99929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20A60-A754-4724-A096-4F85521AD1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4367A-18F7-4A15-AE0F-7F677CD72F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E35091-6683-4426-A731-671D097AB8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0595A5-8ADE-443D-86BB-2C79640F67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3E89E-3A8D-475B-A2D0-8143587CA5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E5FB7-12CD-4F6F-B697-5F44B2EFE1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70496-69EE-4F86-B7FB-D642C414DB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E27A4-B8BD-4E86-9CF7-13197D8442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7D349-19F5-4A52-AFFA-73C4CE3512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23E32-98D7-42F5-954D-9C1FB114B8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5E82B-3698-42FB-9EBE-4DEDFD86CC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246B8-F70F-4EC5-B7C2-ACF6458762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FE196-9D9D-4314-91D2-B798D7F33F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68116-552F-4BF7-B52D-3B25122A41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94172-D9C2-4402-842A-B1C65A834D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8B9CD-90FA-47D2-AB29-96F696FAA5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93055-115A-4D3C-A288-4AADF760E3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55EB7-5B5F-4A49-90A7-D66BCBA39D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55E22-5F10-4B06-83BA-E9BA68A022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E366A-6AA5-45A1-9E28-AF556EAD6A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2ABAD-B5D8-4932-99EE-C501310F7C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9BDDD-B074-437B-8535-12D8BE0172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F6C93-FB22-4714-A26C-6B30876C2F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5B869-CF37-4B10-B7A9-6063338388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BF3C84-94B2-4987-BB86-AEF9D91DE1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E1DA8-D16D-43BE-90F4-7016F0008C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CA348-F8C3-4639-BDC8-BC8410E286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DB4AF-AADE-4172-B4C6-23DFD53459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BB6E3-6E8D-4D6A-ADD5-10F426319F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CA3F-BFAA-4F8B-8BF7-BF51E32D7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6544-BBF3-40BC-890A-02A341B3C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6C52-4D87-4F8E-872B-5E97EAAE87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AAE4-F430-46FF-B358-E9FB8D8AB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0D8E-CA18-4A94-BDD6-152BB4623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D9451-B297-4860-A8EA-BC622C3EB82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1AC6-CC7F-477E-9FB9-6365A53E73E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F4A15-B778-4AB2-8890-0552320EF3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CD14-F84A-4B64-90A4-950C99256A9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27024-3090-4313-8D58-428FB2DE74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4256-E8CE-4249-A22E-B472700FE6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F973-DCDC-43CC-AA36-50C723E446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589B3-0F9A-4B55-B9AD-1AC97E4227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EC5B-A5BA-46CA-8CCB-E16833B35B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7A503-6F46-4AB8-8CB3-5ABEB2B29D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7BE2-FF82-4CDF-ABAC-7BE3A1C7EF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EDF4-A1A2-45DF-BF3B-DE5457C395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BF04-7938-4727-A71A-699BDCF51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C68B-80D3-4DC8-924C-F168DE83F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28A4A-F446-4F11-BAD7-D1601ED480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3DE7F-E0DE-40BD-A66E-9A3CA010C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E346-89E6-42B7-9D08-0BF61BF798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A27B2-6064-46CC-AD60-7ECAD6C27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1C4B-E877-4BA1-9374-313CD4207D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9ADF6-06F9-4676-9D19-5582CE2627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913BA9-0B46-4488-9334-B21D3C41BA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ter Parameter Value Constraint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stemC CCI W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g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5_Inter_Parameter_Value_Constraint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In this example, the following is condition is verifi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 x &lt;= 2^n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where, 'x' : value of 'mem_block_size' (Memory Block size), 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       'n' : total number of address lines - 'curr_addr_lines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addr_lines_mod: @0 s, [ADDR_LINES_REG C_TOR] : Default Address Lines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.memory_block: @0 s, [MEMORY_BLOCK C_TOR] : Default Memory Size : 5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mem_size' to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memory_block.mem_size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mem_block_post_wr_cb] : Parameter Name : processor.addr_lines_mod.curr_addr_lines Parameter Value : 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0 s, [PROCESSOR fn] : The address lines cannot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5 ns, [CFGR] : Modify the 'curr_addr_lines'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0880" y="1514520"/>
            <a:ext cx="86868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addr_lines_post_wr_cb] : Parameter Name : processor.memory_block.mem_size    Parameter Value : 6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5 ns, [PROCESSOR fn] : The number of address lines can now address the current memory siz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] : Changing the 'mem_size' to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memory_block.mem_size    Parameter Value : 8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mem_block_post_wr_cb] : Parameter Name : processor.addr_lines_mod.curr_addr_lines   Parameter Value :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rocessor: @10 ns, [PROCESSOR fn] : User may proceed with the present configu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ter_Parameter_Value_Constrai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stablishing and maintaining inter-parameter value constraints (R16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porting inter-parameter value constraint vio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ynamic ability to reject values have been explained and contrasted to (static) lock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61"/>
          <p:cNvGrpSpPr/>
          <p:nvPr/>
        </p:nvGrpSpPr>
        <p:grpSpPr>
          <a:xfrm>
            <a:off x="2438280" y="2286000"/>
            <a:ext cx="4496040" cy="2209680"/>
            <a:chOff x="2438280" y="2286000"/>
            <a:chExt cx="4496040" cy="2209680"/>
          </a:xfrm>
        </p:grpSpPr>
        <p:sp>
          <p:nvSpPr>
            <p:cNvPr id="184" name="AutoShape 23"/>
            <p:cNvSpPr/>
            <p:nvPr/>
          </p:nvSpPr>
          <p:spPr>
            <a:xfrm>
              <a:off x="2438280" y="2286000"/>
              <a:ext cx="4496040" cy="161604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‘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’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&lt;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2</a:t>
              </a:r>
              <a:r>
                <a:rPr b="1" lang="en-US" sz="1400" spc="-1" strike="noStrike" baseline="30000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 – 1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where,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X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Memory Block Size, and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	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Number of address 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3352680" y="4076640"/>
              <a:ext cx="2489400" cy="41904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dition to be teste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Rectangle 6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1"/>
          <p:cNvGrpSpPr/>
          <p:nvPr/>
        </p:nvGrpSpPr>
        <p:grpSpPr>
          <a:xfrm>
            <a:off x="685800" y="2438280"/>
            <a:ext cx="7696080" cy="3700080"/>
            <a:chOff x="685800" y="2438280"/>
            <a:chExt cx="7696080" cy="3700080"/>
          </a:xfrm>
        </p:grpSpPr>
        <p:sp>
          <p:nvSpPr>
            <p:cNvPr id="189" name="AutoShape 23"/>
            <p:cNvSpPr/>
            <p:nvPr/>
          </p:nvSpPr>
          <p:spPr>
            <a:xfrm>
              <a:off x="685800" y="2438280"/>
              <a:ext cx="7696080" cy="34045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3352680" y="5925960"/>
              <a:ext cx="2489400" cy="212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57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rocess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1" name="Group 19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192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6" name="Group 20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197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01" name="Group 25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02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and store the handles for interrelated parameters of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odu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5"/>
          <p:cNvSpPr/>
          <p:nvPr/>
        </p:nvSpPr>
        <p:spPr>
          <a:xfrm>
            <a:off x="1219320" y="2743200"/>
            <a:ext cx="6705360" cy="9144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Defines a function that checks the condition :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&lt;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2</a:t>
            </a:r>
            <a:r>
              <a:rPr b="1" lang="en-US" sz="1400" spc="-1" strike="noStrike" baseline="60000">
                <a:solidFill>
                  <a:srgbClr val="000000"/>
                </a:solidFill>
                <a:latin typeface="Bitstream Charter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-1</a:t>
            </a:r>
            <a:br>
              <a:rPr sz="1400"/>
            </a:b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void TestCondition( int &lt;addr_lines&gt;, int &lt;memory_size&gt; )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generates log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whether or not the condition specifed is me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3"/>
          <p:cNvGrpSpPr/>
          <p:nvPr/>
        </p:nvGrpSpPr>
        <p:grpSpPr>
          <a:xfrm>
            <a:off x="685800" y="990720"/>
            <a:ext cx="7696080" cy="5147640"/>
            <a:chOff x="685800" y="990720"/>
            <a:chExt cx="7696080" cy="5147640"/>
          </a:xfrm>
        </p:grpSpPr>
        <p:grpSp>
          <p:nvGrpSpPr>
            <p:cNvPr id="208" name="Group 2"/>
            <p:cNvGrpSpPr/>
            <p:nvPr/>
          </p:nvGrpSpPr>
          <p:grpSpPr>
            <a:xfrm>
              <a:off x="685800" y="2362320"/>
              <a:ext cx="7696080" cy="3776040"/>
              <a:chOff x="685800" y="2362320"/>
              <a:chExt cx="7696080" cy="3776040"/>
            </a:xfrm>
          </p:grpSpPr>
          <p:sp>
            <p:nvSpPr>
              <p:cNvPr id="209" name="AutoShape 23"/>
              <p:cNvSpPr/>
              <p:nvPr/>
            </p:nvSpPr>
            <p:spPr>
              <a:xfrm>
                <a:off x="685800" y="2362320"/>
                <a:ext cx="7696080" cy="347436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0" name="AutoShape 5"/>
              <p:cNvSpPr/>
              <p:nvPr/>
            </p:nvSpPr>
            <p:spPr>
              <a:xfrm>
                <a:off x="3352680" y="5921640"/>
                <a:ext cx="2489400" cy="2167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5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12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3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grpSp>
        <p:nvGrpSpPr>
          <p:cNvPr id="214" name="Group 6"/>
          <p:cNvGrpSpPr/>
          <p:nvPr/>
        </p:nvGrpSpPr>
        <p:grpSpPr>
          <a:xfrm>
            <a:off x="914400" y="4152960"/>
            <a:ext cx="3200400" cy="1638360"/>
            <a:chOff x="914400" y="4152960"/>
            <a:chExt cx="3200400" cy="1638360"/>
          </a:xfrm>
        </p:grpSpPr>
        <p:sp>
          <p:nvSpPr>
            <p:cNvPr id="215" name="AutoShape 5"/>
            <p:cNvSpPr/>
            <p:nvPr/>
          </p:nvSpPr>
          <p:spPr>
            <a:xfrm>
              <a:off x="1244520" y="552456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ddress_lines_regist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AutoShape 5"/>
            <p:cNvSpPr/>
            <p:nvPr/>
          </p:nvSpPr>
          <p:spPr>
            <a:xfrm>
              <a:off x="914400" y="415296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>
              <a:off x="990360" y="438156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curr_addr_lin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>
              <a:off x="1600200" y="487692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9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9" name="Group 11"/>
          <p:cNvGrpSpPr/>
          <p:nvPr/>
        </p:nvGrpSpPr>
        <p:grpSpPr>
          <a:xfrm>
            <a:off x="4952880" y="4191120"/>
            <a:ext cx="3200400" cy="1638360"/>
            <a:chOff x="4952880" y="4191120"/>
            <a:chExt cx="3200400" cy="1638360"/>
          </a:xfrm>
        </p:grpSpPr>
        <p:sp>
          <p:nvSpPr>
            <p:cNvPr id="220" name="AutoShape 5"/>
            <p:cNvSpPr/>
            <p:nvPr/>
          </p:nvSpPr>
          <p:spPr>
            <a:xfrm>
              <a:off x="5334120" y="556272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memory_block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AutoShape 5"/>
            <p:cNvSpPr/>
            <p:nvPr/>
          </p:nvSpPr>
          <p:spPr>
            <a:xfrm>
              <a:off x="4952880" y="4191120"/>
              <a:ext cx="3200400" cy="12193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AutoShape 5"/>
            <p:cNvSpPr/>
            <p:nvPr/>
          </p:nvSpPr>
          <p:spPr>
            <a:xfrm>
              <a:off x="5105520" y="4419720"/>
              <a:ext cx="2971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 Nam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mem_siz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AutoShape 5"/>
            <p:cNvSpPr/>
            <p:nvPr/>
          </p:nvSpPr>
          <p:spPr>
            <a:xfrm>
              <a:off x="5715000" y="49150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Default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5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24" name="AutoShape 1"/>
          <p:cNvSpPr/>
          <p:nvPr/>
        </p:nvSpPr>
        <p:spPr>
          <a:xfrm>
            <a:off x="228600" y="2057400"/>
            <a:ext cx="1676520" cy="2365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61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Infrastructur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AutoShape 5"/>
          <p:cNvSpPr/>
          <p:nvPr/>
        </p:nvSpPr>
        <p:spPr>
          <a:xfrm>
            <a:off x="1219320" y="2687760"/>
            <a:ext cx="6705360" cy="11221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rocesso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register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OST_WRITE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allbacks on base parameters of the child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itstream Chart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in callbacks implemention, the current values of the cci-parameters are fed to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3"/>
          <p:cNvGrpSpPr/>
          <p:nvPr/>
        </p:nvGrpSpPr>
        <p:grpSpPr>
          <a:xfrm>
            <a:off x="685800" y="990720"/>
            <a:ext cx="7696080" cy="5148000"/>
            <a:chOff x="685800" y="990720"/>
            <a:chExt cx="7696080" cy="5148000"/>
          </a:xfrm>
        </p:grpSpPr>
        <p:grpSp>
          <p:nvGrpSpPr>
            <p:cNvPr id="229" name="Group 4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sp>
            <p:nvSpPr>
              <p:cNvPr id="230" name="AutoShape 23"/>
              <p:cNvSpPr/>
              <p:nvPr/>
            </p:nvSpPr>
            <p:spPr>
              <a:xfrm>
                <a:off x="685800" y="274320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1" name="AutoShape 5"/>
              <p:cNvSpPr/>
              <p:nvPr/>
            </p:nvSpPr>
            <p:spPr>
              <a:xfrm>
                <a:off x="3352680" y="594360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3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3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42" name="Group 17"/>
            <p:cNvGrpSpPr/>
            <p:nvPr/>
          </p:nvGrpSpPr>
          <p:grpSpPr>
            <a:xfrm>
              <a:off x="1219320" y="990720"/>
              <a:ext cx="6705360" cy="1295280"/>
              <a:chOff x="1219320" y="990720"/>
              <a:chExt cx="6705360" cy="1295280"/>
            </a:xfrm>
          </p:grpSpPr>
          <p:sp>
            <p:nvSpPr>
              <p:cNvPr id="243" name="AutoShape 5"/>
              <p:cNvSpPr/>
              <p:nvPr/>
            </p:nvSpPr>
            <p:spPr>
              <a:xfrm>
                <a:off x="1219320" y="990720"/>
                <a:ext cx="6705360" cy="91440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Get and store the handles for interrelated parameters of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and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odul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44" name="AutoShape 5"/>
              <p:cNvSpPr/>
              <p:nvPr/>
            </p:nvSpPr>
            <p:spPr>
              <a:xfrm>
                <a:off x="3276720" y="201924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Configurat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45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30"/>
          <p:cNvGrpSpPr/>
          <p:nvPr/>
        </p:nvGrpSpPr>
        <p:grpSpPr>
          <a:xfrm>
            <a:off x="685800" y="2776680"/>
            <a:ext cx="7696080" cy="3395520"/>
            <a:chOff x="685800" y="2776680"/>
            <a:chExt cx="7696080" cy="3395520"/>
          </a:xfrm>
        </p:grpSpPr>
        <p:grpSp>
          <p:nvGrpSpPr>
            <p:cNvPr id="249" name="Group 4"/>
            <p:cNvGrpSpPr/>
            <p:nvPr/>
          </p:nvGrpSpPr>
          <p:grpSpPr>
            <a:xfrm>
              <a:off x="685800" y="2776680"/>
              <a:ext cx="7696080" cy="3395520"/>
              <a:chOff x="685800" y="2776680"/>
              <a:chExt cx="7696080" cy="3395520"/>
            </a:xfrm>
          </p:grpSpPr>
          <p:sp>
            <p:nvSpPr>
              <p:cNvPr id="250" name="AutoShape 23"/>
              <p:cNvSpPr/>
              <p:nvPr/>
            </p:nvSpPr>
            <p:spPr>
              <a:xfrm>
                <a:off x="685800" y="2776680"/>
                <a:ext cx="7696080" cy="3124080"/>
              </a:xfrm>
              <a:prstGeom prst="roundRect">
                <a:avLst>
                  <a:gd name="adj" fmla="val 134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1" name="AutoShape 5"/>
              <p:cNvSpPr/>
              <p:nvPr/>
            </p:nvSpPr>
            <p:spPr>
              <a:xfrm>
                <a:off x="3352680" y="5977080"/>
                <a:ext cx="2489400" cy="1951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4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rocesso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2" name="Group 7"/>
            <p:cNvGrpSpPr/>
            <p:nvPr/>
          </p:nvGrpSpPr>
          <p:grpSpPr>
            <a:xfrm>
              <a:off x="914400" y="4152960"/>
              <a:ext cx="3200400" cy="1638360"/>
              <a:chOff x="914400" y="4152960"/>
              <a:chExt cx="3200400" cy="1638360"/>
            </a:xfrm>
          </p:grpSpPr>
          <p:sp>
            <p:nvSpPr>
              <p:cNvPr id="253" name="AutoShape 5"/>
              <p:cNvSpPr/>
              <p:nvPr/>
            </p:nvSpPr>
            <p:spPr>
              <a:xfrm>
                <a:off x="1244520" y="552456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address_lines_register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4" name="AutoShape 5"/>
              <p:cNvSpPr/>
              <p:nvPr/>
            </p:nvSpPr>
            <p:spPr>
              <a:xfrm>
                <a:off x="914400" y="415296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5" name="AutoShape 5"/>
              <p:cNvSpPr/>
              <p:nvPr/>
            </p:nvSpPr>
            <p:spPr>
              <a:xfrm>
                <a:off x="990360" y="438156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curr_addr_lines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6" name="AutoShape 5"/>
              <p:cNvSpPr/>
              <p:nvPr/>
            </p:nvSpPr>
            <p:spPr>
              <a:xfrm>
                <a:off x="1600200" y="487692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9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57" name="Group 12"/>
            <p:cNvGrpSpPr/>
            <p:nvPr/>
          </p:nvGrpSpPr>
          <p:grpSpPr>
            <a:xfrm>
              <a:off x="4952880" y="4191120"/>
              <a:ext cx="3200400" cy="1638360"/>
              <a:chOff x="4952880" y="4191120"/>
              <a:chExt cx="3200400" cy="1638360"/>
            </a:xfrm>
          </p:grpSpPr>
          <p:sp>
            <p:nvSpPr>
              <p:cNvPr id="258" name="AutoShape 5"/>
              <p:cNvSpPr/>
              <p:nvPr/>
            </p:nvSpPr>
            <p:spPr>
              <a:xfrm>
                <a:off x="5334120" y="5562720"/>
                <a:ext cx="248904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memory_block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59" name="AutoShape 5"/>
              <p:cNvSpPr/>
              <p:nvPr/>
            </p:nvSpPr>
            <p:spPr>
              <a:xfrm>
                <a:off x="4952880" y="4191120"/>
                <a:ext cx="3200400" cy="121932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AutoShape 5"/>
              <p:cNvSpPr/>
              <p:nvPr/>
            </p:nvSpPr>
            <p:spPr>
              <a:xfrm>
                <a:off x="5105520" y="4419720"/>
                <a:ext cx="2971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3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Parameter Nam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mem_size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1" name="AutoShape 5"/>
              <p:cNvSpPr/>
              <p:nvPr/>
            </p:nvSpPr>
            <p:spPr>
              <a:xfrm>
                <a:off x="5715000" y="4915080"/>
                <a:ext cx="1828800" cy="266760"/>
              </a:xfrm>
              <a:prstGeom prst="roundRect">
                <a:avLst>
                  <a:gd name="adj" fmla="val 42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 fontScale="82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Default Value 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Bitstream Charter"/>
                  </a:rPr>
                  <a:t>  5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62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NOT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3" name="Group 21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64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5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6" name="Oval 49"/>
          <p:cNvSpPr/>
          <p:nvPr/>
        </p:nvSpPr>
        <p:spPr>
          <a:xfrm>
            <a:off x="6375240" y="1276200"/>
            <a:ext cx="457200" cy="3812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7" name="AutoShape 28"/>
          <p:cNvCxnSpPr>
            <a:stCxn id="266" idx="4"/>
          </p:cNvCxnSpPr>
          <p:nvPr/>
        </p:nvCxnSpPr>
        <p:spPr>
          <a:xfrm flipH="1" rot="16200000">
            <a:off x="5202720" y="3066480"/>
            <a:ext cx="318204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68" name="Group 34"/>
          <p:cNvGrpSpPr/>
          <p:nvPr/>
        </p:nvGrpSpPr>
        <p:grpSpPr>
          <a:xfrm>
            <a:off x="5791320" y="4876920"/>
            <a:ext cx="1828800" cy="380880"/>
            <a:chOff x="5791320" y="4876920"/>
            <a:chExt cx="1828800" cy="380880"/>
          </a:xfrm>
        </p:grpSpPr>
        <p:sp>
          <p:nvSpPr>
            <p:cNvPr id="269" name="AutoShape 5"/>
            <p:cNvSpPr/>
            <p:nvPr/>
          </p:nvSpPr>
          <p:spPr>
            <a:xfrm>
              <a:off x="5791320" y="491508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0" name="Oval 49"/>
            <p:cNvSpPr/>
            <p:nvPr/>
          </p:nvSpPr>
          <p:spPr>
            <a:xfrm>
              <a:off x="5943600" y="487692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71" name="Rectangle 3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38"/>
          <p:cNvGrpSpPr/>
          <p:nvPr/>
        </p:nvGrpSpPr>
        <p:grpSpPr>
          <a:xfrm>
            <a:off x="685800" y="2743200"/>
            <a:ext cx="7696080" cy="3395520"/>
            <a:chOff x="685800" y="2743200"/>
            <a:chExt cx="7696080" cy="3395520"/>
          </a:xfrm>
        </p:grpSpPr>
        <p:grpSp>
          <p:nvGrpSpPr>
            <p:cNvPr id="274" name="Group 3"/>
            <p:cNvGrpSpPr/>
            <p:nvPr/>
          </p:nvGrpSpPr>
          <p:grpSpPr>
            <a:xfrm>
              <a:off x="685800" y="2743200"/>
              <a:ext cx="7696080" cy="3395520"/>
              <a:chOff x="685800" y="2743200"/>
              <a:chExt cx="7696080" cy="3395520"/>
            </a:xfrm>
          </p:grpSpPr>
          <p:grpSp>
            <p:nvGrpSpPr>
              <p:cNvPr id="275" name="Group 4"/>
              <p:cNvGrpSpPr/>
              <p:nvPr/>
            </p:nvGrpSpPr>
            <p:grpSpPr>
              <a:xfrm>
                <a:off x="685800" y="2743200"/>
                <a:ext cx="7696080" cy="3395520"/>
                <a:chOff x="685800" y="2743200"/>
                <a:chExt cx="7696080" cy="3395520"/>
              </a:xfrm>
            </p:grpSpPr>
            <p:sp>
              <p:nvSpPr>
                <p:cNvPr id="276" name="AutoShape 23"/>
                <p:cNvSpPr/>
                <p:nvPr/>
              </p:nvSpPr>
              <p:spPr>
                <a:xfrm>
                  <a:off x="685800" y="274320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77" name="AutoShape 5"/>
                <p:cNvSpPr/>
                <p:nvPr/>
              </p:nvSpPr>
              <p:spPr>
                <a:xfrm>
                  <a:off x="3352680" y="594360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78" name="Group 7"/>
              <p:cNvGrpSpPr/>
              <p:nvPr/>
            </p:nvGrpSpPr>
            <p:grpSpPr>
              <a:xfrm>
                <a:off x="914400" y="4119480"/>
                <a:ext cx="3200400" cy="1638360"/>
                <a:chOff x="914400" y="4119480"/>
                <a:chExt cx="3200400" cy="1638360"/>
              </a:xfrm>
            </p:grpSpPr>
            <p:sp>
              <p:nvSpPr>
                <p:cNvPr id="279" name="AutoShape 5"/>
                <p:cNvSpPr/>
                <p:nvPr/>
              </p:nvSpPr>
              <p:spPr>
                <a:xfrm>
                  <a:off x="1244520" y="549108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0" name="AutoShape 5"/>
                <p:cNvSpPr/>
                <p:nvPr/>
              </p:nvSpPr>
              <p:spPr>
                <a:xfrm>
                  <a:off x="914400" y="411948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1" name="AutoShape 5"/>
                <p:cNvSpPr/>
                <p:nvPr/>
              </p:nvSpPr>
              <p:spPr>
                <a:xfrm>
                  <a:off x="990360" y="434808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2" name="AutoShape 5"/>
                <p:cNvSpPr/>
                <p:nvPr/>
              </p:nvSpPr>
              <p:spPr>
                <a:xfrm>
                  <a:off x="1600200" y="484344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83" name="Group 12"/>
              <p:cNvGrpSpPr/>
              <p:nvPr/>
            </p:nvGrpSpPr>
            <p:grpSpPr>
              <a:xfrm>
                <a:off x="4952880" y="4157640"/>
                <a:ext cx="3200400" cy="1638360"/>
                <a:chOff x="4952880" y="4157640"/>
                <a:chExt cx="3200400" cy="1638360"/>
              </a:xfrm>
            </p:grpSpPr>
            <p:sp>
              <p:nvSpPr>
                <p:cNvPr id="284" name="AutoShape 5"/>
                <p:cNvSpPr/>
                <p:nvPr/>
              </p:nvSpPr>
              <p:spPr>
                <a:xfrm>
                  <a:off x="5334120" y="5529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5" name="AutoShape 5"/>
                <p:cNvSpPr/>
                <p:nvPr/>
              </p:nvSpPr>
              <p:spPr>
                <a:xfrm>
                  <a:off x="4952880" y="4157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6" name="AutoShape 5"/>
                <p:cNvSpPr/>
                <p:nvPr/>
              </p:nvSpPr>
              <p:spPr>
                <a:xfrm>
                  <a:off x="5105520" y="4386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87" name="AutoShape 5"/>
                <p:cNvSpPr/>
                <p:nvPr/>
              </p:nvSpPr>
              <p:spPr>
                <a:xfrm>
                  <a:off x="5715000" y="4881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88" name="AutoShape 5"/>
            <p:cNvSpPr/>
            <p:nvPr/>
          </p:nvSpPr>
          <p:spPr>
            <a:xfrm>
              <a:off x="5715000" y="495288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89" name="AutoShape 5"/>
          <p:cNvSpPr/>
          <p:nvPr/>
        </p:nvSpPr>
        <p:spPr>
          <a:xfrm>
            <a:off x="1219320" y="3048120"/>
            <a:ext cx="6705360" cy="7617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he address lines CAN NOW address the current memory siz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90" name="Group 18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291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5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urr_addr_line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3" name="Oval 49"/>
          <p:cNvSpPr/>
          <p:nvPr/>
        </p:nvSpPr>
        <p:spPr>
          <a:xfrm>
            <a:off x="6629400" y="128268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94" name="AutoShape 22"/>
          <p:cNvCxnSpPr>
            <a:stCxn id="293" idx="4"/>
          </p:cNvCxnSpPr>
          <p:nvPr/>
        </p:nvCxnSpPr>
        <p:spPr>
          <a:xfrm rot="5400000">
            <a:off x="3247560" y="1168200"/>
            <a:ext cx="3105720" cy="4115520"/>
          </a:xfrm>
          <a:prstGeom prst="curvedConnector5">
            <a:avLst>
              <a:gd name="adj1" fmla="val 50000"/>
              <a:gd name="adj2" fmla="val 49995"/>
              <a:gd name="adj3" fmla="val 50000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295" name="Group 29"/>
          <p:cNvGrpSpPr/>
          <p:nvPr/>
        </p:nvGrpSpPr>
        <p:grpSpPr>
          <a:xfrm>
            <a:off x="1600200" y="4800600"/>
            <a:ext cx="1828800" cy="380880"/>
            <a:chOff x="1600200" y="4800600"/>
            <a:chExt cx="1828800" cy="380880"/>
          </a:xfrm>
        </p:grpSpPr>
        <p:sp>
          <p:nvSpPr>
            <p:cNvPr id="296" name="AutoShape 5"/>
            <p:cNvSpPr/>
            <p:nvPr/>
          </p:nvSpPr>
          <p:spPr>
            <a:xfrm>
              <a:off x="160020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1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Oval 49"/>
            <p:cNvSpPr/>
            <p:nvPr/>
          </p:nvSpPr>
          <p:spPr>
            <a:xfrm>
              <a:off x="1752480" y="4800600"/>
              <a:ext cx="152424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98" name="Rectangle 4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685800" y="2700360"/>
            <a:ext cx="7696080" cy="3395520"/>
            <a:chOff x="685800" y="2700360"/>
            <a:chExt cx="7696080" cy="3395520"/>
          </a:xfrm>
        </p:grpSpPr>
        <p:grpSp>
          <p:nvGrpSpPr>
            <p:cNvPr id="301" name="Group 3"/>
            <p:cNvGrpSpPr/>
            <p:nvPr/>
          </p:nvGrpSpPr>
          <p:grpSpPr>
            <a:xfrm>
              <a:off x="685800" y="2700360"/>
              <a:ext cx="7696080" cy="3395520"/>
              <a:chOff x="685800" y="2700360"/>
              <a:chExt cx="7696080" cy="3395520"/>
            </a:xfrm>
          </p:grpSpPr>
          <p:grpSp>
            <p:nvGrpSpPr>
              <p:cNvPr id="302" name="Group 4"/>
              <p:cNvGrpSpPr/>
              <p:nvPr/>
            </p:nvGrpSpPr>
            <p:grpSpPr>
              <a:xfrm>
                <a:off x="685800" y="2700360"/>
                <a:ext cx="7696080" cy="3395520"/>
                <a:chOff x="685800" y="2700360"/>
                <a:chExt cx="7696080" cy="3395520"/>
              </a:xfrm>
            </p:grpSpPr>
            <p:sp>
              <p:nvSpPr>
                <p:cNvPr id="303" name="AutoShape 23"/>
                <p:cNvSpPr/>
                <p:nvPr/>
              </p:nvSpPr>
              <p:spPr>
                <a:xfrm>
                  <a:off x="685800" y="2700360"/>
                  <a:ext cx="7696080" cy="3124080"/>
                </a:xfrm>
                <a:prstGeom prst="roundRect">
                  <a:avLst>
                    <a:gd name="adj" fmla="val 13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4" name="AutoShape 5"/>
                <p:cNvSpPr/>
                <p:nvPr/>
              </p:nvSpPr>
              <p:spPr>
                <a:xfrm>
                  <a:off x="3352680" y="5900760"/>
                  <a:ext cx="2489400" cy="1951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49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rocesso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05" name="Group 7"/>
              <p:cNvGrpSpPr/>
              <p:nvPr/>
            </p:nvGrpSpPr>
            <p:grpSpPr>
              <a:xfrm>
                <a:off x="914400" y="4076640"/>
                <a:ext cx="3200400" cy="1638360"/>
                <a:chOff x="914400" y="4076640"/>
                <a:chExt cx="3200400" cy="1638360"/>
              </a:xfrm>
            </p:grpSpPr>
            <p:sp>
              <p:nvSpPr>
                <p:cNvPr id="306" name="AutoShape 5"/>
                <p:cNvSpPr/>
                <p:nvPr/>
              </p:nvSpPr>
              <p:spPr>
                <a:xfrm>
                  <a:off x="1244520" y="544824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address_lines_register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7" name="AutoShape 5"/>
                <p:cNvSpPr/>
                <p:nvPr/>
              </p:nvSpPr>
              <p:spPr>
                <a:xfrm>
                  <a:off x="914400" y="407664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990360" y="430524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curr_addr_lines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09" name="AutoShape 5"/>
                <p:cNvSpPr/>
                <p:nvPr/>
              </p:nvSpPr>
              <p:spPr>
                <a:xfrm>
                  <a:off x="1600200" y="480060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9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0" name="Group 12"/>
              <p:cNvGrpSpPr/>
              <p:nvPr/>
            </p:nvGrpSpPr>
            <p:grpSpPr>
              <a:xfrm>
                <a:off x="4952880" y="4114800"/>
                <a:ext cx="3200400" cy="1638360"/>
                <a:chOff x="4952880" y="4114800"/>
                <a:chExt cx="3200400" cy="1638360"/>
              </a:xfrm>
            </p:grpSpPr>
            <p:sp>
              <p:nvSpPr>
                <p:cNvPr id="311" name="AutoShape 5"/>
                <p:cNvSpPr/>
                <p:nvPr/>
              </p:nvSpPr>
              <p:spPr>
                <a:xfrm>
                  <a:off x="5334120" y="5486400"/>
                  <a:ext cx="248904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memory_block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2" name="AutoShape 5"/>
                <p:cNvSpPr/>
                <p:nvPr/>
              </p:nvSpPr>
              <p:spPr>
                <a:xfrm>
                  <a:off x="4952880" y="4114800"/>
                  <a:ext cx="3200400" cy="121932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3" name="AutoShape 5"/>
                <p:cNvSpPr/>
                <p:nvPr/>
              </p:nvSpPr>
              <p:spPr>
                <a:xfrm>
                  <a:off x="5105520" y="4343400"/>
                  <a:ext cx="2971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3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Parameter Nam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mem_size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14" name="AutoShape 5"/>
                <p:cNvSpPr/>
                <p:nvPr/>
              </p:nvSpPr>
              <p:spPr>
                <a:xfrm>
                  <a:off x="5715000" y="4838760"/>
                  <a:ext cx="1828800" cy="266760"/>
                </a:xfrm>
                <a:prstGeom prst="roundRect">
                  <a:avLst>
                    <a:gd name="adj" fmla="val 426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2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Bitstream Charter"/>
                    </a:rPr>
                    <a:t>  500</a:t>
                  </a:r>
                  <a:endParaRPr b="0" lang="en-US" sz="14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5" name="AutoShape 5"/>
            <p:cNvSpPr/>
            <p:nvPr/>
          </p:nvSpPr>
          <p:spPr>
            <a:xfrm>
              <a:off x="5715000" y="4838400"/>
              <a:ext cx="1828800" cy="266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2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64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1219320" y="3048120"/>
            <a:ext cx="6705360" cy="6858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estCondition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unction report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User may proceed with the present configuration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0"/>
          <p:cNvGrpSpPr/>
          <p:nvPr/>
        </p:nvGrpSpPr>
        <p:grpSpPr>
          <a:xfrm>
            <a:off x="1219320" y="990720"/>
            <a:ext cx="6705360" cy="1295280"/>
            <a:chOff x="1219320" y="990720"/>
            <a:chExt cx="6705360" cy="1295280"/>
          </a:xfrm>
        </p:grpSpPr>
        <p:sp>
          <p:nvSpPr>
            <p:cNvPr id="318" name="AutoShape 5"/>
            <p:cNvSpPr/>
            <p:nvPr/>
          </p:nvSpPr>
          <p:spPr>
            <a:xfrm>
              <a:off x="1219320" y="990720"/>
              <a:ext cx="6705360" cy="9144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At </a:t>
              </a:r>
              <a:r>
                <a:rPr b="1" i="1" lang="en-US" sz="1600" spc="-1" strike="noStrike">
                  <a:solidFill>
                    <a:srgbClr val="0000ff"/>
                  </a:solidFill>
                  <a:latin typeface="Times New Roman"/>
                </a:rPr>
                <a:t>10ns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, updates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mem_siz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cci-parameter value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AutoShape 5"/>
            <p:cNvSpPr/>
            <p:nvPr/>
          </p:nvSpPr>
          <p:spPr>
            <a:xfrm>
              <a:off x="3276720" y="2019240"/>
              <a:ext cx="248904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0" name="Oval 49"/>
          <p:cNvSpPr/>
          <p:nvPr/>
        </p:nvSpPr>
        <p:spPr>
          <a:xfrm>
            <a:off x="6375240" y="1289160"/>
            <a:ext cx="457200" cy="38088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21" name="AutoShape 24"/>
          <p:cNvCxnSpPr>
            <a:stCxn id="320" idx="4"/>
          </p:cNvCxnSpPr>
          <p:nvPr/>
        </p:nvCxnSpPr>
        <p:spPr>
          <a:xfrm flipH="1" rot="16200000">
            <a:off x="5202720" y="3079440"/>
            <a:ext cx="3106080" cy="305640"/>
          </a:xfrm>
          <a:prstGeom prst="curvedConnector5">
            <a:avLst>
              <a:gd name="adj1" fmla="val 49994"/>
              <a:gd name="adj2" fmla="val 50000"/>
              <a:gd name="adj3" fmla="val 49994"/>
            </a:avLst>
          </a:prstGeom>
          <a:ln w="19080">
            <a:solidFill>
              <a:srgbClr val="3333cc"/>
            </a:solidFill>
            <a:miter/>
            <a:tailEnd len="lg" type="triangle" w="lg"/>
          </a:ln>
        </p:spPr>
      </p:cxnSp>
      <p:grpSp>
        <p:nvGrpSpPr>
          <p:cNvPr id="322" name="Group 28"/>
          <p:cNvGrpSpPr/>
          <p:nvPr/>
        </p:nvGrpSpPr>
        <p:grpSpPr>
          <a:xfrm>
            <a:off x="5791320" y="4800600"/>
            <a:ext cx="1828800" cy="380880"/>
            <a:chOff x="5791320" y="4800600"/>
            <a:chExt cx="1828800" cy="380880"/>
          </a:xfrm>
        </p:grpSpPr>
        <p:sp>
          <p:nvSpPr>
            <p:cNvPr id="323" name="AutoShape 5"/>
            <p:cNvSpPr/>
            <p:nvPr/>
          </p:nvSpPr>
          <p:spPr>
            <a:xfrm>
              <a:off x="5791320" y="4838760"/>
              <a:ext cx="1828800" cy="2667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83000"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 8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Oval 49"/>
            <p:cNvSpPr/>
            <p:nvPr/>
          </p:nvSpPr>
          <p:spPr>
            <a:xfrm>
              <a:off x="5943960" y="4800600"/>
              <a:ext cx="1523880" cy="38088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25" name="AutoShape 5"/>
          <p:cNvSpPr/>
          <p:nvPr/>
        </p:nvSpPr>
        <p:spPr>
          <a:xfrm>
            <a:off x="1600200" y="4724280"/>
            <a:ext cx="1828800" cy="4572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Old Value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 10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6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11T15:16:23Z</cp:lastPrinted>
  <dcterms:modified xsi:type="dcterms:W3CDTF">2017-12-17T00:07:00Z</dcterms:modified>
  <cp:revision>16</cp:revision>
  <dc:subject/>
  <dc:title>ex15_Inter_Parameter_Value_Constra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7:00Z</vt:lpwstr>
  </property>
  <property fmtid="{D5CDD505-2E9C-101B-9397-08002B2CF9AE}" pid="5" name="TitusGUID">
    <vt:lpwstr>a6488d3d-f883-4cf3-b3a0-b041f9371bfd</vt:lpwstr>
  </property>
</Properties>
</file>