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AutoShape 1"/>
          <p:cNvSpPr/>
          <p:nvPr/>
        </p:nvSpPr>
        <p:spPr>
          <a:xfrm>
            <a:off x="0" y="0"/>
            <a:ext cx="6669000" cy="9928080"/>
          </a:xfrm>
          <a:custGeom>
            <a:avLst/>
            <a:gdLst>
              <a:gd name="textAreaLeft" fmla="*/ 360 w 6669000"/>
              <a:gd name="textAreaRight" fmla="*/ 6668640 w 666900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2155">
                <a:moveTo>
                  <a:pt x="5" y="0"/>
                </a:moveTo>
                <a:arcTo wR="5" hR="5" stAng="16200000" swAng="-5400000"/>
                <a:lnTo>
                  <a:pt x="0" y="32150"/>
                </a:lnTo>
                <a:arcTo wR="5" hR="5" stAng="10800000" swAng="-5400000"/>
                <a:lnTo>
                  <a:pt x="21595" y="3215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2"/>
          <p:cNvSpPr/>
          <p:nvPr/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853920" y="744120"/>
            <a:ext cx="4959360" cy="372132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412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3777840" y="9429840"/>
            <a:ext cx="28875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07D5A7-BC3D-48F4-A8D1-2A15B7D62EB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778200" y="9429840"/>
            <a:ext cx="2887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778003-176E-4FCB-9384-5754B62C8BE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1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D27C177-D489-4CDB-B17F-F2F60E54033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29" name="Text Box 3"/>
          <p:cNvSpPr/>
          <p:nvPr/>
        </p:nvSpPr>
        <p:spPr>
          <a:xfrm>
            <a:off x="666720" y="4716360"/>
            <a:ext cx="533556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778200" y="9429840"/>
            <a:ext cx="2887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52A045-D6BA-4521-8958-9D26C48D1AE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32" name="Text Box 2"/>
          <p:cNvSpPr/>
          <p:nvPr/>
        </p:nvSpPr>
        <p:spPr>
          <a:xfrm>
            <a:off x="666720" y="4716360"/>
            <a:ext cx="533556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EB07C9C-7B03-4977-B141-5E23782C39B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778200" y="9429840"/>
            <a:ext cx="2887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20DBED-0826-46EA-B258-46344BF5B90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36" name="Text Box 2"/>
          <p:cNvSpPr/>
          <p:nvPr/>
        </p:nvSpPr>
        <p:spPr>
          <a:xfrm>
            <a:off x="666720" y="4716360"/>
            <a:ext cx="533556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F02F5F5-7BD6-4C79-B86C-A8EF8B39F33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778200" y="9429840"/>
            <a:ext cx="2887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48B95E-BD8F-4731-AC79-821C7185978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40" name="Text Box 2"/>
          <p:cNvSpPr/>
          <p:nvPr/>
        </p:nvSpPr>
        <p:spPr>
          <a:xfrm>
            <a:off x="666720" y="4716360"/>
            <a:ext cx="533556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51F08AA-04FA-473D-BDE3-26DE1141A35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778200" y="9429840"/>
            <a:ext cx="2887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7BD5C9-E700-453C-A436-B7775C9CEEA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44" name="Text Box 2"/>
          <p:cNvSpPr/>
          <p:nvPr/>
        </p:nvSpPr>
        <p:spPr>
          <a:xfrm>
            <a:off x="666720" y="4716360"/>
            <a:ext cx="533556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FDCE460-E50B-4025-AF03-6233570C848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778200" y="9429840"/>
            <a:ext cx="28875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064CC9-BFE2-42AA-A2D7-2839A82D573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48" name="Text Box 2"/>
          <p:cNvSpPr/>
          <p:nvPr/>
        </p:nvSpPr>
        <p:spPr>
          <a:xfrm>
            <a:off x="666720" y="4716360"/>
            <a:ext cx="533556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85EB64A-D426-4B83-8CC4-CC89FE9F779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A878A-EC29-4DB4-9873-1080EB6680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5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200"/>
            <a:ext cx="8685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04393-1210-437E-9930-E604BBB918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156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2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1560" y="37692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7356A-16A4-4B59-B01A-27FD4478A1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7400" y="11430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4280" y="11430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2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7400" y="37692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4280" y="37692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D4BE4-9885-4A27-816A-9F1BE668A1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5360" cy="50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536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828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1560" y="1143000"/>
            <a:ext cx="423828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53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1560" y="1143000"/>
            <a:ext cx="423828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2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5360" cy="50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491BE-3B2D-49E3-8F72-DA8C761112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828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156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1560" y="37692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156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200"/>
            <a:ext cx="8685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5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200"/>
            <a:ext cx="8685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156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2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1560" y="37692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7400" y="11430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4280" y="11430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2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7400" y="37692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4280" y="3769200"/>
            <a:ext cx="27964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536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CB82A-1F5A-40CC-A5FC-78BB3759BC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828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1560" y="1143000"/>
            <a:ext cx="423828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A5900-DA47-431E-B8B0-EB77965DF1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651BC-6812-4C31-93C7-D27659DE36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53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1D793-1446-457C-81B6-78E255B709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1560" y="1143000"/>
            <a:ext cx="423828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2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314A3-584E-480D-92C3-9DBC33E859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828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156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1560" y="37692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33D28-7978-42B1-99CB-93CCB3A831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1560" y="1143000"/>
            <a:ext cx="423828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200"/>
            <a:ext cx="8685360" cy="23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B6F74-8B19-47F4-A044-EF69BCBE10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536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Click to edit the outline text format</a:t>
            </a: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  <a:p>
            <a:pPr lvl="1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Second Outline Level</a:t>
            </a: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  <a:p>
            <a:pPr lvl="2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Third Outline Level</a:t>
            </a: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  <a:p>
            <a:pPr lvl="3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Fourth Outline Level</a:t>
            </a: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  <a:p>
            <a:pPr lvl="4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Fifth Outline Level</a:t>
            </a: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  <a:p>
            <a:pPr lvl="5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Sixth Outline Level</a:t>
            </a: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  <a:p>
            <a:pPr lvl="6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Seventh Outline Level</a:t>
            </a:r>
            <a:endParaRPr b="1" lang="en-US" sz="1200" spc="-1" strike="noStrike">
              <a:solidFill>
                <a:srgbClr val="000000"/>
              </a:solidFill>
              <a:latin typeface="Consola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600" y="6337440"/>
            <a:ext cx="121752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B6E4C92-B2DE-47ED-A9B5-B5B1D5AB10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53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5360" cy="50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1"/>
          <p:cNvSpPr/>
          <p:nvPr/>
        </p:nvSpPr>
        <p:spPr>
          <a:xfrm>
            <a:off x="507960" y="335916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Default vs. Preset Values</a:t>
            </a:r>
            <a:br>
              <a:rPr sz="3000"/>
            </a:b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C CCI W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2"/>
          <p:cNvSpPr/>
          <p:nvPr/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shal Go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In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 20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38088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efault vs. Preset values of a parame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2"/>
          <p:cNvSpPr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30200" indent="-32400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108080"/>
                <a:tab algn="l" pos="2022480"/>
                <a:tab algn="l" pos="2936880"/>
                <a:tab algn="l" pos="3851280"/>
                <a:tab algn="l" pos="4765680"/>
                <a:tab algn="l" pos="5680080"/>
                <a:tab algn="l" pos="6594480"/>
                <a:tab algn="l" pos="7508880"/>
                <a:tab algn="l" pos="8423280"/>
                <a:tab algn="l" pos="9337680"/>
                <a:tab algn="l" pos="1025208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Demonstrate relative precedence of default (supplied to parameter constructor) and preset (via name-based broker access prior to construction) valu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108080"/>
                <a:tab algn="l" pos="2022480"/>
                <a:tab algn="l" pos="2936880"/>
                <a:tab algn="l" pos="3851280"/>
                <a:tab algn="l" pos="4765680"/>
                <a:tab algn="l" pos="5680080"/>
                <a:tab algn="l" pos="6594480"/>
                <a:tab algn="l" pos="7508880"/>
                <a:tab algn="l" pos="8423280"/>
                <a:tab algn="l" pos="9337680"/>
                <a:tab algn="l" pos="1025208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User module specifies some default value for different parameters in respective constructo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108080"/>
                <a:tab algn="l" pos="2022480"/>
                <a:tab algn="l" pos="2936880"/>
                <a:tab algn="l" pos="3851280"/>
                <a:tab algn="l" pos="4765680"/>
                <a:tab algn="l" pos="5680080"/>
                <a:tab algn="l" pos="6594480"/>
                <a:tab algn="l" pos="7508880"/>
                <a:tab algn="l" pos="8423280"/>
                <a:tab algn="l" pos="9337680"/>
                <a:tab algn="l" pos="1025208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Set one of the parameters to a different value from a tool/configurator, before the user module’s construc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45000"/>
              <a:buFont typeface="Wingdings" charset="2"/>
              <a:buChar char=""/>
              <a:tabLst>
                <a:tab algn="l" pos="1108080"/>
                <a:tab algn="l" pos="2022480"/>
                <a:tab algn="l" pos="2936880"/>
                <a:tab algn="l" pos="3851280"/>
                <a:tab algn="l" pos="4765680"/>
                <a:tab algn="l" pos="5680080"/>
                <a:tab algn="l" pos="6594480"/>
                <a:tab algn="l" pos="7508880"/>
                <a:tab algn="l" pos="8423280"/>
                <a:tab algn="l" pos="9337680"/>
                <a:tab algn="l" pos="1025208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Report the various parameters’ name (hierarchical) and value in the constructor and at the end of simula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430200" indent="-32400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45000"/>
              <a:buFont typeface="Wingdings" charset="2"/>
              <a:buChar char=""/>
              <a:tabLst>
                <a:tab algn="l" pos="1108080"/>
                <a:tab algn="l" pos="2022480"/>
                <a:tab algn="l" pos="2936880"/>
                <a:tab algn="l" pos="3851280"/>
                <a:tab algn="l" pos="4765680"/>
                <a:tab algn="l" pos="5680080"/>
                <a:tab algn="l" pos="6594480"/>
                <a:tab algn="l" pos="7508880"/>
                <a:tab algn="l" pos="8423280"/>
                <a:tab algn="l" pos="9337680"/>
                <a:tab algn="l" pos="1025208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Demonstrate the reporting of unconsumed preset values with filtering functio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1"/>
          <p:cNvSpPr/>
          <p:nvPr/>
        </p:nvSpPr>
        <p:spPr>
          <a:xfrm>
            <a:off x="38088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Sequence Dia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ctangle 2"/>
          <p:cNvSpPr/>
          <p:nvPr/>
        </p:nvSpPr>
        <p:spPr>
          <a:xfrm>
            <a:off x="2141640" y="1546200"/>
            <a:ext cx="1989000" cy="420840"/>
          </a:xfrm>
          <a:prstGeom prst="rect">
            <a:avLst/>
          </a:prstGeom>
          <a:noFill/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sim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simple_i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5456160" y="1238400"/>
            <a:ext cx="1989360" cy="428400"/>
          </a:xfrm>
          <a:prstGeom prst="rect">
            <a:avLst/>
          </a:prstGeom>
          <a:noFill/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cfg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config_i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5" name="AutoShape 4"/>
          <p:cNvCxnSpPr>
            <a:stCxn id="93" idx="2"/>
          </p:cNvCxnSpPr>
          <p:nvPr/>
        </p:nvCxnSpPr>
        <p:spPr>
          <a:xfrm flipH="1">
            <a:off x="3134520" y="1966680"/>
            <a:ext cx="2520" cy="4026600"/>
          </a:xfrm>
          <a:prstGeom prst="straightConnector1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AutoShape 5"/>
          <p:cNvCxnSpPr>
            <a:stCxn id="94" idx="2"/>
          </p:cNvCxnSpPr>
          <p:nvPr/>
        </p:nvCxnSpPr>
        <p:spPr>
          <a:xfrm flipH="1">
            <a:off x="6449760" y="1666800"/>
            <a:ext cx="2160" cy="4369680"/>
          </a:xfrm>
          <a:prstGeom prst="straightConnector1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AutoShape 6"/>
          <p:cNvSpPr/>
          <p:nvPr/>
        </p:nvSpPr>
        <p:spPr>
          <a:xfrm>
            <a:off x="1138320" y="3097080"/>
            <a:ext cx="1735200" cy="347760"/>
          </a:xfrm>
          <a:prstGeom prst="foldedCorner">
            <a:avLst>
              <a:gd name="adj" fmla="val 16666"/>
            </a:avLst>
          </a:prstGeom>
          <a:noFill/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param_1= 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236880" y="2008080"/>
            <a:ext cx="187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Constru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AutoShape 8"/>
          <p:cNvSpPr/>
          <p:nvPr/>
        </p:nvSpPr>
        <p:spPr>
          <a:xfrm>
            <a:off x="3176640" y="2743200"/>
            <a:ext cx="2979720" cy="264960"/>
          </a:xfrm>
          <a:prstGeom prst="foldedCorner">
            <a:avLst>
              <a:gd name="adj" fmla="val 16666"/>
            </a:avLst>
          </a:prstGeom>
          <a:noFill/>
          <a:ln cap="sq" w="9360">
            <a:solidFill>
              <a:srgbClr val="ff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int&gt; param_1(“param_1”, 1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AutoShape 9"/>
          <p:cNvSpPr/>
          <p:nvPr/>
        </p:nvSpPr>
        <p:spPr>
          <a:xfrm>
            <a:off x="797040" y="5433840"/>
            <a:ext cx="2173320" cy="559080"/>
          </a:xfrm>
          <a:prstGeom prst="wedgeRoundRectCallout">
            <a:avLst>
              <a:gd name="adj1" fmla="val 56509"/>
              <a:gd name="adj2" fmla="val -108333"/>
              <a:gd name="adj3" fmla="val 16667"/>
            </a:avLst>
          </a:prstGeom>
          <a:solidFill>
            <a:srgbClr val="00cc99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param_1, param_2 ‘Owner’ modu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AutoShape 10"/>
          <p:cNvSpPr/>
          <p:nvPr/>
        </p:nvSpPr>
        <p:spPr>
          <a:xfrm>
            <a:off x="4068720" y="5389560"/>
            <a:ext cx="2216160" cy="593640"/>
          </a:xfrm>
          <a:prstGeom prst="wedgeRoundRectCallout">
            <a:avLst>
              <a:gd name="adj1" fmla="val 56990"/>
              <a:gd name="adj2" fmla="val -82953"/>
              <a:gd name="adj3" fmla="val 16667"/>
            </a:avLst>
          </a:prstGeom>
          <a:solidFill>
            <a:srgbClr val="00cc99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EXTERNAL module updating param_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AutoShape 11"/>
          <p:cNvSpPr/>
          <p:nvPr/>
        </p:nvSpPr>
        <p:spPr>
          <a:xfrm>
            <a:off x="3179880" y="3076560"/>
            <a:ext cx="2979720" cy="262080"/>
          </a:xfrm>
          <a:prstGeom prst="foldedCorner">
            <a:avLst>
              <a:gd name="adj" fmla="val 16666"/>
            </a:avLst>
          </a:prstGeom>
          <a:noFill/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int&gt; param_2(“param_2”, 2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AutoShape 12"/>
          <p:cNvSpPr/>
          <p:nvPr/>
        </p:nvSpPr>
        <p:spPr>
          <a:xfrm>
            <a:off x="1173240" y="3537000"/>
            <a:ext cx="1735200" cy="347760"/>
          </a:xfrm>
          <a:prstGeom prst="foldedCorner">
            <a:avLst>
              <a:gd name="adj" fmla="val 16666"/>
            </a:avLst>
          </a:prstGeom>
          <a:noFill/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param_2=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AutoShape 13"/>
          <p:cNvSpPr/>
          <p:nvPr/>
        </p:nvSpPr>
        <p:spPr>
          <a:xfrm>
            <a:off x="4572000" y="1960560"/>
            <a:ext cx="4444920" cy="304920"/>
          </a:xfrm>
          <a:prstGeom prst="foldedCorner">
            <a:avLst>
              <a:gd name="adj" fmla="val 16666"/>
            </a:avLst>
          </a:prstGeom>
          <a:noFill/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_broker.set_preset_cci_value(“sim_ip.param_1”, “10”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AutoShape 14"/>
          <p:cNvSpPr/>
          <p:nvPr/>
        </p:nvSpPr>
        <p:spPr>
          <a:xfrm>
            <a:off x="6742080" y="4149720"/>
            <a:ext cx="1933560" cy="763560"/>
          </a:xfrm>
          <a:prstGeom prst="wedgeRoundRectCallout">
            <a:avLst>
              <a:gd name="adj1" fmla="val -77194"/>
              <a:gd name="adj2" fmla="val -204425"/>
              <a:gd name="adj3" fmla="val 16667"/>
            </a:avLst>
          </a:prstGeom>
          <a:noFill/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preset value</a:t>
            </a: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 takes precedence over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default value</a:t>
            </a: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 (see param_1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AutoShape 13"/>
          <p:cNvSpPr/>
          <p:nvPr/>
        </p:nvSpPr>
        <p:spPr>
          <a:xfrm>
            <a:off x="4572000" y="2290680"/>
            <a:ext cx="4444920" cy="304920"/>
          </a:xfrm>
          <a:prstGeom prst="foldedCorner">
            <a:avLst>
              <a:gd name="adj" fmla="val 16666"/>
            </a:avLst>
          </a:prstGeom>
          <a:noFill/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_broker.set_preset_cci_value(“cfg_ip.param_implicit_3”, “3”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AutoShape 14"/>
          <p:cNvSpPr/>
          <p:nvPr/>
        </p:nvSpPr>
        <p:spPr>
          <a:xfrm>
            <a:off x="6948360" y="2976480"/>
            <a:ext cx="2119320" cy="244440"/>
          </a:xfrm>
          <a:prstGeom prst="wedgeRoundRectCallout">
            <a:avLst>
              <a:gd name="adj1" fmla="val -42587"/>
              <a:gd name="adj2" fmla="val -200282"/>
              <a:gd name="adj3" fmla="val 16667"/>
            </a:avLst>
          </a:prstGeom>
          <a:noFill/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Unconsumed preset valu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"/>
          <p:cNvSpPr/>
          <p:nvPr/>
        </p:nvSpPr>
        <p:spPr>
          <a:xfrm>
            <a:off x="38088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2133720" y="1246320"/>
            <a:ext cx="1989000" cy="420480"/>
          </a:xfrm>
          <a:prstGeom prst="rect">
            <a:avLst/>
          </a:prstGeom>
          <a:noFill/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sim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simple_i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5456160" y="1238400"/>
            <a:ext cx="1989360" cy="428400"/>
          </a:xfrm>
          <a:prstGeom prst="rect">
            <a:avLst/>
          </a:prstGeom>
          <a:noFill/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cfg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config_i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11" name="AutoShape 4"/>
          <p:cNvCxnSpPr>
            <a:stCxn id="109" idx="2"/>
          </p:cNvCxnSpPr>
          <p:nvPr/>
        </p:nvCxnSpPr>
        <p:spPr>
          <a:xfrm>
            <a:off x="3126960" y="1666440"/>
            <a:ext cx="2520" cy="4326840"/>
          </a:xfrm>
          <a:prstGeom prst="straightConnector1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AutoShape 5"/>
          <p:cNvCxnSpPr>
            <a:stCxn id="110" idx="2"/>
          </p:cNvCxnSpPr>
          <p:nvPr/>
        </p:nvCxnSpPr>
        <p:spPr>
          <a:xfrm flipH="1">
            <a:off x="6449760" y="1666800"/>
            <a:ext cx="2160" cy="4369680"/>
          </a:xfrm>
          <a:prstGeom prst="straightConnector1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Text Box 7"/>
          <p:cNvSpPr/>
          <p:nvPr/>
        </p:nvSpPr>
        <p:spPr>
          <a:xfrm>
            <a:off x="241560" y="1697040"/>
            <a:ext cx="162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Simul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AutoShape 9"/>
          <p:cNvSpPr/>
          <p:nvPr/>
        </p:nvSpPr>
        <p:spPr>
          <a:xfrm>
            <a:off x="797040" y="5433840"/>
            <a:ext cx="2173320" cy="559080"/>
          </a:xfrm>
          <a:prstGeom prst="wedgeRoundRectCallout">
            <a:avLst>
              <a:gd name="adj1" fmla="val 56509"/>
              <a:gd name="adj2" fmla="val -108333"/>
              <a:gd name="adj3" fmla="val 16667"/>
            </a:avLst>
          </a:prstGeom>
          <a:solidFill>
            <a:srgbClr val="00cc99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param_1, param_2 ‘Owner’ modu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AutoShape 10"/>
          <p:cNvSpPr/>
          <p:nvPr/>
        </p:nvSpPr>
        <p:spPr>
          <a:xfrm>
            <a:off x="4068720" y="5389560"/>
            <a:ext cx="2216160" cy="593640"/>
          </a:xfrm>
          <a:prstGeom prst="wedgeRoundRectCallout">
            <a:avLst>
              <a:gd name="adj1" fmla="val 56990"/>
              <a:gd name="adj2" fmla="val -82953"/>
              <a:gd name="adj3" fmla="val 16667"/>
            </a:avLst>
          </a:prstGeom>
          <a:solidFill>
            <a:srgbClr val="00cc99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EXTERNAL module updating param_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AutoShape 15"/>
          <p:cNvSpPr/>
          <p:nvPr/>
        </p:nvSpPr>
        <p:spPr>
          <a:xfrm>
            <a:off x="5391000" y="2036880"/>
            <a:ext cx="3456000" cy="304560"/>
          </a:xfrm>
          <a:prstGeom prst="foldedCorner">
            <a:avLst>
              <a:gd name="adj" fmla="val 16666"/>
            </a:avLst>
          </a:prstGeom>
          <a:noFill/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_cci-&gt;set_init_value(“sim_ip.param_1”, “5”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AutoShape 16"/>
          <p:cNvSpPr/>
          <p:nvPr/>
        </p:nvSpPr>
        <p:spPr>
          <a:xfrm>
            <a:off x="6659640" y="2736720"/>
            <a:ext cx="2222280" cy="763560"/>
          </a:xfrm>
          <a:prstGeom prst="wedgeRoundRectCallout">
            <a:avLst>
              <a:gd name="adj1" fmla="val 48055"/>
              <a:gd name="adj2" fmla="val -107018"/>
              <a:gd name="adj3" fmla="val 16667"/>
            </a:avLst>
          </a:prstGeom>
          <a:noFill/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preset value</a:t>
            </a: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 set after construction does not affect parameter valu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AutoShape 13"/>
          <p:cNvSpPr/>
          <p:nvPr/>
        </p:nvSpPr>
        <p:spPr>
          <a:xfrm>
            <a:off x="755640" y="2521080"/>
            <a:ext cx="4392720" cy="304560"/>
          </a:xfrm>
          <a:prstGeom prst="foldedCorner">
            <a:avLst>
              <a:gd name="adj" fmla="val 16666"/>
            </a:avLst>
          </a:prstGeom>
          <a:noFill/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_broker.set_init_value(“param_implicit_1”, “1”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AutoShape 13"/>
          <p:cNvSpPr/>
          <p:nvPr/>
        </p:nvSpPr>
        <p:spPr>
          <a:xfrm>
            <a:off x="755640" y="2876400"/>
            <a:ext cx="4392720" cy="304920"/>
          </a:xfrm>
          <a:prstGeom prst="foldedCorner">
            <a:avLst>
              <a:gd name="adj" fmla="val 16666"/>
            </a:avLst>
          </a:prstGeom>
          <a:noFill/>
          <a:ln cap="sq" w="9360">
            <a:solidFill>
              <a:srgbClr val="000000"/>
            </a:solidFill>
            <a:custDash>
              <a:ds d="400000" sp="3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_broker.set_init_value(“foo.bar.baz.param_implicit_2”, “2”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ight Brace 2"/>
          <p:cNvSpPr/>
          <p:nvPr/>
        </p:nvSpPr>
        <p:spPr>
          <a:xfrm>
            <a:off x="5148360" y="2635200"/>
            <a:ext cx="187200" cy="482760"/>
          </a:xfrm>
          <a:custGeom>
            <a:avLst/>
            <a:gdLst>
              <a:gd name="textAreaLeft" fmla="*/ 0 w 187200"/>
              <a:gd name="textAreaRight" fmla="*/ 67680 w 187200"/>
              <a:gd name="textAreaTop" fmla="*/ 4680 h 482760"/>
              <a:gd name="textAreaBottom" fmla="*/ 478080 h 482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50"/>
                  <a:pt x="10800" y="699"/>
                </a:cubicBezTo>
                <a:lnTo>
                  <a:pt x="10800" y="10448"/>
                </a:lnTo>
                <a:cubicBezTo>
                  <a:pt x="10800" y="10798"/>
                  <a:pt x="16200" y="11147"/>
                  <a:pt x="21600" y="11147"/>
                </a:cubicBezTo>
                <a:cubicBezTo>
                  <a:pt x="16200" y="11147"/>
                  <a:pt x="10800" y="11497"/>
                  <a:pt x="10800" y="11846"/>
                </a:cubicBezTo>
                <a:lnTo>
                  <a:pt x="10800" y="20901"/>
                </a:lnTo>
                <a:cubicBezTo>
                  <a:pt x="10800" y="21251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AutoShape 14"/>
          <p:cNvSpPr/>
          <p:nvPr/>
        </p:nvSpPr>
        <p:spPr>
          <a:xfrm>
            <a:off x="3851280" y="3446640"/>
            <a:ext cx="2195640" cy="342720"/>
          </a:xfrm>
          <a:prstGeom prst="wedgeRoundRectCallout">
            <a:avLst>
              <a:gd name="adj1" fmla="val 20902"/>
              <a:gd name="adj2" fmla="val -218759"/>
              <a:gd name="adj3" fmla="val 16667"/>
            </a:avLst>
          </a:prstGeom>
          <a:noFill/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Unconsumed preset valu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1"/>
          <p:cNvSpPr/>
          <p:nvPr/>
        </p:nvSpPr>
        <p:spPr>
          <a:xfrm>
            <a:off x="38088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1" lang="en-US" sz="3000" spc="-1" strike="noStrike">
                <a:solidFill>
                  <a:srgbClr val="000099"/>
                </a:solidFill>
                <a:latin typeface="Courier New"/>
              </a:rPr>
              <a:t>ex05_Default_and_Preset_Value.log</a:t>
            </a:r>
            <a:r>
              <a:rPr b="1" lang="en-US" sz="3000" spc="-1" strike="noStrike">
                <a:solidFill>
                  <a:srgbClr val="000099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2"/>
          <p:cNvSpPr/>
          <p:nvPr/>
        </p:nvSpPr>
        <p:spPr>
          <a:xfrm>
            <a:off x="380880" y="1413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SystemC Simul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cfg_ip: @0 s, Attempting to setup config_ip to 10 before IP construc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cfg_ip: @0 s, Setting up sim_ip.param_1's preset value to 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cfg_ip: @0 s, Setting up cfg_ip.param_implicit_3's preset value to 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im_ip: @0 s, @Ctor: Value of sim_ip.param_1 is 10 (Default value Specified: 1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im_ip: @0 s, @Ctor: Value of sim_ip.param_2 is 2 (Default value Specified: 2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c_main: Begin Simula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cfg_ip: @0 s, execute: [EXTERNAL] Current value of sim_ip.param_1 is 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im_ip: @0 s, Setting up param_implicit_1's preset value to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im_ip: @0 s, Setting up foo.bar.baz.param_implicit_2's preset value to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im_ip: @0 s, Unconsumed preset cci values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cfg_ip.param_implicit_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foo.bar.baz.param_implicit_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param_implicit_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im_ip: @0 s, Ignore unconsumed values cfg_ip.*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im_ip: @0 s, Unconsumed preset cci values result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1"/>
          <p:cNvSpPr/>
          <p:nvPr/>
        </p:nvSpPr>
        <p:spPr>
          <a:xfrm>
            <a:off x="38088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2"/>
          <p:cNvSpPr/>
          <p:nvPr/>
        </p:nvSpPr>
        <p:spPr>
          <a:xfrm>
            <a:off x="380880" y="134136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foo.bar.baz.param_implicit_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param_implicit_1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im_ip: @0 s, Unconsumed preset cci values with value = 2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foo.bar.baz.param_implicit_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c_main: End Simulation.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im_ip: @Dtor: Value of sim_ip.param_1 is 10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d0d0d"/>
                </a:solidFill>
                <a:latin typeface="Consolas"/>
              </a:rPr>
              <a:t>Info: sim_ip: @Dtor: Value of sim_ip.param_2 is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>CTPClassification=CTP_IC:VisualMarkings=</cp:keywords>
  <dc:language>en-US</dc:language>
  <cp:lastModifiedBy>Wieman, Trevor</cp:lastModifiedBy>
  <cp:lastPrinted>2017-01-29T17:21:23Z</cp:lastPrinted>
  <dcterms:modified xsi:type="dcterms:W3CDTF">2017-12-15T17:44:00Z</dcterms:modified>
  <cp:revision>158</cp:revision>
  <dc:subject/>
  <dc:title>AT Basic System Examp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5 17:43:59Z</vt:lpwstr>
  </property>
  <property fmtid="{D5CDD505-2E9C-101B-9397-08002B2CF9AE}" pid="5" name="TitusGUID">
    <vt:lpwstr>76883866-3039-4c24-b240-4506b7a28644</vt:lpwstr>
  </property>
</Properties>
</file>