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CFEF1-CAA4-42A1-8AA9-F30A8D7BC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CB59E-15F2-4301-94DA-7E0EED4702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B7A09-9FE1-4B60-ACC0-0D47448AD7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21694-F167-45B7-A279-1869427A51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66ACF-047B-498F-8310-175FE15CB1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3109C-E18B-4B85-BEDC-223E44A766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13674-416F-4CAD-8433-B0673A0A915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A7636-A156-4544-9EB7-7AAD78972D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7D131-B79C-41D4-BB53-2482DF80D3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905C2-DDDD-49C1-BEA0-875AC88440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4E698-52DF-4520-98FC-66C53DF6C5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F814A-4C26-47BD-B97B-60F4A63762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50DC9-A379-49A6-966F-8B0378B30E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75C67-0494-4EFA-B2BD-ED96B7B3CC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E39D-CF1C-48AC-840C-1BB4388A56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B1A3F-6833-493C-ADCA-6DF599229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E761D-BB58-4C42-A109-175BF7127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56AC-5A03-4E1D-8861-C6A1050B76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86FF3-EFC2-4A06-81BD-AE90FB6B2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97D57-4949-45D3-BBB3-79ECE4FCE33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70BD6-72F1-4A92-9874-0A2077AA939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89A1C-D206-430A-82E2-97EFC16377B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FB6EF-D246-44C0-940A-2643F0E08D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25BCE-ED3B-416C-A6C3-4387E52421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7CB93-CF2B-4C2A-8998-3DC0340420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202FB-4383-4A3A-8729-FF4F274A3D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E808C-A5BB-452B-AD27-F09ADB4206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2C423-69E8-4D5A-9F55-DCFF14CAE94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2BFD2-8C19-4A60-905D-1AD81A87D29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85B6A-6AF2-413B-9967-9EA76BF5F25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0578-85DB-4B9C-B632-0DD6B113EC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F76E-7E39-49A8-830A-C80593AA37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55DA-546B-4EF6-8531-3C8A6D9E7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B0DC-3959-4DEB-9BA2-6D30E597B3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E63B-F8B3-436E-B550-3A9089A9D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3EFD6-AC38-4F78-8CBC-C3F4C4FA2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704D-6C5A-4500-9560-381E82E573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5B9E-E5A9-4681-ACE2-8F52756BB6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12C66-4A54-4373-B003-93BE5FBD51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63E77F32-5748-4B6F-A987-C43CA633E2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1"/>
          <p:cNvSpPr/>
          <p:nvPr/>
        </p:nvSpPr>
        <p:spPr>
          <a:xfrm>
            <a:off x="380880" y="3067200"/>
            <a:ext cx="8331480" cy="6397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Hierarchical Value Update Examp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AutoShape 2"/>
          <p:cNvSpPr/>
          <p:nvPr/>
        </p:nvSpPr>
        <p:spPr>
          <a:xfrm>
            <a:off x="3276720" y="4572000"/>
            <a:ext cx="38862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Lei Liang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Ericsson AB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itstream Charter"/>
              </a:rPr>
              <a:t>December, 201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2895480" y="3809880"/>
            <a:ext cx="3591000" cy="50652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 fontScale="9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itstream Charter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1"/>
          <p:cNvSpPr/>
          <p:nvPr/>
        </p:nvSpPr>
        <p:spPr>
          <a:xfrm>
            <a:off x="236520" y="220680"/>
            <a:ext cx="86868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Value Updat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pdate all parameters which matches to a given name pattern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"/>
          <p:cNvSpPr/>
          <p:nvPr/>
        </p:nvSpPr>
        <p:spPr>
          <a:xfrm>
            <a:off x="838080" y="1143000"/>
            <a:ext cx="7620120" cy="457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_mai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1447920" y="1752480"/>
            <a:ext cx="198108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m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lvl="1" marL="1028880" indent="-28584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5943600" y="1752480"/>
            <a:ext cx="1905120" cy="358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fg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rget of this module is to update all parameters whose name matches the pattern “log_level” and in this example they ar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_ip.sub_ip.log_level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Rectangle 17"/>
          <p:cNvSpPr/>
          <p:nvPr/>
        </p:nvSpPr>
        <p:spPr>
          <a:xfrm>
            <a:off x="1752480" y="3048120"/>
            <a:ext cx="160020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b_i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Folded Corner 41"/>
          <p:cNvSpPr/>
          <p:nvPr/>
        </p:nvSpPr>
        <p:spPr>
          <a:xfrm>
            <a:off x="1917720" y="21718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Folded Corner 41"/>
          <p:cNvSpPr/>
          <p:nvPr/>
        </p:nvSpPr>
        <p:spPr>
          <a:xfrm>
            <a:off x="1917720" y="243828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Folded Corner 41"/>
          <p:cNvSpPr/>
          <p:nvPr/>
        </p:nvSpPr>
        <p:spPr>
          <a:xfrm>
            <a:off x="1917720" y="2705040"/>
            <a:ext cx="144792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ight Brace 5"/>
          <p:cNvSpPr/>
          <p:nvPr/>
        </p:nvSpPr>
        <p:spPr>
          <a:xfrm>
            <a:off x="3365640" y="2192400"/>
            <a:ext cx="291960" cy="723960"/>
          </a:xfrm>
          <a:custGeom>
            <a:avLst/>
            <a:gdLst>
              <a:gd name="textAreaLeft" fmla="*/ 0 w 291960"/>
              <a:gd name="textAreaRight" fmla="*/ 105480 w 29196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3563640" y="2414520"/>
            <a:ext cx="188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im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Folded Corner 41"/>
          <p:cNvSpPr/>
          <p:nvPr/>
        </p:nvSpPr>
        <p:spPr>
          <a:xfrm>
            <a:off x="1854360" y="444168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log_level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Folded Corner 41"/>
          <p:cNvSpPr/>
          <p:nvPr/>
        </p:nvSpPr>
        <p:spPr>
          <a:xfrm>
            <a:off x="1854360" y="470844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1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Folded Corner 41"/>
          <p:cNvSpPr/>
          <p:nvPr/>
        </p:nvSpPr>
        <p:spPr>
          <a:xfrm>
            <a:off x="1854360" y="4975200"/>
            <a:ext cx="1447560" cy="228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i_param&lt;int&gt; int_param2;</a:t>
            </a: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ight Brace 33"/>
          <p:cNvSpPr/>
          <p:nvPr/>
        </p:nvSpPr>
        <p:spPr>
          <a:xfrm>
            <a:off x="3301920" y="4462560"/>
            <a:ext cx="292320" cy="723960"/>
          </a:xfrm>
          <a:custGeom>
            <a:avLst/>
            <a:gdLst>
              <a:gd name="textAreaLeft" fmla="*/ 0 w 292320"/>
              <a:gd name="textAreaRight" fmla="*/ 105480 w 292320"/>
              <a:gd name="textAreaTop" fmla="*/ 7560 h 723960"/>
              <a:gd name="textAreaBottom" fmla="*/ 716400 h 72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3"/>
                  <a:pt x="10800" y="726"/>
                </a:cubicBezTo>
                <a:lnTo>
                  <a:pt x="10800" y="10074"/>
                </a:lnTo>
                <a:cubicBezTo>
                  <a:pt x="10800" y="10437"/>
                  <a:pt x="16200" y="10800"/>
                  <a:pt x="21600" y="10800"/>
                </a:cubicBezTo>
                <a:cubicBezTo>
                  <a:pt x="16200" y="10800"/>
                  <a:pt x="10800" y="11163"/>
                  <a:pt x="10800" y="11526"/>
                </a:cubicBezTo>
                <a:lnTo>
                  <a:pt x="10800" y="20874"/>
                </a:lnTo>
                <a:cubicBezTo>
                  <a:pt x="10800" y="2123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Box 34"/>
          <p:cNvSpPr/>
          <p:nvPr/>
        </p:nvSpPr>
        <p:spPr>
          <a:xfrm>
            <a:off x="3498840" y="4684680"/>
            <a:ext cx="189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arameters in sub_ip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3" name="Straight Arrow Connector 16"/>
          <p:cNvCxnSpPr>
            <a:stCxn id="201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Straight Arrow Connector 17"/>
          <p:cNvCxnSpPr>
            <a:stCxn id="202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5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Folded Corner 43"/>
          <p:cNvSpPr/>
          <p:nvPr/>
        </p:nvSpPr>
        <p:spPr>
          <a:xfrm>
            <a:off x="5456160" y="2112840"/>
            <a:ext cx="2468520" cy="3049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m_broker.get_param_handles(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Speech Bubble: Rectangle with Corners Rounded 10"/>
          <p:cNvSpPr/>
          <p:nvPr/>
        </p:nvSpPr>
        <p:spPr>
          <a:xfrm>
            <a:off x="6527880" y="2816280"/>
            <a:ext cx="2539800" cy="145080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hen printed the value for all parameters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1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int_param2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Straight Arrow Connector 16"/>
          <p:cNvCxnSpPr>
            <a:stCxn id="209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Straight Arrow Connector 17"/>
          <p:cNvCxnSpPr>
            <a:stCxn id="210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Folded Corner 43"/>
          <p:cNvSpPr/>
          <p:nvPr/>
        </p:nvSpPr>
        <p:spPr>
          <a:xfrm>
            <a:off x="5105520" y="2112840"/>
            <a:ext cx="3276360" cy="478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cci::cci_param_filter_iterator log_level_pfi =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broker.get_param_handles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red_it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Speech Bubble: Rectangle with Corners Rounded 10"/>
          <p:cNvSpPr/>
          <p:nvPr/>
        </p:nvSpPr>
        <p:spPr>
          <a:xfrm>
            <a:off x="6508800" y="2895480"/>
            <a:ext cx="2539800" cy="1154160"/>
          </a:xfrm>
          <a:prstGeom prst="wedgeRoundRectCallout">
            <a:avLst>
              <a:gd name="adj1" fmla="val -42555"/>
              <a:gd name="adj2" fmla="val -75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predicate function to get all parameter which match the name pattern “log_level” and they are: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1"/>
          <p:cNvSpPr/>
          <p:nvPr/>
        </p:nvSpPr>
        <p:spPr>
          <a:xfrm>
            <a:off x="236520" y="144360"/>
            <a:ext cx="8686800" cy="617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_ip: simple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fg_ip: config_i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9" name="Straight Arrow Connector 16"/>
          <p:cNvCxnSpPr>
            <a:stCxn id="2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0" name="Straight Arrow Connector 17"/>
          <p:cNvCxnSpPr>
            <a:stCxn id="2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1" name="TextBox 27"/>
          <p:cNvSpPr/>
          <p:nvPr/>
        </p:nvSpPr>
        <p:spPr>
          <a:xfrm>
            <a:off x="384840" y="19051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Folded Corner 43"/>
          <p:cNvSpPr/>
          <p:nvPr/>
        </p:nvSpPr>
        <p:spPr>
          <a:xfrm>
            <a:off x="5257800" y="2289240"/>
            <a:ext cx="3276720" cy="326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set_cci_value(target_value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Speech Bubble: Rectangle with Corners Rounded 12"/>
          <p:cNvSpPr/>
          <p:nvPr/>
        </p:nvSpPr>
        <p:spPr>
          <a:xfrm>
            <a:off x="6599160" y="3052800"/>
            <a:ext cx="2324160" cy="692280"/>
          </a:xfrm>
          <a:prstGeom prst="wedgeRoundRectCallout">
            <a:avLst>
              <a:gd name="adj1" fmla="val -37013"/>
              <a:gd name="adj2" fmla="val -10431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update parameter value to target_value(500)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Folded Corner 43"/>
          <p:cNvSpPr/>
          <p:nvPr/>
        </p:nvSpPr>
        <p:spPr>
          <a:xfrm>
            <a:off x="5257800" y="4002120"/>
            <a:ext cx="3276720" cy="4348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nam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(*log_level_pfi).get_cci_value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Speech Bubble: Rectangle with Corners Rounded 14"/>
          <p:cNvSpPr/>
          <p:nvPr/>
        </p:nvSpPr>
        <p:spPr>
          <a:xfrm>
            <a:off x="6599160" y="4905360"/>
            <a:ext cx="2324160" cy="917640"/>
          </a:xfrm>
          <a:prstGeom prst="wedgeRoundRectCallout">
            <a:avLst>
              <a:gd name="adj1" fmla="val -37013"/>
              <a:gd name="adj2" fmla="val -95111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the “cci::cci_param_filter_iterator” iterator to print parameter value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sim_ip.sub_ip.log_level=500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3_Hierarchical_Value_Updat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0880" y="15141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parameters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1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int_param2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Update all 'log_Level' parameters' value to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0 s, execute: List all 'log_Level' parameter inside simple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im_ip.sub_ip.log_level =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6:03:05Z</dcterms:modified>
  <cp:revision>85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6:03:05Z</vt:lpwstr>
  </property>
  <property fmtid="{D5CDD505-2E9C-101B-9397-08002B2CF9AE}" pid="5" name="TitusGUID">
    <vt:lpwstr>522d689a-30a7-4b0c-9d2d-5977e3992383</vt:lpwstr>
  </property>
</Properties>
</file>