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1D38-3B17-4B4E-B9AA-9DDC16300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C237-B504-4D87-8E63-3DF61C545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85392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1F68-0F43-426E-9E6B-B5D9839D3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3A33C-EDB2-4369-ACCE-727B1EF4DE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C0983-1DF8-437B-A71E-19904A8D16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F7956-927C-4ADE-BD50-87E1FAAE73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2E4F2-84C5-44BF-8335-6C3BD8E322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488E1-3EB3-4AB8-B9B2-BFB6B3EAB7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BA3E1-36EA-4F6B-B8EC-1DFDB3BA98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96842-BA67-4319-87B0-210BD71292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AE36C-422C-4115-B919-914CA961CB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F3A6B-B9CA-4EE9-809E-3DCFC1D993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3B25F-9A30-475C-8E49-DC4A95BC47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6446A-06D1-4574-A669-9B206AF51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AD20B-0ADF-4D87-AF82-6403FE485A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260B-3B44-4534-A37C-402728C8C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ompile and Run CCI Examples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C CCI WG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i Lia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ricsson A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b 201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nvironments Used For This Descrip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ux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16.04 LTS 64 b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cc 5.4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buntu GLIBC 2.23-0ubuntu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2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Environ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dows 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ual Studio Professional 201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_1_61_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C 2.3.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1: Installations of SystemC and boost libraries are not covered in this sli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te 2: Instructions will need to be adapted for other configu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880" y="87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cci-0.9.0_pub_rev_20171217.tgz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gtar xvzf …/rapidjson-1.1.0.tar.gz -C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cci-0.9.0_pub_rev_20171217/pack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rmdir rapidjson; ln –s rapidjson-1.1.0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See cci-0.9.0_pub_rev_20171217/README.txt for instructions to download rapidjs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the environment variables setu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SYSTEMC_HOME=/home/lei/Downloads/systemc-2.3.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TLM_HOME="${SYSTEMC_HOME}/src“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vobs/ti_systemc/tools/boost/boost_1_44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BOOST_HOME=/home/lei/Downloads/boost_1_62_0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CI_HOME=/home/lei/Downloads/cci-0.9.0_pub_rev_20171217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export CXX=g++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You can find a half-done script at cci_test/scripts/source.bas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src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cd $CCI_HOME/packages/gs_brok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make -j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240" indent="-20952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700"/>
              </a:spcBef>
              <a:spcAft>
                <a:spcPts val="26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Linux (contd.. 1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re the directory for compilation and ru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$CCI_HOME/cci_test/scrip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mkdir 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$&gt; cd ./ru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all exam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and run one specified example with n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./scripts/verify.pl examples/ex01_Simple_Int_Para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$CCI_HOME/scripts/README_CCI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compress the cci kit and overlay rapidjs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Instructions will be similar to those for Linux on slide #3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ote: use 7-Zip to uncompress the kit (required due to long path nam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ild CCI PoC libraries from Visual Studio 201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y (or rename) the top-level msvc10 directory to msvc14 to reflect VS2015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sual Studio -&gt; File -&gt; Open -&gt; Project/Solution-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lect “C:\cci-0.9.0_pub_rev_20171217\msvc14\cci\cci.sln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l projects will be shown and they share the same property sheet ‘cci_lib.props’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the property she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ew -&gt; Property Manag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uble click on cci_li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 Macr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date Valu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this demo, msvc10 -&gt; msvc1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your windows environmen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riables for Boost and System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264"/>
              </a:spcBef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" descr=""/>
          <p:cNvPicPr/>
          <p:nvPr/>
        </p:nvPicPr>
        <p:blipFill>
          <a:blip r:embed="rId1"/>
          <a:stretch/>
        </p:blipFill>
        <p:spPr>
          <a:xfrm>
            <a:off x="5529240" y="3657600"/>
            <a:ext cx="3238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ild Examples using Windows (contd.. 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4560" indent="-225360">
              <a:spcBef>
                <a:spcPts val="34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ck to Visual Studio Solution and build “cciapi”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examples from solution explo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der CCI solution, all example projects can be compiled and run di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: Check if all libraries(CCI, SystemC, Boost) environment variables are set correctly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e: more information can be found at C:\cci_code\cci_test\msvc14\cci\README.t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>CTPClassification=CTP_IC:VisualMarkings=</cp:keywords>
  <dc:language>en-US</dc:language>
  <cp:lastModifiedBy>Wieman, Trevor</cp:lastModifiedBy>
  <cp:lastPrinted>2017-01-29T14:24:54Z</cp:lastPrinted>
  <dcterms:modified xsi:type="dcterms:W3CDTF">2017-12-19T20:41:36Z</dcterms:modified>
  <cp:revision>155</cp:revision>
  <dc:subject/>
  <dc:title>AT Basic System Examp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TPClassification">
    <vt:lpwstr>CTP_IC</vt:lpwstr>
  </property>
  <property fmtid="{D5CDD505-2E9C-101B-9397-08002B2CF9AE}" pid="3" name="CTP_BU">
    <vt:lpwstr>PRODUCT DEVELOPMENT SOLUTION</vt:lpwstr>
  </property>
  <property fmtid="{D5CDD505-2E9C-101B-9397-08002B2CF9AE}" pid="4" name="CTP_TimeStamp">
    <vt:lpwstr>2017-12-19 20:41:36Z</vt:lpwstr>
  </property>
  <property fmtid="{D5CDD505-2E9C-101B-9397-08002B2CF9AE}" pid="5" name="TitusGUID">
    <vt:lpwstr>e3de821b-1c25-48f5-972a-c3014a611f88</vt:lpwstr>
  </property>
</Properties>
</file>