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7F3-C4CF-4D6F-993F-8FE6DFF81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796F-5235-40DA-85CC-92D06CBED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841-61A2-41CC-9564-0204AEC4F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73A7-CEC2-4D55-9CDF-708C01349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DF9E-8948-489C-81B1-9F19DE24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B5335-9132-4010-BAC4-60BBB7064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015E-2DF2-43D1-883B-B7B536F42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B38CE-6FA3-48DC-9994-F2B1E86AF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C323-7211-4334-8191-1FDCA604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0B2A5-909E-4257-9D14-204AA4A6B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13D0-82E1-4757-B892-019B185A8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82A1-CEC6-46EC-9837-28AB62615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E88C-4859-4CA6-B8D6-2AEBF9A19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1376C-502E-417A-9C12-12862FE37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72CD-DEDC-47F5-8633-FF7B41C80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0996-EB67-4C71-868E-A0ACFAFBA9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A5A7-D9AF-4C0B-9AA0-A4AD80721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3869-4CD9-41C8-90AA-A6C233821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laboration Time Parameter Example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aya Ranga L.V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Elaboration-Time Parameter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structural paramete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ding of invalid (post-elaboration) updates to structural parameter val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 algn="just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e how models that finalize their structure prior to end_of_elaboration should lock their elaboration-time paramet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br>
              <a:rPr sz="3200"/>
            </a:br>
            <a:br>
              <a:rPr sz="1200"/>
            </a:b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Demonstrates how models that finalize their structure prior to end_of_elaboration should lock their elaboration-time parameters. </a:t>
            </a:r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32080" y="216360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444960" y="1776240"/>
            <a:ext cx="13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CTO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477360" y="364644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486440" cy="155160"/>
            <a:chOff x="3107880" y="3011400"/>
            <a:chExt cx="1486440" cy="155160"/>
          </a:xfrm>
        </p:grpSpPr>
        <p:sp>
          <p:nvSpPr>
            <p:cNvPr id="100" name="Rectangle 32"/>
            <p:cNvSpPr/>
            <p:nvPr/>
          </p:nvSpPr>
          <p:spPr>
            <a:xfrm>
              <a:off x="3129120" y="3011400"/>
              <a:ext cx="14652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16296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42880" y="39355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476640" y="438156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2"/>
          <p:cNvSpPr/>
          <p:nvPr/>
        </p:nvSpPr>
        <p:spPr>
          <a:xfrm>
            <a:off x="3216240" y="2631960"/>
            <a:ext cx="160344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3"/>
          <p:cNvSpPr/>
          <p:nvPr/>
        </p:nvSpPr>
        <p:spPr>
          <a:xfrm>
            <a:off x="3502080" y="4191120"/>
            <a:ext cx="2886120" cy="411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_param_handle.set_cci_value(cci::cci_value::from_json("3"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struc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truc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27"/>
          <p:cNvSpPr/>
          <p:nvPr/>
        </p:nvSpPr>
        <p:spPr>
          <a:xfrm>
            <a:off x="477720" y="2744640"/>
            <a:ext cx="26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@t = 0ns, Before end of elabor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Group 35"/>
          <p:cNvGrpSpPr/>
          <p:nvPr/>
        </p:nvGrpSpPr>
        <p:grpSpPr>
          <a:xfrm>
            <a:off x="3107880" y="3903840"/>
            <a:ext cx="1486440" cy="156600"/>
            <a:chOff x="3107880" y="3903840"/>
            <a:chExt cx="1486440" cy="156600"/>
          </a:xfrm>
        </p:grpSpPr>
        <p:sp>
          <p:nvSpPr>
            <p:cNvPr id="112" name="Rectangle 32"/>
            <p:cNvSpPr/>
            <p:nvPr/>
          </p:nvSpPr>
          <p:spPr>
            <a:xfrm>
              <a:off x="3129120" y="3903840"/>
              <a:ext cx="1465200" cy="1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3" name="Straight Arrow Connector 34"/>
            <p:cNvCxnSpPr/>
            <p:nvPr/>
          </p:nvCxnSpPr>
          <p:spPr>
            <a:xfrm flipH="1" flipV="1">
              <a:off x="3107880" y="4056840"/>
              <a:ext cx="14868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4" name="Folded Corner 42"/>
          <p:cNvSpPr/>
          <p:nvPr/>
        </p:nvSpPr>
        <p:spPr>
          <a:xfrm>
            <a:off x="3216240" y="3532320"/>
            <a:ext cx="16128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uc_param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Folded Corner 26"/>
          <p:cNvSpPr/>
          <p:nvPr/>
        </p:nvSpPr>
        <p:spPr>
          <a:xfrm>
            <a:off x="1519200" y="308772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99"/>
                </a:solidFill>
                <a:latin typeface="Arial"/>
              </a:rPr>
              <a:t>struc_param = 1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Folded Corner 42"/>
          <p:cNvSpPr/>
          <p:nvPr/>
        </p:nvSpPr>
        <p:spPr>
          <a:xfrm>
            <a:off x="3216240" y="1792440"/>
            <a:ext cx="186840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_param&lt;int&gt; struc_param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03_Elab_Time_Param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80880" y="1588680"/>
            <a:ext cx="868680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Ctor: Default value of sim_ip.struc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Set value of struc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Before_End_Elab: Value of struc_param changed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Set value of struc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eter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sim_ip.execute @ 1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10 ns, execute: Value of struc_param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Set value of sim_ip.struc_param to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</a:rPr>
              <a:t>Error: /Accellera/CCI/SET_PARAM_FAILED: Param lock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</a:rPr>
              <a:t>In process: cfg_ip.execute @ 20 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20 ns, execute: [EXTERNAL] Value of sim_ip.struc_param remains unchanged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Dtor: Current value of sim_ip.struc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32:41Z</cp:lastPrinted>
  <dcterms:modified xsi:type="dcterms:W3CDTF">2017-11-15T21:03:03Z</dcterms:modified>
  <cp:revision>173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1:03:03Z</vt:lpwstr>
  </property>
  <property fmtid="{D5CDD505-2E9C-101B-9397-08002B2CF9AE}" pid="5" name="TitusGUID">
    <vt:lpwstr>547c93aa-b014-4213-b6ae-5ea969590b9c</vt:lpwstr>
  </property>
</Properties>
</file>