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DF95-E05B-494B-91EC-8F77FCA83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E8F61-1DF0-4992-A683-ADF82A761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4FEB3-AC73-4F74-8526-FAB88E07E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BE1D-555D-4F88-98E2-C8046ECDDA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0FAAB-A790-4D4C-B84D-DB140ED6E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5A2AA-F21F-423B-8758-39E8EBF36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2C38-C1A8-46FC-8DF9-B9AF91C36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A9D5-3C6D-4FDC-B104-7F4E609D2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F751E-0FE0-4F3F-AA0B-0878FA715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A785-50CA-4DFB-A51C-49D884CDD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ECCCD-2363-4873-A4B3-51372BD86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087F0-FBE0-42DB-9FA1-8A159012A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262" t="6352" r="10487" b="3395"/>
          <a:stretch/>
        </p:blipFill>
        <p:spPr>
          <a:xfrm>
            <a:off x="685800" y="121932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54366"/>
          <a:stretch/>
        </p:blipFill>
        <p:spPr>
          <a:xfrm>
            <a:off x="2495520" y="434880"/>
            <a:ext cx="6191280" cy="403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68160" y="284040"/>
            <a:ext cx="154152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752480"/>
            <a:ext cx="8226360" cy="0"/>
          </a:xfrm>
          <a:prstGeom prst="line">
            <a:avLst/>
          </a:prstGeom>
          <a:ln w="381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477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 OCP-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34F1-F5F7-431C-A99D-7D8C18AC27C2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5707" r="0" b="0"/>
          <a:stretch/>
        </p:blipFill>
        <p:spPr>
          <a:xfrm>
            <a:off x="457200" y="2209680"/>
            <a:ext cx="830592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038320"/>
            <a:ext cx="8318520" cy="1825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288900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76113"/>
          <a:stretch/>
        </p:blipFill>
        <p:spPr>
          <a:xfrm>
            <a:off x="609480" y="1676520"/>
            <a:ext cx="8247240" cy="28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504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62940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OCP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CP-IP SLD WG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191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42200" y="1884240"/>
            <a:ext cx="3165120" cy="103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gular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eatures constantly add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ckward compatibility mainta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port for OCP-IP deliv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lready planning future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5443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41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3: 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267080"/>
            <a:ext cx="75960" cy="1067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4267080"/>
            <a:ext cx="30492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5627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 2003: 1.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895480"/>
            <a:ext cx="76176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62320"/>
            <a:ext cx="12348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 2003: OCP 2.0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2971800"/>
            <a:ext cx="228600" cy="11430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05740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1 &amp; Adapt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267080"/>
            <a:ext cx="304920" cy="1676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0199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267080"/>
            <a:ext cx="15228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0552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g 2004: Monito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267080"/>
            <a:ext cx="228600" cy="13716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71500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5: OCP 2.1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3276720"/>
            <a:ext cx="75960" cy="9144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274320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4: 2.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666880"/>
            <a:ext cx="99072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1981080"/>
            <a:ext cx="18288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5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1 &amp; Example Package Rel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5791320"/>
            <a:ext cx="1295280" cy="7635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ch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 &amp; TL3 Channel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71840" y="4267080"/>
            <a:ext cx="60948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124080"/>
            <a:ext cx="11430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ril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581280"/>
            <a:ext cx="380880" cy="533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510552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4267080"/>
            <a:ext cx="22860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276720"/>
            <a:ext cx="121896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733920"/>
            <a:ext cx="152280" cy="3808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6975-7C85-4517-B837-0D3FCC7A37E9}" type="slidenum">
              <a:t>1</a:t>
            </a:fld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8:53:25Z</dcterms:created>
  <dc:creator>OCP-IP Administration</dc:creator>
  <dc:description/>
  <dc:language>en-US</dc:language>
  <cp:lastModifiedBy>aluukinen</cp:lastModifiedBy>
  <dcterms:modified xsi:type="dcterms:W3CDTF">2006-10-31T18:52:52Z</dcterms:modified>
  <cp:revision>168</cp:revision>
  <dc:subject/>
  <dc:title>OCP-IP Introductory Presentation</dc:title>
</cp:coreProperties>
</file>