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5C0B-DA03-45A9-B65A-C4519447E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9368A-BA83-4A5F-8D7A-DA222F86B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E555F-ECE3-4404-AA25-02157B913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E09A5-C8A1-4AB0-AD3D-2E166BD46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209F-EE53-4ECA-97B6-D47F6DE5E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FDF26-61E8-4D09-B6BA-7007C9819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2515C-E633-43A9-BA57-BCA199A4F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D181B-3522-44AC-B142-7C4A066F8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30E3E-308C-418F-A22B-2535E2137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7E26-12C3-4429-B924-F6009FAD4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8AFE5-8AE6-48FC-803F-81BA98E7C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BE17D-B97F-447A-B9F1-51DC78C9F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1E87E-AA0D-4FF4-9F95-C6D4A11300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D980-7968-4C4A-B9FD-025E07AA8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59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3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6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0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4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7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 </cp:lastModifiedBy>
  <dcterms:modified xsi:type="dcterms:W3CDTF">2009-02-07T17:01:47Z</dcterms:modified>
  <cp:revision>62</cp:revision>
  <dc:subject/>
  <dc:title>TLM2</dc:title>
</cp:coreProperties>
</file>