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C8DAA-8665-49C0-B449-A0A1A0093B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93BA9-EA21-454A-AD38-10D7C51A26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58F8B-BDE5-4075-B363-B37D5E0E90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07F7F-9D67-4933-8B09-45632387E5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0DD48-4D69-4025-BE71-A417E76955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CA137-84E1-4E69-B6A2-494235BE88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D5002-0B6F-4BCA-9957-1FB9A563C4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00FFD-0D52-49DB-B474-A0057452FD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C0AA0-C2E8-4E8D-8C65-898333306C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92EFA-AEFC-44E7-AAA0-DC0744CB6F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93D18-B30A-4C32-8D67-31DD72DE23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B094E-4DE1-4D30-9A47-4EB726FEEF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94AFE-2C01-4D4C-A4BD-084BEE02F4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5E038-95E0-474B-AE43-E7F8356AAA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F492A-E4C6-45B3-B637-8D8B8C8122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3F633-91E4-47C3-AFBA-3FE272C881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85A0C-4907-4FE1-9267-8406E15A4B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0F0E3-269C-4AED-AEBE-5A48170153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Jack Donovan</cp:lastModifiedBy>
  <dcterms:modified xsi:type="dcterms:W3CDTF">2009-06-25T22:11:39Z</dcterms:modified>
  <cp:revision>84</cp:revision>
  <dc:subject/>
  <dc:title>AT Basic System Example</dc:title>
</cp:coreProperties>
</file>