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785B-0D1E-45DA-BD45-00BBB72EE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136C-C566-4A81-AA9D-82A57FEB0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C783-15C2-4ABA-82D6-D1DF2D07B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3421-649E-4761-B905-F44056434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FDAB-E20D-4E77-B268-FDEBC9D9C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92F6C-2B37-443F-9521-94BE50F2AD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0B56C-5137-4313-883B-E40E6025FE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A6D22-11DB-421C-B17A-F37A3D03D1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CA041-CCC8-4E1E-B1F4-52C40CD954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AD9EA-0705-49A1-B884-C1B18725CB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E26B1-252C-4D54-8CCC-4A404B83EB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BCE4E-D2E1-4057-9AA5-969D8669B4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8AB97-1260-4ACE-8C93-0B2A4411CE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7248A-C996-4375-BC49-DB99ADDA1E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4552D-19E2-4C3A-85A2-4601551C83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A9089-5CD0-49AF-BB96-508B241651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2E4F2-3434-48A6-A9F8-C2A2084701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FF6D-EF32-4560-8A23-45791C812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Jack Donovan</cp:lastModifiedBy>
  <dcterms:modified xsi:type="dcterms:W3CDTF">2009-05-04T21:26:45Z</dcterms:modified>
  <cp:revision>87</cp:revision>
  <dc:subject/>
  <dc:title>AT Basic System Example</dc:title>
</cp:coreProperties>
</file>