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2301-EAE1-4A83-8841-60430D942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44E7-A0DE-469E-87E5-974864963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03EC-71F7-4265-97EB-F58D44D6B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A1B8-71DE-44DA-AD5B-E9DEE154E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1D29-9347-48B2-8FFF-ED11F1202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28E4B-01E0-4FE4-BA95-B92BBA1847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360AD-D0F4-4750-A0CA-A44B72FC3D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0AE49-137C-493B-A082-04A60A9CEB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588B0-FC28-41BE-9AF3-79F7444D53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857D4-1480-4477-AF0B-7A5EF4E6A8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17E11-378A-450C-82D1-67B120F3B9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D10FB-56E8-4984-802C-F81444F151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B5DB0-1479-44DB-8657-DAFF8FAE5D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A2E0B-0404-46C4-A5DA-578C2E8E56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02FBE-9CB5-4BF6-B109-3B711CB3E6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AEC4C-3F70-433D-8F29-ED0D9DA95C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3C015-E553-4563-98E4-575D624BA3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B433-E157-48D4-BACF-3AFA35C90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2180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dcterms:modified xsi:type="dcterms:W3CDTF">2008-06-04T19:47:11Z</dcterms:modified>
  <cp:revision>83</cp:revision>
  <dc:subject/>
  <dc:title>AT Basic System Example</dc:title>
</cp:coreProperties>
</file>