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6CB5A-6E5A-43FB-87FD-B55D92051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E535C-B21D-4843-9851-E60B2E663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50398-9D77-4774-9A1C-68B78EA6E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D0A7D-1359-484B-B429-C026B3811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D9AC7-5688-4C6B-8780-9A9C980FB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977B8-E77A-4DB1-B113-90A7417544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AF99B-02E7-4530-A6C4-BFBDCF7787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E5B0C-526B-4B72-9427-4B07DF4739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6AFFC-25A8-49D3-954D-DC51B46DD3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1E502-0C7E-4F5A-BB5A-88682819B1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15CD8-C401-41E5-9B1B-10A2073DF5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AC2B6-A745-4606-B482-E5D2A6CA5F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3C70C-9654-406D-BDC4-377A0C376F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E9455-8FE7-406C-90F3-FA32F76442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8B48C-4D21-432F-B542-1439BE5E2B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61628-85AB-4208-9C71-A87C4CE0FB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97D7E-1B9B-48A6-AB45-AC2EA6AE59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A82B3-E8FA-40D3-A721-CAB293B15A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-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71000" y="1027080"/>
            <a:ext cx="4937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starting new 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2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23200" y="1647720"/>
            <a:ext cx="50850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4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report.cpp: 4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4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nb_transport_bw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5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5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18:56Z</cp:lastPrinted>
  <dcterms:modified xsi:type="dcterms:W3CDTF">2008-06-04T21:38:24Z</dcterms:modified>
  <cp:revision>84</cp:revision>
  <dc:subject/>
  <dc:title>AT Basic System Example</dc:title>
</cp:coreProperties>
</file>