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DB45-9B1B-4735-B109-7DCD4C39C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A8F2-EC20-461F-BAF3-8F412B58E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A539-0D96-4B6D-8AB4-F5A9DD2AF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F142-B9F0-4075-9CA6-EA6545E59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7C48-40FF-4493-9492-084A3CCF8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5F76-7AA6-409B-B619-03B38CF30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C7F64-4467-4661-96F3-16C70EFFA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884A-D815-48EB-B0CD-E9B960C5C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10EF-444C-4093-95FB-6AF460EB1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DE4F-7EFF-40FB-BEF2-66F3A29CA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2DA8-333C-42AB-B130-A51BB2155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5BF7-779A-40C9-AA05-655F36322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F75E-894E-49E3-9A4B-408521BCA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70E0-9380-4C00-BA98-2D729ABFB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760E-8DCB-4049-8471-5F0D582C6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4DD72-02B8-4712-A37C-E78D9ACE2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46B9-0FBD-43A0-8F60-08745F739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E04F-5F2B-4FE5-B699-E986ED4B1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3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4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5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6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7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8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2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3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4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5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9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1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4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5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6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9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1" name="AutoShape 13"/>
            <p:cNvCxnSpPr>
              <a:stCxn id="312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3" name="AutoShape 17"/>
            <p:cNvCxnSpPr>
              <a:endCxn id="314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7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8" name="AutoShape 51"/>
            <p:cNvCxnSpPr>
              <a:stCxn id="317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9" name="AutoShape 52"/>
            <p:cNvCxnSpPr>
              <a:stCxn id="317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0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4"/>
            <p:cNvCxnSpPr>
              <a:stCxn id="320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5"/>
            <p:cNvCxnSpPr>
              <a:stCxn id="320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3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4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6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8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0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2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6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1028"/>
          <p:cNvSpPr/>
          <p:nvPr/>
        </p:nvSpPr>
        <p:spPr>
          <a:xfrm>
            <a:off x="1072800" y="1027080"/>
            <a:ext cx="4749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3"/>
          <p:cNvSpPr/>
          <p:nvPr/>
        </p:nvSpPr>
        <p:spPr>
          <a:xfrm>
            <a:off x="6502320" y="2324160"/>
            <a:ext cx="1917720" cy="482400"/>
          </a:xfrm>
          <a:prstGeom prst="wedgeRoundRectCallout">
            <a:avLst>
              <a:gd name="adj1" fmla="val -156416"/>
              <a:gd name="adj2" fmla="val 8856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6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7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8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9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0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4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5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6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7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1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3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6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7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8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0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2" name="AutoShape 156"/>
          <p:cNvCxnSpPr>
            <a:stCxn id="143" idx="3"/>
            <a:endCxn id="144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5" name="AutoShape 157"/>
          <p:cNvCxnSpPr>
            <a:stCxn id="146" idx="2"/>
            <a:endCxn id="147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8" name="AutoShape 158"/>
          <p:cNvCxnSpPr>
            <a:stCxn id="146" idx="0"/>
            <a:endCxn id="149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0" name="AutoShape 159"/>
          <p:cNvCxnSpPr>
            <a:stCxn id="151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2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4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5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73"/>
          <p:cNvCxnSpPr>
            <a:stCxn id="158" idx="2"/>
            <a:endCxn id="157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0" name="AutoShape 174"/>
          <p:cNvCxnSpPr>
            <a:stCxn id="158" idx="0"/>
            <a:endCxn id="161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1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7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9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0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4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6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7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1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2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5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6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7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8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1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2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4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6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0" name="AutoShape 80"/>
          <p:cNvCxnSpPr>
            <a:stCxn id="198" idx="3"/>
            <a:endCxn id="189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81"/>
          <p:cNvCxnSpPr>
            <a:stCxn id="196" idx="3"/>
            <a:endCxn id="189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82"/>
          <p:cNvCxnSpPr>
            <a:stCxn id="189" idx="3"/>
            <a:endCxn id="192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3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4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5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7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9" name="AutoShape 90"/>
          <p:cNvCxnSpPr>
            <a:stCxn id="198" idx="1"/>
            <a:endCxn id="205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0" name="AutoShape 91"/>
          <p:cNvCxnSpPr>
            <a:stCxn id="192" idx="1"/>
            <a:endCxn id="208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2"/>
          <p:cNvCxnSpPr>
            <a:stCxn id="198" idx="1"/>
            <a:endCxn id="208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3"/>
          <p:cNvCxnSpPr>
            <a:stCxn id="196" idx="1"/>
            <a:endCxn id="208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94"/>
          <p:cNvCxnSpPr>
            <a:stCxn id="198" idx="2"/>
            <a:endCxn id="199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5"/>
          <p:cNvCxnSpPr>
            <a:stCxn id="199" idx="2"/>
            <a:endCxn id="192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6"/>
          <p:cNvCxnSpPr>
            <a:stCxn id="192" idx="2"/>
            <a:endCxn id="197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7"/>
          <p:cNvCxnSpPr>
            <a:stCxn id="197" idx="2"/>
            <a:endCxn id="196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2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3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4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5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6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0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1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2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3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7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8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9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2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3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4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6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8" name="AutoShape 30"/>
          <p:cNvCxnSpPr>
            <a:stCxn id="259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0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2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3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6" name="AutoShape 40"/>
          <p:cNvCxnSpPr>
            <a:stCxn id="256" idx="1"/>
            <a:endCxn id="260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41"/>
          <p:cNvCxnSpPr>
            <a:stCxn id="268" idx="3"/>
            <a:endCxn id="264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9" name="AutoShape 42"/>
          <p:cNvCxnSpPr>
            <a:stCxn id="263" idx="1"/>
            <a:endCxn id="259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40"/>
          <p:cNvCxnSpPr>
            <a:stCxn id="265" idx="2"/>
            <a:endCxn id="263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1073"/>
          <p:cNvCxnSpPr>
            <a:stCxn id="260" idx="2"/>
            <a:endCxn id="275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1074"/>
          <p:cNvCxnSpPr>
            <a:stCxn id="275" idx="2"/>
            <a:endCxn id="268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1075"/>
          <p:cNvCxnSpPr>
            <a:stCxn id="268" idx="2"/>
            <a:endCxn id="265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1076"/>
          <p:cNvCxnSpPr>
            <a:stCxn id="260" idx="3"/>
            <a:endCxn id="263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0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0:27:08Z</dcterms:created>
  <dc:creator>Anna Keist, Bill Bunton, Charles Wilson</dc:creator>
  <dc:description/>
  <cp:keywords/>
  <dc:language>en-US</dc:language>
  <cp:lastModifiedBy>Charles Wilson</cp:lastModifiedBy>
  <cp:lastPrinted>2008-06-04T21:18:56Z</cp:lastPrinted>
  <dcterms:modified xsi:type="dcterms:W3CDTF">2008-06-05T21:04:24Z</dcterms:modified>
  <cp:revision>85</cp:revision>
  <dc:subject/>
  <dc:title>AT Basic System Example</dc:title>
</cp:coreProperties>
</file>