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02444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11360" y="4862160"/>
            <a:ext cx="5682960" cy="46054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72036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024440" y="972036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7943C1B-15E6-4240-8A90-B59C3609AA7E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11360" y="4862160"/>
            <a:ext cx="5682960" cy="46054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 didn‘t make our models OSCI TLM compliant upfront because lack of features when we buil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11360" y="4862160"/>
            <a:ext cx="5682960" cy="46054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 solution for HW engineers -&gt; We see SystemC as system language but not as RTL and Design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11360" y="4862160"/>
            <a:ext cx="5682960" cy="46054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0x better 100x needed to make a business case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11360" y="4862160"/>
            <a:ext cx="5682960" cy="46054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objects violate a basic principle of OO: Data Hi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V does not run on actual SystemC standard, not OSCI TLM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e6ec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836640"/>
            <a:ext cx="7777080" cy="0"/>
          </a:xfrm>
          <a:prstGeom prst="line">
            <a:avLst/>
          </a:prstGeom>
          <a:ln w="2232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4920" y="5808600"/>
            <a:ext cx="118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olfgang Eck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Volkan E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006-03-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age </a:t>
            </a:r>
            <a:fld id="{EB054486-034C-4950-A4CB-15EE24A1D7D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16000" y="46080"/>
            <a:ext cx="7956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1280" y="85680"/>
            <a:ext cx="1187640" cy="534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10160" y="5373720"/>
            <a:ext cx="48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lkan Esen, Wolfgang 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ineon Technologies AG, Mun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294680" y="5445000"/>
            <a:ext cx="1458720" cy="720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765000"/>
            <a:ext cx="781200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920" y="1557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OSCI Lunch Panel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nds in Transaction Level Modeling for Architecture Analysis, Embedded Software Development, and Functional Verification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144000"/>
            <a:ext cx="78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ineon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981000"/>
            <a:ext cx="7559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SCI TLM compliant TL-Modeling successfully used at Infineon since ye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Prototypes for early SW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models for RTL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ly own models used except fast processo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shall be made OSCI TLM complia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476000" y="981000"/>
            <a:ext cx="7559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C is a class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olution for concept engin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usual solution for HW engin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 SystemC/HDL Models are not sufficiently sup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ors are behind in SystemC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ors support SystemC/HDL interfaces differ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M does not guarante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level design with SystemC / HDL needs a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332000" y="144000"/>
            <a:ext cx="78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General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bst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76000" y="981000"/>
            <a:ext cx="7559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CI TLM SystemC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t based SystemVerilog TLM model was factors faster than its SystemC uint based counter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C Versions require specific gcc versions and allow limited optimization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SystemC kernel needed which is 10x – 100x faster than the OSCI kern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332000" y="144000"/>
            <a:ext cx="78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General Issues: Execution Sp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476000" y="981000"/>
            <a:ext cx="7559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L/TLM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is the only choice today, however cannot run all TLM scenarios on RTL without using an accelerator/prot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approach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M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more efficient method for probing the design without making all states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 verification methodology requires re-adjustment for T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M assertions slowly e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115920"/>
            <a:ext cx="7812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Verification Tr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476000" y="981000"/>
            <a:ext cx="7559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ost issues found in SystemC applications tackled by OS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DL/SystemC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ification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leanup for speed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tocol 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115920"/>
            <a:ext cx="7812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ummary and 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332000" y="907920"/>
            <a:ext cx="770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e: Wednesday, March 8, 200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: 12:30 - 14:00 pm - Meeting (lunch provid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: Room 13b, ICM, Munich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nds in Transaction Level Modeling for Architecture Analysis, Embedd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ftware Development, and Functional Verificatio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elists from leading companies around the world will discuss thei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riences developing and deploying SystemC transaction-level model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provements that have resulted as well as difficulties they had 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come. This special forum will provide you with invalu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, insights, and real world solutions to reduce your risks 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ive ESL adoption success with SystemC and TLM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r panel of experts will explore the issues that initiated their mo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LM, their current approach, and the key factors driving design 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 productivity. The discussion will highlight the import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standards for TLM model interoperability and reuse, the need f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and IP owners to provide users with TLM views in SystemC, 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ations for interoperability between SystemC and non-System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s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d by Wolfgang Nebel, OFFIS, Oldenburg University and ChipV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 Systems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elists include Ralph von Vignau, Philips Semiconductor and Chairm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SPIRIT, Frank Ghenassia, ST Microelectronics and OSCI TLM WG Chai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da Forma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15 minutes Lunch Service and Welco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15 minutes OSCI Update - Ala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45 minutes Panel (speakers prepare for 10 minutes each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15 minutes Q&amp;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297080" y="0"/>
            <a:ext cx="7812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Backup: PANEL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0:58:49Z</dcterms:created>
  <dc:creator>Zambaldi_48803</dc:creator>
  <dc:description/>
  <dc:language>en-US</dc:language>
  <cp:lastModifiedBy>Volvo</cp:lastModifiedBy>
  <dcterms:modified xsi:type="dcterms:W3CDTF">2006-03-07T23:35:38Z</dcterms:modified>
  <cp:revision>63</cp:revision>
  <dc:subject/>
  <dc:title>Kein Folientitel</dc:title>
</cp:coreProperties>
</file>