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324480"/>
            <a:ext cx="800100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91440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0684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419640" y="609588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8880" y="6324480"/>
            <a:ext cx="251784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6324480"/>
            <a:ext cx="251784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76640" y="533520"/>
            <a:ext cx="1752840" cy="1157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TLM usage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918720" y="1631880"/>
            <a:ext cx="452520" cy="452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87840" y="1285920"/>
            <a:ext cx="2732040" cy="1923840"/>
          </a:xfrm>
          <a:prstGeom prst="rect">
            <a:avLst/>
          </a:prstGeom>
          <a:gradFill rotWithShape="0">
            <a:gsLst>
              <a:gs pos="0">
                <a:srgbClr val="c9dfff">
                  <a:alpha val="50196"/>
                </a:srgbClr>
              </a:gs>
              <a:gs pos="100000">
                <a:srgbClr val="ffeffd"/>
              </a:gs>
            </a:gsLst>
            <a:lin ang="5400000"/>
          </a:gradFill>
          <a:ln w="25560">
            <a:solidFill>
              <a:srgbClr val="0033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7920" y="1363680"/>
            <a:ext cx="180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TLM platform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52160" y="2241720"/>
            <a:ext cx="3004560" cy="2468520"/>
            <a:chOff x="6752160" y="2241720"/>
            <a:chExt cx="3004560" cy="2468520"/>
          </a:xfrm>
        </p:grpSpPr>
        <p:sp>
          <p:nvSpPr>
            <p:cNvPr id="87" name=""/>
            <p:cNvSpPr/>
            <p:nvPr/>
          </p:nvSpPr>
          <p:spPr>
            <a:xfrm>
              <a:off x="6918480" y="2773440"/>
              <a:ext cx="2660400" cy="1936800"/>
            </a:xfrm>
            <a:prstGeom prst="rect">
              <a:avLst/>
            </a:prstGeom>
            <a:gradFill rotWithShape="0">
              <a:gsLst>
                <a:gs pos="0">
                  <a:srgbClr val="c9dfff">
                    <a:alpha val="50196"/>
                  </a:srgbClr>
                </a:gs>
                <a:gs pos="100000">
                  <a:srgbClr val="ffeffd"/>
                </a:gs>
              </a:gsLst>
              <a:lin ang="5400000"/>
            </a:gradFill>
            <a:ln w="255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7194600" y="364176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7781760" y="3648240"/>
              <a:ext cx="13510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8126280" y="3019320"/>
              <a:ext cx="72864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8899560" y="3295800"/>
              <a:ext cx="57780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8916840" y="3890880"/>
              <a:ext cx="47952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7188120" y="3003480"/>
              <a:ext cx="7416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752160" y="2241720"/>
              <a:ext cx="3004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73080"/>
                  <a:tab algn="l" pos="1946160"/>
                  <a:tab algn="l" pos="2919240"/>
                  <a:tab algn="l" pos="3892680"/>
                  <a:tab algn="l" pos="4865760"/>
                  <a:tab algn="l" pos="583884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1" lang="en-US" sz="2100" spc="-1" strike="noStrike">
                  <a:solidFill>
                    <a:srgbClr val="003300"/>
                  </a:solidFill>
                  <a:latin typeface="Comic Sans MS"/>
                </a:rPr>
                <a:t>Architecture analysis</a:t>
              </a:r>
              <a:endParaRPr b="0" lang="en-US" sz="21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832200" y="1693800"/>
            <a:ext cx="23940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65600" y="2273400"/>
            <a:ext cx="3350880" cy="2477880"/>
            <a:chOff x="165600" y="2273400"/>
            <a:chExt cx="3350880" cy="2477880"/>
          </a:xfrm>
        </p:grpSpPr>
        <p:sp>
          <p:nvSpPr>
            <p:cNvPr id="97" name=""/>
            <p:cNvSpPr/>
            <p:nvPr/>
          </p:nvSpPr>
          <p:spPr>
            <a:xfrm>
              <a:off x="262080" y="2795760"/>
              <a:ext cx="3254400" cy="1955520"/>
            </a:xfrm>
            <a:prstGeom prst="rect">
              <a:avLst/>
            </a:prstGeom>
            <a:gradFill rotWithShape="0">
              <a:gsLst>
                <a:gs pos="0">
                  <a:srgbClr val="c9dfff">
                    <a:alpha val="50196"/>
                  </a:srgbClr>
                </a:gs>
                <a:gs pos="100000">
                  <a:srgbClr val="ffeffd"/>
                </a:gs>
              </a:gsLst>
              <a:lin ang="5400000"/>
            </a:gradFill>
            <a:ln w="255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1520" y="3079800"/>
              <a:ext cx="2889360" cy="815760"/>
            </a:xfrm>
            <a:prstGeom prst="rect">
              <a:avLst/>
            </a:prstGeom>
            <a:gradFill rotWithShape="0">
              <a:gsLst>
                <a:gs pos="0">
                  <a:srgbClr val="c9dfff"/>
                </a:gs>
                <a:gs pos="100000">
                  <a:srgbClr val="ffeffd"/>
                </a:gs>
              </a:gsLst>
              <a:lin ang="5400000"/>
            </a:gradFill>
            <a:ln w="255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8560" y="3127320"/>
              <a:ext cx="3794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30520" y="3166920"/>
              <a:ext cx="3776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9880" y="3222720"/>
              <a:ext cx="3776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8680" y="3222720"/>
              <a:ext cx="3780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960" y="3736800"/>
              <a:ext cx="1942920" cy="81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5240" y="4057560"/>
              <a:ext cx="917280" cy="514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87640" y="4040280"/>
              <a:ext cx="109440" cy="5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6160" y="3554280"/>
              <a:ext cx="54000" cy="52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2520" y="3618000"/>
              <a:ext cx="1800" cy="1094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89120" y="3540240"/>
              <a:ext cx="1800" cy="187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57480" y="3870360"/>
              <a:ext cx="1440" cy="1587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1640" y="3840120"/>
              <a:ext cx="1800" cy="189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4200" y="3492360"/>
              <a:ext cx="54000" cy="55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531800" y="4057560"/>
              <a:ext cx="108000" cy="54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57200" y="3430440"/>
              <a:ext cx="135000" cy="189000"/>
              <a:chOff x="457200" y="3430440"/>
              <a:chExt cx="135000" cy="189000"/>
            </a:xfrm>
          </p:grpSpPr>
          <p:sp>
            <p:nvSpPr>
              <p:cNvPr id="114" name=""/>
              <p:cNvSpPr/>
              <p:nvPr/>
            </p:nvSpPr>
            <p:spPr>
              <a:xfrm>
                <a:off x="457200" y="3444840"/>
                <a:ext cx="135000" cy="152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" y="3430440"/>
                <a:ext cx="135000" cy="363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" y="3575880"/>
                <a:ext cx="135000" cy="43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3553920"/>
                <a:ext cx="135000" cy="43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7200" y="3532320"/>
                <a:ext cx="0" cy="65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2200" y="3532320"/>
                <a:ext cx="0" cy="65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057480" y="3214800"/>
              <a:ext cx="135000" cy="188640"/>
              <a:chOff x="3057480" y="3214800"/>
              <a:chExt cx="135000" cy="188640"/>
            </a:xfrm>
          </p:grpSpPr>
          <p:sp>
            <p:nvSpPr>
              <p:cNvPr id="121" name=""/>
              <p:cNvSpPr/>
              <p:nvPr/>
            </p:nvSpPr>
            <p:spPr>
              <a:xfrm>
                <a:off x="3057480" y="3229200"/>
                <a:ext cx="13500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57480" y="3214800"/>
                <a:ext cx="135000" cy="360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57480" y="3359880"/>
                <a:ext cx="135000" cy="43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57480" y="3338280"/>
                <a:ext cx="135000" cy="4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57480" y="3316320"/>
                <a:ext cx="0" cy="65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2480" y="3316320"/>
                <a:ext cx="0" cy="65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057480" y="3606840"/>
              <a:ext cx="135000" cy="189000"/>
              <a:chOff x="3057480" y="3606840"/>
              <a:chExt cx="135000" cy="189000"/>
            </a:xfrm>
          </p:grpSpPr>
          <p:sp>
            <p:nvSpPr>
              <p:cNvPr id="128" name=""/>
              <p:cNvSpPr/>
              <p:nvPr/>
            </p:nvSpPr>
            <p:spPr>
              <a:xfrm>
                <a:off x="3057480" y="3621240"/>
                <a:ext cx="135000" cy="152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57480" y="3606840"/>
                <a:ext cx="135000" cy="363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7480" y="3752280"/>
                <a:ext cx="135000" cy="43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57480" y="3730320"/>
                <a:ext cx="135000" cy="43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sp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57480" y="3708720"/>
                <a:ext cx="0" cy="65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92480" y="3708720"/>
                <a:ext cx="0" cy="651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2709720" y="3298680"/>
              <a:ext cx="270000" cy="135000"/>
            </a:xfrm>
            <a:prstGeom prst="line">
              <a:avLst/>
            </a:prstGeom>
            <a:ln w="12600">
              <a:solidFill>
                <a:srgbClr val="0033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9720" y="3511440"/>
              <a:ext cx="270000" cy="163800"/>
            </a:xfrm>
            <a:prstGeom prst="line">
              <a:avLst/>
            </a:prstGeom>
            <a:ln w="12600">
              <a:solidFill>
                <a:srgbClr val="0033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800" y="3529080"/>
              <a:ext cx="220680" cy="1440"/>
            </a:xfrm>
            <a:prstGeom prst="line">
              <a:avLst/>
            </a:prstGeom>
            <a:ln w="12600">
              <a:solidFill>
                <a:srgbClr val="0033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5120" y="3225960"/>
              <a:ext cx="2104920" cy="143640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86080" y="4214880"/>
              <a:ext cx="587160" cy="28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3300"/>
              </a:solidFill>
              <a:miter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1" lang="en-US" sz="1300" spc="-1" strike="noStrike">
                  <a:solidFill>
                    <a:srgbClr val="010000"/>
                  </a:solidFill>
                  <a:latin typeface="Arial"/>
                </a:rPr>
                <a:t>DUT</a:t>
              </a:r>
              <a:endParaRPr b="0" lang="en-US" sz="13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1880" y="3222720"/>
              <a:ext cx="3780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55880" y="3554280"/>
              <a:ext cx="54000" cy="52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90800" y="3624120"/>
              <a:ext cx="1440" cy="1098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30520" y="3549600"/>
              <a:ext cx="1440" cy="1890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1720" y="3524400"/>
              <a:ext cx="54000" cy="54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5600" y="2273400"/>
              <a:ext cx="3193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73080"/>
                  <a:tab algn="l" pos="1946160"/>
                  <a:tab algn="l" pos="2919240"/>
                  <a:tab algn="l" pos="3892680"/>
                  <a:tab algn="l" pos="4865760"/>
                  <a:tab algn="l" pos="583884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1" lang="en-US" sz="2100" spc="-1" strike="noStrike">
                  <a:solidFill>
                    <a:srgbClr val="003300"/>
                  </a:solidFill>
                  <a:latin typeface="Comic Sans MS"/>
                </a:rPr>
                <a:t>Functional verification</a:t>
              </a:r>
              <a:endParaRPr b="0" lang="en-US" sz="21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06840" y="3862440"/>
            <a:ext cx="2865240" cy="2436840"/>
            <a:chOff x="3606840" y="3862440"/>
            <a:chExt cx="2865240" cy="2436840"/>
          </a:xfrm>
        </p:grpSpPr>
        <p:sp>
          <p:nvSpPr>
            <p:cNvPr id="146" name=""/>
            <p:cNvSpPr/>
            <p:nvPr/>
          </p:nvSpPr>
          <p:spPr>
            <a:xfrm>
              <a:off x="3606840" y="4300560"/>
              <a:ext cx="2865240" cy="1955880"/>
            </a:xfrm>
            <a:prstGeom prst="rect">
              <a:avLst/>
            </a:prstGeom>
            <a:gradFill rotWithShape="0">
              <a:gsLst>
                <a:gs pos="0">
                  <a:srgbClr val="c9dfff">
                    <a:alpha val="50196"/>
                  </a:srgbClr>
                </a:gs>
                <a:gs pos="100000">
                  <a:srgbClr val="ffeffd"/>
                </a:gs>
              </a:gsLst>
              <a:lin ang="5400000"/>
            </a:gradFill>
            <a:ln w="255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3645000" y="4551480"/>
              <a:ext cx="2630520" cy="1274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8" name=""/>
            <p:cNvGraphicFramePr/>
            <p:nvPr/>
          </p:nvGraphicFramePr>
          <p:xfrm>
            <a:off x="4992840" y="4921200"/>
            <a:ext cx="1269720" cy="1378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92840" y="4921200"/>
                      <a:ext cx="1269720" cy="13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3838320" y="3862440"/>
              <a:ext cx="2003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73080"/>
                  <a:tab algn="l" pos="1946160"/>
                  <a:tab algn="l" pos="2919240"/>
                  <a:tab algn="l" pos="3892680"/>
                  <a:tab algn="l" pos="4865760"/>
                  <a:tab algn="l" pos="583884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1" lang="en-US" sz="2100" spc="-1" strike="noStrike">
                  <a:solidFill>
                    <a:srgbClr val="003300"/>
                  </a:solidFill>
                  <a:latin typeface="Comic Sans MS"/>
                </a:rPr>
                <a:t>Software dev.</a:t>
              </a:r>
              <a:endParaRPr b="0" lang="en-US" sz="21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95440" y="1069920"/>
            <a:ext cx="7110360" cy="230364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effd"/>
              </a:gs>
            </a:gsLst>
            <a:lin ang="5400000"/>
          </a:gradFill>
          <a:ln w="25560">
            <a:solidFill>
              <a:srgbClr val="0033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03120" y="88920"/>
            <a:ext cx="7499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From IP to SoC verification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09920" y="4068000"/>
            <a:ext cx="1516680" cy="459720"/>
          </a:xfrm>
          <a:custGeom>
            <a:avLst/>
            <a:gdLst>
              <a:gd name="textAreaLeft" fmla="*/ 0 w 1516680"/>
              <a:gd name="textAreaRight" fmla="*/ 1517040 w 1516680"/>
              <a:gd name="textAreaTop" fmla="*/ 59400 h 459720"/>
              <a:gd name="textAreaBottom" fmla="*/ 400320 h 459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P Verification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72040" y="1309680"/>
            <a:ext cx="4525920" cy="3751560"/>
            <a:chOff x="4172040" y="1309680"/>
            <a:chExt cx="4525920" cy="3751560"/>
          </a:xfrm>
        </p:grpSpPr>
        <p:sp>
          <p:nvSpPr>
            <p:cNvPr id="155" name=""/>
            <p:cNvSpPr/>
            <p:nvPr/>
          </p:nvSpPr>
          <p:spPr>
            <a:xfrm>
              <a:off x="4540320" y="1309680"/>
              <a:ext cx="1066680" cy="917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87680" y="1411200"/>
              <a:ext cx="1067040" cy="917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72040" y="1550880"/>
              <a:ext cx="1066680" cy="917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83040" y="246852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9360" y="2633760"/>
              <a:ext cx="0" cy="3063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41520" y="1650960"/>
              <a:ext cx="960840" cy="335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3300"/>
              </a:solidFill>
              <a:miter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</a:rPr>
                <a:t>TLM IPs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7680" y="2417760"/>
              <a:ext cx="0" cy="53496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24320" y="2390760"/>
              <a:ext cx="152280" cy="15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8200" y="4601520"/>
              <a:ext cx="1679760" cy="459720"/>
            </a:xfrm>
            <a:custGeom>
              <a:avLst/>
              <a:gdLst>
                <a:gd name="textAreaLeft" fmla="*/ 0 w 1679760"/>
                <a:gd name="textAreaRight" fmla="*/ 1680120 w 1679760"/>
                <a:gd name="textAreaTop" fmla="*/ 59400 h 459720"/>
                <a:gd name="textAreaBottom" fmla="*/ 400320 h 45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8600" bIns="486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73080"/>
                  <a:tab algn="l" pos="1946160"/>
                  <a:tab algn="l" pos="2919240"/>
                  <a:tab algn="l" pos="3892680"/>
                  <a:tab algn="l" pos="4865760"/>
                  <a:tab algn="l" pos="5838840"/>
                  <a:tab algn="l" pos="6811920"/>
                  <a:tab algn="l" pos="7785000"/>
                  <a:tab algn="l" pos="8758080"/>
                  <a:tab algn="l" pos="9731520"/>
                  <a:tab algn="l" pos="107046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n-system Verif.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352600" y="1573200"/>
            <a:ext cx="1067040" cy="91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1920" y="1573200"/>
            <a:ext cx="1068480" cy="91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76640" y="2949480"/>
            <a:ext cx="54864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09800" y="249084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86120" y="2643120"/>
            <a:ext cx="0" cy="3063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77240" y="2414520"/>
            <a:ext cx="0" cy="5349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2200" y="1673280"/>
            <a:ext cx="837360" cy="57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TB</a:t>
            </a:r>
            <a:br>
              <a:rPr sz="1600"/>
            </a:b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4760" y="1673280"/>
            <a:ext cx="960840" cy="335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63760" y="2965320"/>
            <a:ext cx="176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Arial"/>
              </a:rPr>
              <a:t>Abstract interconnect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00920" y="2336760"/>
            <a:ext cx="152280" cy="154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47720" y="1649520"/>
            <a:ext cx="380880" cy="534600"/>
            <a:chOff x="1647720" y="1649520"/>
            <a:chExt cx="380880" cy="534600"/>
          </a:xfrm>
        </p:grpSpPr>
        <p:sp>
          <p:nvSpPr>
            <p:cNvPr id="175" name=""/>
            <p:cNvSpPr/>
            <p:nvPr/>
          </p:nvSpPr>
          <p:spPr>
            <a:xfrm>
              <a:off x="1647720" y="1690560"/>
              <a:ext cx="38088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47720" y="1649520"/>
              <a:ext cx="380880" cy="102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47720" y="2060640"/>
              <a:ext cx="380880" cy="12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7720" y="1999080"/>
              <a:ext cx="380880" cy="12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7720" y="1937520"/>
              <a:ext cx="0" cy="18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8600" y="1937520"/>
              <a:ext cx="0" cy="18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48360" y="2205000"/>
            <a:ext cx="622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C/C++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15320" y="1190520"/>
            <a:ext cx="382320" cy="534600"/>
            <a:chOff x="7915320" y="1190520"/>
            <a:chExt cx="382320" cy="534600"/>
          </a:xfrm>
        </p:grpSpPr>
        <p:sp>
          <p:nvSpPr>
            <p:cNvPr id="183" name=""/>
            <p:cNvSpPr/>
            <p:nvPr/>
          </p:nvSpPr>
          <p:spPr>
            <a:xfrm>
              <a:off x="7915320" y="1231560"/>
              <a:ext cx="3823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15320" y="1190520"/>
              <a:ext cx="382320" cy="102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15320" y="1601640"/>
              <a:ext cx="382320" cy="12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15320" y="1540080"/>
              <a:ext cx="382320" cy="12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15320" y="1478520"/>
              <a:ext cx="0" cy="18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7640" y="1478520"/>
              <a:ext cx="0" cy="18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915320" y="2027160"/>
            <a:ext cx="382320" cy="534600"/>
            <a:chOff x="7915320" y="2027160"/>
            <a:chExt cx="382320" cy="534600"/>
          </a:xfrm>
        </p:grpSpPr>
        <p:sp>
          <p:nvSpPr>
            <p:cNvPr id="190" name=""/>
            <p:cNvSpPr/>
            <p:nvPr/>
          </p:nvSpPr>
          <p:spPr>
            <a:xfrm>
              <a:off x="7915320" y="2068200"/>
              <a:ext cx="3823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15320" y="2027160"/>
              <a:ext cx="382320" cy="102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5320" y="2438280"/>
              <a:ext cx="382320" cy="12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15320" y="2376720"/>
              <a:ext cx="382320" cy="12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15320" y="2315160"/>
              <a:ext cx="0" cy="18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97640" y="2315160"/>
              <a:ext cx="0" cy="18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H="1">
            <a:off x="7610400" y="1690560"/>
            <a:ext cx="262080" cy="111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10400" y="1955880"/>
            <a:ext cx="219240" cy="115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81200" y="17114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00"/>
                </a:solidFill>
                <a:latin typeface="Arial"/>
              </a:rPr>
              <a:t>Input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69160" y="2523960"/>
            <a:ext cx="732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expected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85840" y="1941480"/>
            <a:ext cx="281160" cy="14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08040" y="1177920"/>
            <a:ext cx="126036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bench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11320" y="3154320"/>
            <a:ext cx="3733920" cy="2857680"/>
            <a:chOff x="2911320" y="3154320"/>
            <a:chExt cx="3733920" cy="2857680"/>
          </a:xfrm>
        </p:grpSpPr>
        <p:sp>
          <p:nvSpPr>
            <p:cNvPr id="203" name=""/>
            <p:cNvSpPr/>
            <p:nvPr/>
          </p:nvSpPr>
          <p:spPr>
            <a:xfrm>
              <a:off x="3635280" y="3166920"/>
              <a:ext cx="0" cy="2318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2880" y="3405240"/>
              <a:ext cx="1295280" cy="685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32360" y="3154320"/>
              <a:ext cx="0" cy="2556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11320" y="4869000"/>
              <a:ext cx="3733920" cy="1143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823000" y="4233600"/>
              <a:ext cx="0" cy="4712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46680" y="4081320"/>
              <a:ext cx="152640" cy="152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6680" y="470520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71560" y="3645000"/>
              <a:ext cx="948600" cy="24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3300"/>
              </a:solidFill>
              <a:miter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</a:rPr>
                <a:t>Adapter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56400" y="34052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3200" y="3405240"/>
              <a:ext cx="1295280" cy="685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46360" y="3405240"/>
              <a:ext cx="152640" cy="152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317760" y="4243320"/>
              <a:ext cx="0" cy="4572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1800" y="4700520"/>
              <a:ext cx="152280" cy="152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9920" y="3633840"/>
              <a:ext cx="1116000" cy="24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3300"/>
              </a:solidFill>
              <a:miter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</a:rPr>
                <a:t>Adapter</a:t>
              </a:r>
              <a:r>
                <a:rPr b="1" lang="en-US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1800" y="4091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3240" y="5235480"/>
              <a:ext cx="1373040" cy="366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3300"/>
              </a:solidFill>
              <a:miter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RTL DU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824280" y="3144960"/>
            <a:ext cx="2592360" cy="1912680"/>
            <a:chOff x="3824280" y="3144960"/>
            <a:chExt cx="2592360" cy="1912680"/>
          </a:xfrm>
        </p:grpSpPr>
        <p:sp>
          <p:nvSpPr>
            <p:cNvPr id="220" name=""/>
            <p:cNvSpPr/>
            <p:nvPr/>
          </p:nvSpPr>
          <p:spPr>
            <a:xfrm>
              <a:off x="3824280" y="3603600"/>
              <a:ext cx="2592360" cy="1454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77040" y="3603600"/>
              <a:ext cx="30456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08560" y="3144960"/>
              <a:ext cx="0" cy="53640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255920" y="3603600"/>
              <a:ext cx="304920" cy="15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83000" y="4062240"/>
              <a:ext cx="1373400" cy="366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3300"/>
              </a:solidFill>
              <a:miter/>
            </a:ln>
            <a:effectLst>
              <a:outerShdw dist="40186" dir="430364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TLM DUT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29320" y="3144960"/>
              <a:ext cx="0" cy="446040"/>
            </a:xfrm>
            <a:prstGeom prst="line">
              <a:avLst/>
            </a:prstGeom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rchitecture analysi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23760" y="2755800"/>
            <a:ext cx="2152800" cy="2089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81480" y="3794040"/>
            <a:ext cx="3076560" cy="2546280"/>
          </a:xfrm>
          <a:prstGeom prst="rect">
            <a:avLst/>
          </a:prstGeom>
          <a:ln w="0">
            <a:noFill/>
          </a:ln>
        </p:spPr>
      </p:pic>
      <p:cxnSp>
        <p:nvCxnSpPr>
          <p:cNvPr id="229" name=""/>
          <p:cNvCxnSpPr>
            <a:stCxn id="230" idx="3"/>
            <a:endCxn id="228" idx="0"/>
          </p:cNvCxnSpPr>
          <p:nvPr/>
        </p:nvCxnSpPr>
        <p:spPr>
          <a:xfrm>
            <a:off x="2939760" y="1824120"/>
            <a:ext cx="1980360" cy="1970640"/>
          </a:xfrm>
          <a:prstGeom prst="curvedConnector2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834160" y="5005440"/>
            <a:ext cx="106344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6621480" y="2867040"/>
            <a:ext cx="1763640" cy="1805040"/>
            <a:chOff x="6621480" y="2867040"/>
            <a:chExt cx="1763640" cy="1805040"/>
          </a:xfrm>
        </p:grpSpPr>
        <p:sp>
          <p:nvSpPr>
            <p:cNvPr id="233" name=""/>
            <p:cNvSpPr/>
            <p:nvPr/>
          </p:nvSpPr>
          <p:spPr>
            <a:xfrm>
              <a:off x="7419960" y="2867040"/>
              <a:ext cx="965160" cy="1805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02680" y="3248280"/>
              <a:ext cx="0" cy="772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75600" y="3248280"/>
              <a:ext cx="127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5600" y="3633840"/>
              <a:ext cx="1270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0" y="402120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1360" y="3441960"/>
              <a:ext cx="714240" cy="387360"/>
            </a:xfrm>
            <a:prstGeom prst="rect">
              <a:avLst/>
            </a:prstGeom>
            <a:solidFill>
              <a:srgbClr val="ff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HW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61360" y="3956040"/>
              <a:ext cx="714240" cy="389160"/>
            </a:xfrm>
            <a:prstGeom prst="rect">
              <a:avLst/>
            </a:prstGeom>
            <a:solidFill>
              <a:srgbClr val="ff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rebuchet MS"/>
                </a:rPr>
                <a:t>HW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61360" y="2924280"/>
              <a:ext cx="714240" cy="385920"/>
            </a:xfrm>
            <a:prstGeom prst="rect">
              <a:avLst/>
            </a:prstGeom>
            <a:solidFill>
              <a:srgbClr val="ff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HW1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1480" y="2867040"/>
              <a:ext cx="755640" cy="1805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34280" y="3117960"/>
              <a:ext cx="127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34280" y="3633840"/>
              <a:ext cx="12708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34280" y="4151520"/>
              <a:ext cx="12708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62880" y="2924280"/>
              <a:ext cx="671400" cy="385920"/>
            </a:xfrm>
            <a:prstGeom prst="rect">
              <a:avLst/>
            </a:prstGeom>
            <a:solidFill>
              <a:srgbClr val="ff99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PU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62880" y="3956040"/>
              <a:ext cx="671400" cy="389160"/>
            </a:xfrm>
            <a:prstGeom prst="rect">
              <a:avLst/>
            </a:prstGeom>
            <a:solidFill>
              <a:srgbClr val="ff99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I/O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2880" y="3441960"/>
              <a:ext cx="671400" cy="387360"/>
            </a:xfrm>
            <a:prstGeom prst="rect">
              <a:avLst/>
            </a:prstGeom>
            <a:solidFill>
              <a:srgbClr val="ff99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MA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28720" y="1585800"/>
            <a:ext cx="2111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Trebuchet MS"/>
              </a:rPr>
              <a:t>Top-level analysis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02320" y="1573200"/>
            <a:ext cx="236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Trebuchet MS"/>
              </a:rPr>
              <a:t>Sub-system analysis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8" idx="1"/>
            <a:endCxn id="228" idx="0"/>
          </p:cNvCxnSpPr>
          <p:nvPr/>
        </p:nvCxnSpPr>
        <p:spPr>
          <a:xfrm flipV="1" rot="10800000">
            <a:off x="4919040" y="1811160"/>
            <a:ext cx="1583280" cy="1983240"/>
          </a:xfrm>
          <a:prstGeom prst="curvedConnector2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3287880" y="3502080"/>
            <a:ext cx="211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Trebuchet MS"/>
              </a:rPr>
              <a:t>Analysis tools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480" y="203364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- Traffic modeling for IPs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- CA model for memory hierarch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19960" y="203508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Untimed TLM platfor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Timing budgets annotation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5920" y="418680"/>
            <a:ext cx="8939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Software development with virtual prototype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2600" y="2722680"/>
            <a:ext cx="4198680" cy="2995560"/>
          </a:xfrm>
          <a:prstGeom prst="rect">
            <a:avLst/>
          </a:prstGeom>
          <a:solidFill>
            <a:srgbClr val="ffffd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2320" y="2824200"/>
            <a:ext cx="1438200" cy="278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47040" y="3413160"/>
            <a:ext cx="1440" cy="1195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32240" y="5170320"/>
            <a:ext cx="16909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rebuchet MS"/>
              </a:rPr>
              <a:t>TLM platform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58040" y="3413160"/>
            <a:ext cx="1890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58040" y="4010040"/>
            <a:ext cx="1890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58040" y="4608360"/>
            <a:ext cx="18900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95560" y="3760920"/>
            <a:ext cx="803160" cy="5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Trebuchet MS"/>
              </a:rPr>
              <a:t>Link to debuggers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58040" y="3105000"/>
            <a:ext cx="1022400" cy="6480"/>
          </a:xfrm>
          <a:prstGeom prst="line">
            <a:avLst/>
          </a:prstGeom>
          <a:ln w="25560">
            <a:solidFill>
              <a:srgbClr val="5169d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58040" y="4910040"/>
            <a:ext cx="1022400" cy="1800"/>
          </a:xfrm>
          <a:prstGeom prst="line">
            <a:avLst/>
          </a:prstGeom>
          <a:ln w="25560">
            <a:solidFill>
              <a:srgbClr val="5169d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4240" y="3711600"/>
            <a:ext cx="1063800" cy="5983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ain CPU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4240" y="4508640"/>
            <a:ext cx="1063800" cy="59976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Video HW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4240" y="2913120"/>
            <a:ext cx="1063800" cy="59688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udio HW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monitor"/>
          <p:cNvSpPr/>
          <p:nvPr/>
        </p:nvSpPr>
        <p:spPr>
          <a:xfrm>
            <a:off x="7637400" y="4302000"/>
            <a:ext cx="625680" cy="998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Sound"/>
          <p:cNvSpPr/>
          <p:nvPr/>
        </p:nvSpPr>
        <p:spPr>
          <a:xfrm>
            <a:off x="7594560" y="2644920"/>
            <a:ext cx="625680" cy="9982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3240" y="2824200"/>
            <a:ext cx="1125720" cy="278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3240" y="5146560"/>
            <a:ext cx="1125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rebuchet MS"/>
              </a:rPr>
              <a:t>SoftWare</a:t>
            </a:r>
            <a:r>
              <a:rPr b="1" lang="en-US" sz="1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97280" y="538308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Trebuchet MS"/>
              </a:rPr>
              <a:t>PC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05240" y="3211560"/>
            <a:ext cx="1890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5240" y="4010040"/>
            <a:ext cx="1890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5240" y="4809960"/>
            <a:ext cx="1890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06960" y="2913120"/>
            <a:ext cx="998280" cy="596880"/>
          </a:xfrm>
          <a:prstGeom prst="rect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udio FW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6960" y="4508640"/>
            <a:ext cx="998280" cy="599760"/>
          </a:xfrm>
          <a:prstGeom prst="rect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Video FW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6960" y="3711600"/>
            <a:ext cx="998280" cy="598320"/>
          </a:xfrm>
          <a:prstGeom prst="rect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ain ESW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95600" y="3067200"/>
            <a:ext cx="711360" cy="2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483000" y="3066840"/>
            <a:ext cx="12600" cy="66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446640" y="4962600"/>
            <a:ext cx="760320" cy="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3680" y="4290840"/>
            <a:ext cx="12960" cy="67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797280" y="4009680"/>
            <a:ext cx="409680" cy="3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016000" y="4009680"/>
            <a:ext cx="938160" cy="3240"/>
          </a:xfrm>
          <a:prstGeom prst="line">
            <a:avLst/>
          </a:prstGeom>
          <a:ln w="25560">
            <a:solidFill>
              <a:srgbClr val="5169d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0" y="3510000"/>
            <a:ext cx="1800" cy="500040"/>
          </a:xfrm>
          <a:prstGeom prst="line">
            <a:avLst/>
          </a:prstGeom>
          <a:ln w="25560">
            <a:solidFill>
              <a:srgbClr val="5169d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93720" y="2313000"/>
            <a:ext cx="1278000" cy="153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7170840" y="2282760"/>
            <a:ext cx="162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rebuchet MS"/>
              </a:rPr>
              <a:t>PC Devices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55960" y="2270160"/>
            <a:ext cx="2111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Trebuchet MS"/>
              </a:rPr>
              <a:t>Virtual prototype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28880" y="1386000"/>
            <a:ext cx="211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Trebuchet MS"/>
              </a:rPr>
              <a:t>SW debuggers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909720" y="2085840"/>
            <a:ext cx="1278000" cy="153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209600" y="1785960"/>
            <a:ext cx="1278000" cy="153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opted when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really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hitting the wall of complexity and TT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ome feedback from product divis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duced</a:t>
            </a:r>
            <a:r>
              <a:rPr b="0" lang="en-US" sz="20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bugs left in silicon”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predict the performance with light-weight investment”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prefer to use virtual prototype vs. board for initial dev.”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What’s missing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Third-party IPs delivered with TLM view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Need TLM2.0 standard to enable inter-operatbility with external model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45:58Z</dcterms:created>
  <dc:creator>Frank GHENASSIA</dc:creator>
  <dc:description/>
  <dc:language>en-US</dc:language>
  <cp:lastModifiedBy>Frank GHENASSIA</cp:lastModifiedBy>
  <dcterms:modified xsi:type="dcterms:W3CDTF">2006-03-17T09:01:58Z</dcterms:modified>
  <cp:revision>1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139191</vt:r8>
  </property>
  <property fmtid="{D5CDD505-2E9C-101B-9397-08002B2CF9AE}" pid="3" name="_AuthorEmail">
    <vt:lpwstr>frank.ghenassia@st.com</vt:lpwstr>
  </property>
  <property fmtid="{D5CDD505-2E9C-101B-9397-08002B2CF9AE}" pid="4" name="_AuthorEmailDisplayName">
    <vt:lpwstr>frank ghenassia</vt:lpwstr>
  </property>
  <property fmtid="{D5CDD505-2E9C-101B-9397-08002B2CF9AE}" pid="5" name="_EmailSubject">
    <vt:lpwstr>Urgent: Presentation for OSCI Lunch Panel at DATE</vt:lpwstr>
  </property>
</Properties>
</file>